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12599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B4AC6-2A9C-4B1C-8296-4DE45631F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940120"/>
            <a:ext cx="91440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7282800"/>
            <a:ext cx="91440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624E-DBAD-4B27-88A2-40F7EC04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93B45-4ECB-4C30-9A1A-4E96F9477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94012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94012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94012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728280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728280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728280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17590-BF15-4775-A289-CBF2299DD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940120"/>
            <a:ext cx="9144000" cy="831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53557-7ABA-4004-B0C1-B75F5BB9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940120"/>
            <a:ext cx="91440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11F0-B07A-4550-A8E2-2543CBB8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4D8D5-0517-4A78-9BD2-07149264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DCDCC-D4AB-419A-A1A5-C7B966EB7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504720"/>
            <a:ext cx="9144000" cy="97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4719A-1912-4458-8B3D-5364C0F47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46D7-D043-4B2D-AE64-8E97E4AC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036D-6643-450F-BCF5-68542A4EC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7282800"/>
            <a:ext cx="91440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DF98-06E3-45FC-9164-A2956727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940120"/>
            <a:ext cx="9144000" cy="831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1675880"/>
            <a:ext cx="2370240" cy="671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1675880"/>
            <a:ext cx="3216240" cy="67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1675880"/>
            <a:ext cx="2370240" cy="671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263C-C353-4354-B228-79CABF46AF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304920" y="12600"/>
            <a:ext cx="990576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u="sng">
                <a:solidFill>
                  <a:srgbClr val="0000ff"/>
                </a:solidFill>
                <a:uFillTx/>
                <a:latin typeface="Comic Sans MS - 24"/>
              </a:rPr>
              <a:t>10.2 Variables and Expressions</a:t>
            </a:r>
            <a:endParaRPr b="0" lang="en-US" sz="4900" spc="-1" strike="noStrike">
              <a:solidFill>
                <a:srgbClr val="000000"/>
              </a:solidFill>
              <a:latin typeface="Calibri"/>
            </a:endParaRPr>
          </a:p>
        </p:txBody>
      </p:sp>
      <p:sp>
        <p:nvSpPr>
          <p:cNvPr id="42" name="TextBox 2"/>
          <p:cNvSpPr/>
          <p:nvPr/>
        </p:nvSpPr>
        <p:spPr>
          <a:xfrm>
            <a:off x="343080" y="1181160"/>
            <a:ext cx="929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 24"/>
              </a:rPr>
              <a:t>Variable</a:t>
            </a:r>
            <a:r>
              <a:rPr b="0" lang="en-US" sz="2400" spc="-1" strike="noStrike">
                <a:solidFill>
                  <a:srgbClr val="0000ff"/>
                </a:solidFill>
                <a:latin typeface="Comic Sans MS - 24"/>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 letter that represents an unknown numb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for example, </a:t>
            </a:r>
            <a:r>
              <a:rPr b="0" i="1" lang="en-US" sz="2400" spc="-1" strike="noStrike">
                <a:solidFill>
                  <a:srgbClr val="0000ff"/>
                </a:solidFill>
                <a:latin typeface="Comic Sans MS - 24"/>
              </a:rPr>
              <a:t>x, A, 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 24"/>
              </a:rPr>
              <a:t>Ex</a:t>
            </a:r>
            <a:r>
              <a:rPr b="0" lang="en-US" sz="2400" spc="-1" strike="noStrike" u="sng">
                <a:solidFill>
                  <a:srgbClr val="0000ff"/>
                </a:solidFill>
                <a:uFillTx/>
                <a:latin typeface="Comic Sans MS - 24"/>
              </a:rPr>
              <a:t>pression</a:t>
            </a:r>
            <a:r>
              <a:rPr b="0" lang="en-US" sz="2400" spc="-1" strike="noStrike">
                <a:solidFill>
                  <a:srgbClr val="0000ff"/>
                </a:solidFill>
                <a:latin typeface="Comic Sans MS - 24"/>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ny single number or variable, or a combination of oper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 -, x, /) involving numbers and variab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for example, 5, </a:t>
            </a:r>
            <a:r>
              <a:rPr b="0" i="1" lang="en-US" sz="2400" spc="-1" strike="noStrike">
                <a:solidFill>
                  <a:srgbClr val="0000ff"/>
                </a:solidFill>
                <a:latin typeface="Comic Sans MS - 24"/>
              </a:rPr>
              <a:t>r</a:t>
            </a:r>
            <a:r>
              <a:rPr b="0" lang="en-US" sz="2400" spc="-1" strike="noStrike">
                <a:solidFill>
                  <a:srgbClr val="0000ff"/>
                </a:solidFill>
                <a:latin typeface="Comic Sans MS - 24"/>
              </a:rPr>
              <a:t>, 8</a:t>
            </a:r>
            <a:r>
              <a:rPr b="0" i="1" lang="en-US" sz="2400" spc="-1" strike="noStrike">
                <a:solidFill>
                  <a:srgbClr val="0000ff"/>
                </a:solidFill>
                <a:latin typeface="Comic Sans MS - 24"/>
              </a:rPr>
              <a:t>t</a:t>
            </a: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9, 2</a:t>
            </a:r>
            <a:r>
              <a:rPr b="0" i="1" lang="en-US" sz="2400" spc="-1" strike="noStrike">
                <a:solidFill>
                  <a:srgbClr val="0000ff"/>
                </a:solidFill>
                <a:latin typeface="Comic Sans MS - 24"/>
              </a:rPr>
              <a:t>y</a:t>
            </a:r>
            <a:r>
              <a:rPr b="0" lang="en-US" sz="2400" spc="-1" strike="noStrike">
                <a:solidFill>
                  <a:srgbClr val="0000ff"/>
                </a:solidFill>
                <a:latin typeface="Comic Sans MS - 24"/>
              </a:rPr>
              <a:t> - 7</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Li</a:t>
            </a:r>
            <a:r>
              <a:rPr b="0" lang="en-US" sz="2400" spc="-1" strike="noStrike" u="sng">
                <a:solidFill>
                  <a:srgbClr val="0000ff"/>
                </a:solidFill>
                <a:uFillTx/>
                <a:latin typeface="Comic Sans MS - 24"/>
              </a:rPr>
              <a:t>teracy Link</a:t>
            </a:r>
            <a:r>
              <a:rPr b="0" lang="en-US" sz="2400" spc="-1" strike="noStrike">
                <a:solidFill>
                  <a:srgbClr val="0000ff"/>
                </a:solidFill>
                <a:latin typeface="Comic Sans MS - 24"/>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In algebra, 5 x r is written as </a:t>
            </a:r>
            <a:r>
              <a:rPr b="0" i="1" lang="en-US" sz="2400" spc="-1" strike="noStrike">
                <a:solidFill>
                  <a:srgbClr val="0000ff"/>
                </a:solidFill>
                <a:latin typeface="Comic Sans MS - 24"/>
              </a:rPr>
              <a:t>5r</a:t>
            </a:r>
            <a:r>
              <a:rPr b="0" lang="en-CA" sz="2400" spc="-1" strike="noStrike">
                <a:solidFill>
                  <a:srgbClr val="0000ff"/>
                </a:solidFill>
                <a:latin typeface="Comic Sans MS - 24"/>
              </a:rPr>
              <a:t>.  Why do you think that i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It is read as "</a:t>
            </a:r>
            <a:r>
              <a:rPr b="0" i="1" lang="en-US" sz="2400" spc="-1" strike="noStrike">
                <a:solidFill>
                  <a:srgbClr val="0000ff"/>
                </a:solidFill>
                <a:latin typeface="Comic Sans MS - 24"/>
              </a:rPr>
              <a:t>five r</a:t>
            </a: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Box 1"/>
          <p:cNvSpPr/>
          <p:nvPr/>
        </p:nvSpPr>
        <p:spPr>
          <a:xfrm>
            <a:off x="304920" y="12600"/>
            <a:ext cx="83818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u="sng">
                <a:solidFill>
                  <a:srgbClr val="0000ff"/>
                </a:solidFill>
                <a:uFillTx/>
                <a:latin typeface="Comic Sans MS - 24"/>
              </a:rPr>
              <a:t>10.3 Evaluate Expressions</a:t>
            </a:r>
            <a:endParaRPr b="0" lang="en-US" sz="4900" spc="-1" strike="noStrike">
              <a:solidFill>
                <a:srgbClr val="000000"/>
              </a:solidFill>
              <a:latin typeface="Calibri"/>
            </a:endParaRPr>
          </a:p>
        </p:txBody>
      </p:sp>
      <p:sp>
        <p:nvSpPr>
          <p:cNvPr id="405" name="TextBox 2"/>
          <p:cNvSpPr/>
          <p:nvPr/>
        </p:nvSpPr>
        <p:spPr>
          <a:xfrm>
            <a:off x="317520" y="1130400"/>
            <a:ext cx="955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Sam is modelling an expression.  What do the cups represent?  What do the counters represent?</a:t>
            </a:r>
            <a:endParaRPr b="0" lang="en-US" sz="2400" spc="-1" strike="noStrike">
              <a:solidFill>
                <a:srgbClr val="000000"/>
              </a:solidFill>
              <a:latin typeface="Calibri"/>
            </a:endParaRPr>
          </a:p>
        </p:txBody>
      </p:sp>
      <p:grpSp>
        <p:nvGrpSpPr>
          <p:cNvPr id="406" name="Group 17"/>
          <p:cNvGrpSpPr/>
          <p:nvPr/>
        </p:nvGrpSpPr>
        <p:grpSpPr>
          <a:xfrm>
            <a:off x="598320" y="2376360"/>
            <a:ext cx="1097280" cy="1344600"/>
            <a:chOff x="598320" y="2376360"/>
            <a:chExt cx="1097280" cy="1344600"/>
          </a:xfrm>
        </p:grpSpPr>
        <p:sp>
          <p:nvSpPr>
            <p:cNvPr id="407" name="Freeform 3"/>
            <p:cNvSpPr/>
            <p:nvPr/>
          </p:nvSpPr>
          <p:spPr>
            <a:xfrm>
              <a:off x="598320" y="2479320"/>
              <a:ext cx="809640" cy="1241640"/>
            </a:xfrm>
            <a:custGeom>
              <a:avLst/>
              <a:gdLst>
                <a:gd name="textAreaLeft" fmla="*/ 0 w 809640"/>
                <a:gd name="textAreaRight" fmla="*/ 810000 w 809640"/>
                <a:gd name="textAreaTop" fmla="*/ 0 h 1241640"/>
                <a:gd name="textAreaBottom" fmla="*/ 1242000 h 1241640"/>
              </a:gdLst>
              <a:ahLst/>
              <a:rect l="textAreaLeft" t="textAreaTop" r="textAreaRight" b="textAreaBottom"/>
              <a:pathLst>
                <a:path w="809246" h="1242060">
                  <a:moveTo>
                    <a:pt x="809245" y="0"/>
                  </a:moveTo>
                  <a:lnTo>
                    <a:pt x="809245" y="1093851"/>
                  </a:lnTo>
                  <a:lnTo>
                    <a:pt x="808356" y="1105534"/>
                  </a:lnTo>
                  <a:lnTo>
                    <a:pt x="807594" y="1110741"/>
                  </a:lnTo>
                  <a:lnTo>
                    <a:pt x="805942" y="1116329"/>
                  </a:lnTo>
                  <a:lnTo>
                    <a:pt x="802640" y="1122171"/>
                  </a:lnTo>
                  <a:lnTo>
                    <a:pt x="798323" y="1128903"/>
                  </a:lnTo>
                  <a:lnTo>
                    <a:pt x="791973" y="1136396"/>
                  </a:lnTo>
                  <a:lnTo>
                    <a:pt x="783845" y="1145540"/>
                  </a:lnTo>
                  <a:lnTo>
                    <a:pt x="770764" y="1157223"/>
                  </a:lnTo>
                  <a:lnTo>
                    <a:pt x="755397" y="1168019"/>
                  </a:lnTo>
                  <a:lnTo>
                    <a:pt x="738251" y="1178052"/>
                  </a:lnTo>
                  <a:lnTo>
                    <a:pt x="719075" y="1187830"/>
                  </a:lnTo>
                  <a:lnTo>
                    <a:pt x="697865" y="1196466"/>
                  </a:lnTo>
                  <a:lnTo>
                    <a:pt x="675767" y="1204214"/>
                  </a:lnTo>
                  <a:lnTo>
                    <a:pt x="651384" y="1211453"/>
                  </a:lnTo>
                  <a:lnTo>
                    <a:pt x="625984" y="1217803"/>
                  </a:lnTo>
                  <a:lnTo>
                    <a:pt x="599567" y="1223390"/>
                  </a:lnTo>
                  <a:lnTo>
                    <a:pt x="572262" y="1228471"/>
                  </a:lnTo>
                  <a:lnTo>
                    <a:pt x="543814" y="1232534"/>
                  </a:lnTo>
                  <a:lnTo>
                    <a:pt x="514859" y="1235964"/>
                  </a:lnTo>
                  <a:lnTo>
                    <a:pt x="485395" y="1238377"/>
                  </a:lnTo>
                  <a:lnTo>
                    <a:pt x="455423" y="1240282"/>
                  </a:lnTo>
                  <a:lnTo>
                    <a:pt x="395098" y="1242059"/>
                  </a:lnTo>
                  <a:lnTo>
                    <a:pt x="335026" y="1240282"/>
                  </a:lnTo>
                  <a:lnTo>
                    <a:pt x="305436" y="1238377"/>
                  </a:lnTo>
                  <a:lnTo>
                    <a:pt x="276606" y="1235964"/>
                  </a:lnTo>
                  <a:lnTo>
                    <a:pt x="248159" y="1232534"/>
                  </a:lnTo>
                  <a:lnTo>
                    <a:pt x="220600" y="1228471"/>
                  </a:lnTo>
                  <a:lnTo>
                    <a:pt x="194056" y="1223390"/>
                  </a:lnTo>
                  <a:lnTo>
                    <a:pt x="168784" y="1217803"/>
                  </a:lnTo>
                  <a:lnTo>
                    <a:pt x="144653" y="1211453"/>
                  </a:lnTo>
                  <a:lnTo>
                    <a:pt x="122048" y="1204214"/>
                  </a:lnTo>
                  <a:lnTo>
                    <a:pt x="101092" y="1196466"/>
                  </a:lnTo>
                  <a:lnTo>
                    <a:pt x="81916" y="1187830"/>
                  </a:lnTo>
                  <a:lnTo>
                    <a:pt x="64771" y="1178052"/>
                  </a:lnTo>
                  <a:lnTo>
                    <a:pt x="49149" y="1168019"/>
                  </a:lnTo>
                  <a:lnTo>
                    <a:pt x="36068" y="1157223"/>
                  </a:lnTo>
                  <a:lnTo>
                    <a:pt x="25400" y="1145540"/>
                  </a:lnTo>
                  <a:lnTo>
                    <a:pt x="21082" y="1140840"/>
                  </a:lnTo>
                  <a:lnTo>
                    <a:pt x="17273" y="1136903"/>
                  </a:lnTo>
                  <a:lnTo>
                    <a:pt x="10668" y="1130172"/>
                  </a:lnTo>
                  <a:lnTo>
                    <a:pt x="6350" y="1124711"/>
                  </a:lnTo>
                  <a:lnTo>
                    <a:pt x="3303" y="1119759"/>
                  </a:lnTo>
                  <a:lnTo>
                    <a:pt x="1652"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8" name="Freeform 4"/>
            <p:cNvSpPr/>
            <p:nvPr/>
          </p:nvSpPr>
          <p:spPr>
            <a:xfrm>
              <a:off x="599040" y="2479680"/>
              <a:ext cx="809280" cy="1240560"/>
            </a:xfrm>
            <a:custGeom>
              <a:avLst/>
              <a:gdLst>
                <a:gd name="textAreaLeft" fmla="*/ 0 w 809280"/>
                <a:gd name="textAreaRight" fmla="*/ 809640 w 80928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29" y="1196340"/>
                  </a:lnTo>
                  <a:lnTo>
                    <a:pt x="120650" y="1203960"/>
                  </a:lnTo>
                  <a:lnTo>
                    <a:pt x="143510" y="1211580"/>
                  </a:lnTo>
                  <a:lnTo>
                    <a:pt x="167640" y="1217930"/>
                  </a:lnTo>
                  <a:lnTo>
                    <a:pt x="193040" y="1221740"/>
                  </a:lnTo>
                  <a:lnTo>
                    <a:pt x="219710" y="1228090"/>
                  </a:lnTo>
                  <a:lnTo>
                    <a:pt x="247649" y="1231899"/>
                  </a:lnTo>
                  <a:lnTo>
                    <a:pt x="275590" y="1235710"/>
                  </a:lnTo>
                  <a:lnTo>
                    <a:pt x="304799" y="1238249"/>
                  </a:lnTo>
                  <a:lnTo>
                    <a:pt x="334010" y="1239519"/>
                  </a:lnTo>
                  <a:lnTo>
                    <a:pt x="394970" y="1240790"/>
                  </a:lnTo>
                  <a:lnTo>
                    <a:pt x="454660" y="1239519"/>
                  </a:lnTo>
                  <a:lnTo>
                    <a:pt x="485140" y="1238249"/>
                  </a:lnTo>
                  <a:lnTo>
                    <a:pt x="514349" y="1235710"/>
                  </a:lnTo>
                  <a:lnTo>
                    <a:pt x="542290" y="1231899"/>
                  </a:lnTo>
                  <a:lnTo>
                    <a:pt x="571499" y="1228090"/>
                  </a:lnTo>
                  <a:lnTo>
                    <a:pt x="599440" y="1221740"/>
                  </a:lnTo>
                  <a:lnTo>
                    <a:pt x="626110" y="1217930"/>
                  </a:lnTo>
                  <a:lnTo>
                    <a:pt x="651510" y="1211580"/>
                  </a:lnTo>
                  <a:lnTo>
                    <a:pt x="674370" y="1203960"/>
                  </a:lnTo>
                  <a:lnTo>
                    <a:pt x="697229" y="1196340"/>
                  </a:lnTo>
                  <a:lnTo>
                    <a:pt x="718820" y="1187449"/>
                  </a:lnTo>
                  <a:lnTo>
                    <a:pt x="737870" y="1178560"/>
                  </a:lnTo>
                  <a:lnTo>
                    <a:pt x="755649" y="1167130"/>
                  </a:lnTo>
                  <a:lnTo>
                    <a:pt x="770890" y="1155699"/>
                  </a:lnTo>
                  <a:lnTo>
                    <a:pt x="783590" y="1145540"/>
                  </a:lnTo>
                  <a:lnTo>
                    <a:pt x="792479" y="1136649"/>
                  </a:lnTo>
                  <a:lnTo>
                    <a:pt x="797560" y="1129030"/>
                  </a:lnTo>
                  <a:lnTo>
                    <a:pt x="802640" y="1122680"/>
                  </a:lnTo>
                  <a:lnTo>
                    <a:pt x="805179" y="1115060"/>
                  </a:lnTo>
                  <a:lnTo>
                    <a:pt x="806449" y="1109980"/>
                  </a:lnTo>
                  <a:lnTo>
                    <a:pt x="807720"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Freeform 5"/>
            <p:cNvSpPr/>
            <p:nvPr/>
          </p:nvSpPr>
          <p:spPr>
            <a:xfrm>
              <a:off x="598320" y="2376360"/>
              <a:ext cx="809640" cy="205920"/>
            </a:xfrm>
            <a:custGeom>
              <a:avLst/>
              <a:gdLst>
                <a:gd name="textAreaLeft" fmla="*/ 0 w 809640"/>
                <a:gd name="textAreaRight" fmla="*/ 810000 w 809640"/>
                <a:gd name="textAreaTop" fmla="*/ 0 h 205920"/>
                <a:gd name="textAreaBottom" fmla="*/ 206280 h 205920"/>
              </a:gdLst>
              <a:ahLst/>
              <a:rect l="textAreaLeft" t="textAreaTop" r="textAreaRight" b="textAreaBottom"/>
              <a:pathLst>
                <a:path w="809246" h="206122">
                  <a:moveTo>
                    <a:pt x="659892" y="183008"/>
                  </a:moveTo>
                  <a:lnTo>
                    <a:pt x="627381" y="189103"/>
                  </a:lnTo>
                  <a:lnTo>
                    <a:pt x="592709" y="194183"/>
                  </a:lnTo>
                  <a:lnTo>
                    <a:pt x="556895" y="198248"/>
                  </a:lnTo>
                  <a:lnTo>
                    <a:pt x="519811" y="201677"/>
                  </a:lnTo>
                  <a:lnTo>
                    <a:pt x="481839" y="204217"/>
                  </a:lnTo>
                  <a:lnTo>
                    <a:pt x="443358" y="205487"/>
                  </a:lnTo>
                  <a:lnTo>
                    <a:pt x="404623" y="206121"/>
                  </a:lnTo>
                  <a:lnTo>
                    <a:pt x="365887" y="205487"/>
                  </a:lnTo>
                  <a:lnTo>
                    <a:pt x="327406" y="204217"/>
                  </a:lnTo>
                  <a:lnTo>
                    <a:pt x="289434" y="201677"/>
                  </a:lnTo>
                  <a:lnTo>
                    <a:pt x="252603" y="198248"/>
                  </a:lnTo>
                  <a:lnTo>
                    <a:pt x="216536" y="194183"/>
                  </a:lnTo>
                  <a:lnTo>
                    <a:pt x="182118" y="189103"/>
                  </a:lnTo>
                  <a:lnTo>
                    <a:pt x="149353" y="183008"/>
                  </a:lnTo>
                  <a:lnTo>
                    <a:pt x="118746" y="175768"/>
                  </a:lnTo>
                  <a:lnTo>
                    <a:pt x="104267" y="171831"/>
                  </a:lnTo>
                  <a:lnTo>
                    <a:pt x="90932" y="168021"/>
                  </a:lnTo>
                  <a:lnTo>
                    <a:pt x="78360" y="164084"/>
                  </a:lnTo>
                  <a:lnTo>
                    <a:pt x="66929" y="159640"/>
                  </a:lnTo>
                  <a:lnTo>
                    <a:pt x="56261" y="155449"/>
                  </a:lnTo>
                  <a:lnTo>
                    <a:pt x="46482" y="150749"/>
                  </a:lnTo>
                  <a:lnTo>
                    <a:pt x="29846" y="141605"/>
                  </a:lnTo>
                  <a:lnTo>
                    <a:pt x="17018" y="132334"/>
                  </a:lnTo>
                  <a:lnTo>
                    <a:pt x="7748" y="122683"/>
                  </a:lnTo>
                  <a:lnTo>
                    <a:pt x="2032" y="112903"/>
                  </a:lnTo>
                  <a:lnTo>
                    <a:pt x="0" y="103252"/>
                  </a:lnTo>
                  <a:lnTo>
                    <a:pt x="2032" y="93218"/>
                  </a:lnTo>
                  <a:lnTo>
                    <a:pt x="7748" y="83186"/>
                  </a:lnTo>
                  <a:lnTo>
                    <a:pt x="17018" y="73787"/>
                  </a:lnTo>
                  <a:lnTo>
                    <a:pt x="29846" y="64262"/>
                  </a:lnTo>
                  <a:lnTo>
                    <a:pt x="46482" y="55118"/>
                  </a:lnTo>
                  <a:lnTo>
                    <a:pt x="56261" y="50674"/>
                  </a:lnTo>
                  <a:lnTo>
                    <a:pt x="66929" y="46483"/>
                  </a:lnTo>
                  <a:lnTo>
                    <a:pt x="78360" y="42292"/>
                  </a:lnTo>
                  <a:lnTo>
                    <a:pt x="90932" y="38100"/>
                  </a:lnTo>
                  <a:lnTo>
                    <a:pt x="104267" y="34037"/>
                  </a:lnTo>
                  <a:lnTo>
                    <a:pt x="118746" y="30099"/>
                  </a:lnTo>
                  <a:lnTo>
                    <a:pt x="149353" y="23115"/>
                  </a:lnTo>
                  <a:lnTo>
                    <a:pt x="182118" y="17018"/>
                  </a:lnTo>
                  <a:lnTo>
                    <a:pt x="216536" y="12065"/>
                  </a:lnTo>
                  <a:lnTo>
                    <a:pt x="252603" y="7621"/>
                  </a:lnTo>
                  <a:lnTo>
                    <a:pt x="289434" y="4192"/>
                  </a:lnTo>
                  <a:lnTo>
                    <a:pt x="327406" y="2033"/>
                  </a:lnTo>
                  <a:lnTo>
                    <a:pt x="365887" y="636"/>
                  </a:lnTo>
                  <a:lnTo>
                    <a:pt x="404623" y="0"/>
                  </a:lnTo>
                  <a:lnTo>
                    <a:pt x="443358" y="636"/>
                  </a:lnTo>
                  <a:lnTo>
                    <a:pt x="481839" y="2033"/>
                  </a:lnTo>
                  <a:lnTo>
                    <a:pt x="519811" y="4192"/>
                  </a:lnTo>
                  <a:lnTo>
                    <a:pt x="556895" y="7621"/>
                  </a:lnTo>
                  <a:lnTo>
                    <a:pt x="592709" y="12065"/>
                  </a:lnTo>
                  <a:lnTo>
                    <a:pt x="627381" y="17018"/>
                  </a:lnTo>
                  <a:lnTo>
                    <a:pt x="659892" y="23115"/>
                  </a:lnTo>
                  <a:lnTo>
                    <a:pt x="690500" y="30099"/>
                  </a:lnTo>
                  <a:lnTo>
                    <a:pt x="705231" y="34037"/>
                  </a:lnTo>
                  <a:lnTo>
                    <a:pt x="718312" y="38100"/>
                  </a:lnTo>
                  <a:lnTo>
                    <a:pt x="730886" y="42292"/>
                  </a:lnTo>
                  <a:lnTo>
                    <a:pt x="742570" y="46483"/>
                  </a:lnTo>
                  <a:lnTo>
                    <a:pt x="752984" y="50674"/>
                  </a:lnTo>
                  <a:lnTo>
                    <a:pt x="762762" y="55118"/>
                  </a:lnTo>
                  <a:lnTo>
                    <a:pt x="779400" y="64262"/>
                  </a:lnTo>
                  <a:lnTo>
                    <a:pt x="792481" y="73787"/>
                  </a:lnTo>
                  <a:lnTo>
                    <a:pt x="801878" y="83186"/>
                  </a:lnTo>
                  <a:lnTo>
                    <a:pt x="807212" y="93218"/>
                  </a:lnTo>
                  <a:lnTo>
                    <a:pt x="809245" y="103252"/>
                  </a:lnTo>
                  <a:lnTo>
                    <a:pt x="807212" y="112903"/>
                  </a:lnTo>
                  <a:lnTo>
                    <a:pt x="801878" y="122683"/>
                  </a:lnTo>
                  <a:lnTo>
                    <a:pt x="792481" y="132334"/>
                  </a:lnTo>
                  <a:lnTo>
                    <a:pt x="779400" y="141605"/>
                  </a:lnTo>
                  <a:lnTo>
                    <a:pt x="762762" y="150749"/>
                  </a:lnTo>
                  <a:lnTo>
                    <a:pt x="752984" y="155449"/>
                  </a:lnTo>
                  <a:lnTo>
                    <a:pt x="742570" y="159640"/>
                  </a:lnTo>
                  <a:lnTo>
                    <a:pt x="730886" y="164084"/>
                  </a:lnTo>
                  <a:lnTo>
                    <a:pt x="718312" y="168021"/>
                  </a:lnTo>
                  <a:lnTo>
                    <a:pt x="705231" y="171831"/>
                  </a:lnTo>
                  <a:lnTo>
                    <a:pt x="690500"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Freeform 6"/>
            <p:cNvSpPr/>
            <p:nvPr/>
          </p:nvSpPr>
          <p:spPr>
            <a:xfrm>
              <a:off x="599040" y="2377080"/>
              <a:ext cx="809280" cy="205560"/>
            </a:xfrm>
            <a:custGeom>
              <a:avLst/>
              <a:gdLst>
                <a:gd name="textAreaLeft" fmla="*/ 0 w 809280"/>
                <a:gd name="textAreaRight" fmla="*/ 809640 w 809280"/>
                <a:gd name="textAreaTop" fmla="*/ 0 h 205560"/>
                <a:gd name="textAreaBottom" fmla="*/ 205920 h 205560"/>
              </a:gdLst>
              <a:ahLst/>
              <a:rect l="textAreaLeft" t="textAreaTop" r="textAreaRight" b="textAreaBottom"/>
              <a:pathLst>
                <a:path w="808991" h="205741">
                  <a:moveTo>
                    <a:pt x="689610" y="175261"/>
                  </a:moveTo>
                  <a:lnTo>
                    <a:pt x="704849" y="171450"/>
                  </a:lnTo>
                  <a:lnTo>
                    <a:pt x="716279" y="167640"/>
                  </a:lnTo>
                  <a:lnTo>
                    <a:pt x="730249" y="163831"/>
                  </a:lnTo>
                  <a:lnTo>
                    <a:pt x="741679" y="158750"/>
                  </a:lnTo>
                  <a:lnTo>
                    <a:pt x="751840" y="154940"/>
                  </a:lnTo>
                  <a:lnTo>
                    <a:pt x="761999" y="149861"/>
                  </a:lnTo>
                  <a:lnTo>
                    <a:pt x="778510" y="139700"/>
                  </a:lnTo>
                  <a:lnTo>
                    <a:pt x="792479" y="132081"/>
                  </a:lnTo>
                  <a:lnTo>
                    <a:pt x="801370" y="121921"/>
                  </a:lnTo>
                  <a:lnTo>
                    <a:pt x="806449" y="111761"/>
                  </a:lnTo>
                  <a:lnTo>
                    <a:pt x="808990" y="102871"/>
                  </a:lnTo>
                  <a:lnTo>
                    <a:pt x="806449" y="92711"/>
                  </a:lnTo>
                  <a:lnTo>
                    <a:pt x="801370" y="82550"/>
                  </a:lnTo>
                  <a:lnTo>
                    <a:pt x="792479" y="73661"/>
                  </a:lnTo>
                  <a:lnTo>
                    <a:pt x="778510" y="63500"/>
                  </a:lnTo>
                  <a:lnTo>
                    <a:pt x="761999" y="54611"/>
                  </a:lnTo>
                  <a:lnTo>
                    <a:pt x="751840" y="49531"/>
                  </a:lnTo>
                  <a:lnTo>
                    <a:pt x="741679" y="45721"/>
                  </a:lnTo>
                  <a:lnTo>
                    <a:pt x="730249" y="41911"/>
                  </a:lnTo>
                  <a:lnTo>
                    <a:pt x="716279" y="36831"/>
                  </a:lnTo>
                  <a:lnTo>
                    <a:pt x="704849"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899" y="10161"/>
                  </a:lnTo>
                  <a:lnTo>
                    <a:pt x="181610" y="16511"/>
                  </a:lnTo>
                  <a:lnTo>
                    <a:pt x="148590" y="22861"/>
                  </a:lnTo>
                  <a:lnTo>
                    <a:pt x="116840" y="29211"/>
                  </a:lnTo>
                  <a:lnTo>
                    <a:pt x="102869" y="33021"/>
                  </a:lnTo>
                  <a:lnTo>
                    <a:pt x="90169" y="36831"/>
                  </a:lnTo>
                  <a:lnTo>
                    <a:pt x="77469" y="41911"/>
                  </a:lnTo>
                  <a:lnTo>
                    <a:pt x="66040"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40" y="158750"/>
                  </a:lnTo>
                  <a:lnTo>
                    <a:pt x="77469" y="163831"/>
                  </a:lnTo>
                  <a:lnTo>
                    <a:pt x="90169" y="167640"/>
                  </a:lnTo>
                  <a:lnTo>
                    <a:pt x="102869" y="171450"/>
                  </a:lnTo>
                  <a:lnTo>
                    <a:pt x="116840" y="175261"/>
                  </a:lnTo>
                  <a:lnTo>
                    <a:pt x="148590" y="181611"/>
                  </a:lnTo>
                  <a:lnTo>
                    <a:pt x="181610" y="187961"/>
                  </a:lnTo>
                  <a:lnTo>
                    <a:pt x="215899"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1" name="Freeform 7"/>
            <p:cNvSpPr/>
            <p:nvPr/>
          </p:nvSpPr>
          <p:spPr>
            <a:xfrm>
              <a:off x="626400" y="2550240"/>
              <a:ext cx="755640" cy="1127160"/>
            </a:xfrm>
            <a:custGeom>
              <a:avLst/>
              <a:gdLst>
                <a:gd name="textAreaLeft" fmla="*/ 0 w 755640"/>
                <a:gd name="textAreaRight" fmla="*/ 756000 w 755640"/>
                <a:gd name="textAreaTop" fmla="*/ 0 h 1127160"/>
                <a:gd name="textAreaBottom" fmla="*/ 1127520 h 1127160"/>
              </a:gdLst>
              <a:ahLst/>
              <a:rect l="textAreaLeft" t="textAreaTop" r="textAreaRight" b="textAreaBottom"/>
              <a:pathLst>
                <a:path w="755270" h="1127507">
                  <a:moveTo>
                    <a:pt x="26797" y="11303"/>
                  </a:moveTo>
                  <a:lnTo>
                    <a:pt x="45975" y="17525"/>
                  </a:lnTo>
                  <a:lnTo>
                    <a:pt x="65914" y="23368"/>
                  </a:lnTo>
                  <a:lnTo>
                    <a:pt x="87122" y="28828"/>
                  </a:lnTo>
                  <a:lnTo>
                    <a:pt x="109601" y="34162"/>
                  </a:lnTo>
                  <a:lnTo>
                    <a:pt x="132715" y="38607"/>
                  </a:lnTo>
                  <a:lnTo>
                    <a:pt x="157100" y="42799"/>
                  </a:lnTo>
                  <a:lnTo>
                    <a:pt x="181992" y="46609"/>
                  </a:lnTo>
                  <a:lnTo>
                    <a:pt x="207519" y="50037"/>
                  </a:lnTo>
                  <a:lnTo>
                    <a:pt x="233808" y="52578"/>
                  </a:lnTo>
                  <a:lnTo>
                    <a:pt x="287528" y="57277"/>
                  </a:lnTo>
                  <a:lnTo>
                    <a:pt x="342392" y="60071"/>
                  </a:lnTo>
                  <a:lnTo>
                    <a:pt x="397383" y="60832"/>
                  </a:lnTo>
                  <a:lnTo>
                    <a:pt x="452120" y="60071"/>
                  </a:lnTo>
                  <a:lnTo>
                    <a:pt x="505333" y="57022"/>
                  </a:lnTo>
                  <a:lnTo>
                    <a:pt x="531369" y="55118"/>
                  </a:lnTo>
                  <a:lnTo>
                    <a:pt x="556769" y="52578"/>
                  </a:lnTo>
                  <a:lnTo>
                    <a:pt x="581280" y="49403"/>
                  </a:lnTo>
                  <a:lnTo>
                    <a:pt x="605409" y="45847"/>
                  </a:lnTo>
                  <a:lnTo>
                    <a:pt x="628269" y="41909"/>
                  </a:lnTo>
                  <a:lnTo>
                    <a:pt x="650114" y="37591"/>
                  </a:lnTo>
                  <a:lnTo>
                    <a:pt x="670814" y="32512"/>
                  </a:lnTo>
                  <a:lnTo>
                    <a:pt x="690500" y="26924"/>
                  </a:lnTo>
                  <a:lnTo>
                    <a:pt x="708788" y="21209"/>
                  </a:lnTo>
                  <a:lnTo>
                    <a:pt x="725678" y="14731"/>
                  </a:lnTo>
                  <a:lnTo>
                    <a:pt x="741300" y="7493"/>
                  </a:lnTo>
                  <a:lnTo>
                    <a:pt x="755269" y="0"/>
                  </a:lnTo>
                  <a:lnTo>
                    <a:pt x="755269" y="1016126"/>
                  </a:lnTo>
                  <a:lnTo>
                    <a:pt x="737108" y="1030732"/>
                  </a:lnTo>
                  <a:lnTo>
                    <a:pt x="717805" y="1044447"/>
                  </a:lnTo>
                  <a:lnTo>
                    <a:pt x="697358" y="1057147"/>
                  </a:lnTo>
                  <a:lnTo>
                    <a:pt x="675767" y="1068577"/>
                  </a:lnTo>
                  <a:lnTo>
                    <a:pt x="653416" y="1078864"/>
                  </a:lnTo>
                  <a:lnTo>
                    <a:pt x="629920" y="1088263"/>
                  </a:lnTo>
                  <a:lnTo>
                    <a:pt x="605409" y="1096645"/>
                  </a:lnTo>
                  <a:lnTo>
                    <a:pt x="580517" y="1103630"/>
                  </a:lnTo>
                  <a:lnTo>
                    <a:pt x="554609" y="1109980"/>
                  </a:lnTo>
                  <a:lnTo>
                    <a:pt x="528320" y="1115059"/>
                  </a:lnTo>
                  <a:lnTo>
                    <a:pt x="501523" y="1119505"/>
                  </a:lnTo>
                  <a:lnTo>
                    <a:pt x="474345" y="1122807"/>
                  </a:lnTo>
                  <a:lnTo>
                    <a:pt x="447041" y="1125346"/>
                  </a:lnTo>
                  <a:lnTo>
                    <a:pt x="419481" y="1126744"/>
                  </a:lnTo>
                  <a:lnTo>
                    <a:pt x="364236" y="1127506"/>
                  </a:lnTo>
                  <a:lnTo>
                    <a:pt x="309372" y="1124965"/>
                  </a:lnTo>
                  <a:lnTo>
                    <a:pt x="282448" y="1122171"/>
                  </a:lnTo>
                  <a:lnTo>
                    <a:pt x="255652" y="1119251"/>
                  </a:lnTo>
                  <a:lnTo>
                    <a:pt x="229363" y="1115059"/>
                  </a:lnTo>
                  <a:lnTo>
                    <a:pt x="204089" y="1110233"/>
                  </a:lnTo>
                  <a:lnTo>
                    <a:pt x="178943" y="1105026"/>
                  </a:lnTo>
                  <a:lnTo>
                    <a:pt x="154814" y="1098931"/>
                  </a:lnTo>
                  <a:lnTo>
                    <a:pt x="131700" y="1092200"/>
                  </a:lnTo>
                  <a:lnTo>
                    <a:pt x="109221" y="1084960"/>
                  </a:lnTo>
                  <a:lnTo>
                    <a:pt x="87757" y="1077214"/>
                  </a:lnTo>
                  <a:lnTo>
                    <a:pt x="67818" y="1068577"/>
                  </a:lnTo>
                  <a:lnTo>
                    <a:pt x="48642" y="1059688"/>
                  </a:lnTo>
                  <a:lnTo>
                    <a:pt x="31243" y="1050163"/>
                  </a:lnTo>
                  <a:lnTo>
                    <a:pt x="14860"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Freeform 8"/>
            <p:cNvSpPr/>
            <p:nvPr/>
          </p:nvSpPr>
          <p:spPr>
            <a:xfrm>
              <a:off x="1315440" y="2800800"/>
              <a:ext cx="380160" cy="765000"/>
            </a:xfrm>
            <a:custGeom>
              <a:avLst/>
              <a:gdLst>
                <a:gd name="textAreaLeft" fmla="*/ 0 w 380160"/>
                <a:gd name="textAreaRight" fmla="*/ 380520 w 380160"/>
                <a:gd name="textAreaTop" fmla="*/ 0 h 765000"/>
                <a:gd name="textAreaBottom" fmla="*/ 765360 h 765000"/>
              </a:gdLst>
              <a:ahLst/>
              <a:rect l="textAreaLeft" t="textAreaTop" r="textAreaRight" b="textAreaBottom"/>
              <a:pathLst>
                <a:path w="379985" h="765302">
                  <a:moveTo>
                    <a:pt x="10415" y="65405"/>
                  </a:moveTo>
                  <a:lnTo>
                    <a:pt x="16638" y="54990"/>
                  </a:lnTo>
                  <a:lnTo>
                    <a:pt x="25146" y="44196"/>
                  </a:lnTo>
                  <a:lnTo>
                    <a:pt x="34671" y="34290"/>
                  </a:lnTo>
                  <a:lnTo>
                    <a:pt x="45340" y="24511"/>
                  </a:lnTo>
                  <a:lnTo>
                    <a:pt x="57024" y="15875"/>
                  </a:lnTo>
                  <a:lnTo>
                    <a:pt x="68835" y="8636"/>
                  </a:lnTo>
                  <a:lnTo>
                    <a:pt x="80772" y="3302"/>
                  </a:lnTo>
                  <a:lnTo>
                    <a:pt x="92583" y="0"/>
                  </a:lnTo>
                  <a:lnTo>
                    <a:pt x="105919" y="508"/>
                  </a:lnTo>
                  <a:lnTo>
                    <a:pt x="120396" y="1143"/>
                  </a:lnTo>
                  <a:lnTo>
                    <a:pt x="151258" y="3683"/>
                  </a:lnTo>
                  <a:lnTo>
                    <a:pt x="182627" y="8000"/>
                  </a:lnTo>
                  <a:lnTo>
                    <a:pt x="214630" y="14478"/>
                  </a:lnTo>
                  <a:lnTo>
                    <a:pt x="230124" y="18668"/>
                  </a:lnTo>
                  <a:lnTo>
                    <a:pt x="244857" y="23621"/>
                  </a:lnTo>
                  <a:lnTo>
                    <a:pt x="259335" y="29209"/>
                  </a:lnTo>
                  <a:lnTo>
                    <a:pt x="272796" y="35687"/>
                  </a:lnTo>
                  <a:lnTo>
                    <a:pt x="285243" y="42799"/>
                  </a:lnTo>
                  <a:lnTo>
                    <a:pt x="297054" y="50800"/>
                  </a:lnTo>
                  <a:lnTo>
                    <a:pt x="307086" y="60071"/>
                  </a:lnTo>
                  <a:lnTo>
                    <a:pt x="315850" y="70103"/>
                  </a:lnTo>
                  <a:lnTo>
                    <a:pt x="323469" y="84581"/>
                  </a:lnTo>
                  <a:lnTo>
                    <a:pt x="330581" y="100965"/>
                  </a:lnTo>
                  <a:lnTo>
                    <a:pt x="337440" y="118744"/>
                  </a:lnTo>
                  <a:lnTo>
                    <a:pt x="343790" y="137921"/>
                  </a:lnTo>
                  <a:lnTo>
                    <a:pt x="349505" y="158496"/>
                  </a:lnTo>
                  <a:lnTo>
                    <a:pt x="354584" y="180212"/>
                  </a:lnTo>
                  <a:lnTo>
                    <a:pt x="359537" y="203200"/>
                  </a:lnTo>
                  <a:lnTo>
                    <a:pt x="363856" y="226821"/>
                  </a:lnTo>
                  <a:lnTo>
                    <a:pt x="367665" y="251587"/>
                  </a:lnTo>
                  <a:lnTo>
                    <a:pt x="371222" y="276859"/>
                  </a:lnTo>
                  <a:lnTo>
                    <a:pt x="376428" y="329184"/>
                  </a:lnTo>
                  <a:lnTo>
                    <a:pt x="379222" y="382524"/>
                  </a:lnTo>
                  <a:lnTo>
                    <a:pt x="379984" y="436244"/>
                  </a:lnTo>
                  <a:lnTo>
                    <a:pt x="378460" y="489331"/>
                  </a:lnTo>
                  <a:lnTo>
                    <a:pt x="376809" y="515112"/>
                  </a:lnTo>
                  <a:lnTo>
                    <a:pt x="374269" y="540384"/>
                  </a:lnTo>
                  <a:lnTo>
                    <a:pt x="371222" y="565150"/>
                  </a:lnTo>
                  <a:lnTo>
                    <a:pt x="367665" y="589152"/>
                  </a:lnTo>
                  <a:lnTo>
                    <a:pt x="363347" y="612139"/>
                  </a:lnTo>
                  <a:lnTo>
                    <a:pt x="358522" y="633857"/>
                  </a:lnTo>
                  <a:lnTo>
                    <a:pt x="352680" y="654684"/>
                  </a:lnTo>
                  <a:lnTo>
                    <a:pt x="346456" y="673862"/>
                  </a:lnTo>
                  <a:lnTo>
                    <a:pt x="339344" y="692276"/>
                  </a:lnTo>
                  <a:lnTo>
                    <a:pt x="331725" y="708278"/>
                  </a:lnTo>
                  <a:lnTo>
                    <a:pt x="323215" y="723011"/>
                  </a:lnTo>
                  <a:lnTo>
                    <a:pt x="313944" y="736472"/>
                  </a:lnTo>
                  <a:lnTo>
                    <a:pt x="304166" y="747268"/>
                  </a:lnTo>
                  <a:lnTo>
                    <a:pt x="293116" y="756157"/>
                  </a:lnTo>
                  <a:lnTo>
                    <a:pt x="285750" y="758316"/>
                  </a:lnTo>
                  <a:lnTo>
                    <a:pt x="277622" y="760349"/>
                  </a:lnTo>
                  <a:lnTo>
                    <a:pt x="259843" y="763143"/>
                  </a:lnTo>
                  <a:lnTo>
                    <a:pt x="239904" y="764794"/>
                  </a:lnTo>
                  <a:lnTo>
                    <a:pt x="218694" y="765301"/>
                  </a:lnTo>
                  <a:lnTo>
                    <a:pt x="196088" y="764794"/>
                  </a:lnTo>
                  <a:lnTo>
                    <a:pt x="173355" y="763143"/>
                  </a:lnTo>
                  <a:lnTo>
                    <a:pt x="150115" y="760857"/>
                  </a:lnTo>
                  <a:lnTo>
                    <a:pt x="127508" y="758189"/>
                  </a:lnTo>
                  <a:lnTo>
                    <a:pt x="105665" y="754507"/>
                  </a:lnTo>
                  <a:lnTo>
                    <a:pt x="85218" y="750315"/>
                  </a:lnTo>
                  <a:lnTo>
                    <a:pt x="66549" y="745489"/>
                  </a:lnTo>
                  <a:lnTo>
                    <a:pt x="50293" y="741171"/>
                  </a:lnTo>
                  <a:lnTo>
                    <a:pt x="36577" y="736091"/>
                  </a:lnTo>
                  <a:lnTo>
                    <a:pt x="26163" y="730884"/>
                  </a:lnTo>
                  <a:lnTo>
                    <a:pt x="19177" y="725805"/>
                  </a:lnTo>
                  <a:lnTo>
                    <a:pt x="17146" y="723011"/>
                  </a:lnTo>
                  <a:lnTo>
                    <a:pt x="16383" y="720597"/>
                  </a:lnTo>
                  <a:lnTo>
                    <a:pt x="16383" y="669416"/>
                  </a:lnTo>
                  <a:lnTo>
                    <a:pt x="15368" y="660272"/>
                  </a:lnTo>
                  <a:lnTo>
                    <a:pt x="14733" y="651637"/>
                  </a:lnTo>
                  <a:lnTo>
                    <a:pt x="14733" y="643889"/>
                  </a:lnTo>
                  <a:lnTo>
                    <a:pt x="15621" y="636651"/>
                  </a:lnTo>
                  <a:lnTo>
                    <a:pt x="17146" y="629920"/>
                  </a:lnTo>
                  <a:lnTo>
                    <a:pt x="19177" y="623824"/>
                  </a:lnTo>
                  <a:lnTo>
                    <a:pt x="21844" y="618236"/>
                  </a:lnTo>
                  <a:lnTo>
                    <a:pt x="24893" y="613282"/>
                  </a:lnTo>
                  <a:lnTo>
                    <a:pt x="28702" y="608838"/>
                  </a:lnTo>
                  <a:lnTo>
                    <a:pt x="32766" y="604901"/>
                  </a:lnTo>
                  <a:lnTo>
                    <a:pt x="42672" y="598805"/>
                  </a:lnTo>
                  <a:lnTo>
                    <a:pt x="54102" y="594614"/>
                  </a:lnTo>
                  <a:lnTo>
                    <a:pt x="67183" y="592074"/>
                  </a:lnTo>
                  <a:lnTo>
                    <a:pt x="73788" y="592708"/>
                  </a:lnTo>
                  <a:lnTo>
                    <a:pt x="80010" y="594106"/>
                  </a:lnTo>
                  <a:lnTo>
                    <a:pt x="85471" y="596645"/>
                  </a:lnTo>
                  <a:lnTo>
                    <a:pt x="90933" y="599947"/>
                  </a:lnTo>
                  <a:lnTo>
                    <a:pt x="100458" y="608583"/>
                  </a:lnTo>
                  <a:lnTo>
                    <a:pt x="109729" y="618870"/>
                  </a:lnTo>
                  <a:lnTo>
                    <a:pt x="119635" y="629665"/>
                  </a:lnTo>
                  <a:lnTo>
                    <a:pt x="130175" y="640207"/>
                  </a:lnTo>
                  <a:lnTo>
                    <a:pt x="136525" y="644651"/>
                  </a:lnTo>
                  <a:lnTo>
                    <a:pt x="143130" y="649096"/>
                  </a:lnTo>
                  <a:lnTo>
                    <a:pt x="150496" y="652780"/>
                  </a:lnTo>
                  <a:lnTo>
                    <a:pt x="158624" y="655574"/>
                  </a:lnTo>
                  <a:lnTo>
                    <a:pt x="167386" y="657478"/>
                  </a:lnTo>
                  <a:lnTo>
                    <a:pt x="176404" y="658876"/>
                  </a:lnTo>
                  <a:lnTo>
                    <a:pt x="194946" y="658876"/>
                  </a:lnTo>
                  <a:lnTo>
                    <a:pt x="213488" y="656336"/>
                  </a:lnTo>
                  <a:lnTo>
                    <a:pt x="231521" y="651001"/>
                  </a:lnTo>
                  <a:lnTo>
                    <a:pt x="239904" y="647445"/>
                  </a:lnTo>
                  <a:lnTo>
                    <a:pt x="247650" y="643508"/>
                  </a:lnTo>
                  <a:lnTo>
                    <a:pt x="255016" y="638809"/>
                  </a:lnTo>
                  <a:lnTo>
                    <a:pt x="261874" y="633857"/>
                  </a:lnTo>
                  <a:lnTo>
                    <a:pt x="267844" y="628522"/>
                  </a:lnTo>
                  <a:lnTo>
                    <a:pt x="272796" y="622681"/>
                  </a:lnTo>
                  <a:lnTo>
                    <a:pt x="276860" y="616331"/>
                  </a:lnTo>
                  <a:lnTo>
                    <a:pt x="280163" y="609600"/>
                  </a:lnTo>
                  <a:lnTo>
                    <a:pt x="284227" y="597153"/>
                  </a:lnTo>
                  <a:lnTo>
                    <a:pt x="287783" y="582676"/>
                  </a:lnTo>
                  <a:lnTo>
                    <a:pt x="290704" y="567055"/>
                  </a:lnTo>
                  <a:lnTo>
                    <a:pt x="293116" y="550418"/>
                  </a:lnTo>
                  <a:lnTo>
                    <a:pt x="294894" y="532891"/>
                  </a:lnTo>
                  <a:lnTo>
                    <a:pt x="295910" y="514603"/>
                  </a:lnTo>
                  <a:lnTo>
                    <a:pt x="296546" y="495426"/>
                  </a:lnTo>
                  <a:lnTo>
                    <a:pt x="296546" y="475361"/>
                  </a:lnTo>
                  <a:lnTo>
                    <a:pt x="295910" y="454532"/>
                  </a:lnTo>
                  <a:lnTo>
                    <a:pt x="294513" y="433705"/>
                  </a:lnTo>
                  <a:lnTo>
                    <a:pt x="290196" y="391159"/>
                  </a:lnTo>
                  <a:lnTo>
                    <a:pt x="283338" y="348106"/>
                  </a:lnTo>
                  <a:lnTo>
                    <a:pt x="274447" y="305815"/>
                  </a:lnTo>
                  <a:lnTo>
                    <a:pt x="268860" y="285241"/>
                  </a:lnTo>
                  <a:lnTo>
                    <a:pt x="262891" y="264921"/>
                  </a:lnTo>
                  <a:lnTo>
                    <a:pt x="256286" y="245490"/>
                  </a:lnTo>
                  <a:lnTo>
                    <a:pt x="248921" y="226821"/>
                  </a:lnTo>
                  <a:lnTo>
                    <a:pt x="241300" y="208787"/>
                  </a:lnTo>
                  <a:lnTo>
                    <a:pt x="232919" y="191896"/>
                  </a:lnTo>
                  <a:lnTo>
                    <a:pt x="224155" y="176021"/>
                  </a:lnTo>
                  <a:lnTo>
                    <a:pt x="214630" y="161797"/>
                  </a:lnTo>
                  <a:lnTo>
                    <a:pt x="204216" y="148462"/>
                  </a:lnTo>
                  <a:lnTo>
                    <a:pt x="193802" y="136778"/>
                  </a:lnTo>
                  <a:lnTo>
                    <a:pt x="182372" y="126491"/>
                  </a:lnTo>
                  <a:lnTo>
                    <a:pt x="170561" y="117856"/>
                  </a:lnTo>
                  <a:lnTo>
                    <a:pt x="158116" y="111252"/>
                  </a:lnTo>
                  <a:lnTo>
                    <a:pt x="145288" y="106425"/>
                  </a:lnTo>
                  <a:lnTo>
                    <a:pt x="131827" y="103759"/>
                  </a:lnTo>
                  <a:lnTo>
                    <a:pt x="117602" y="103124"/>
                  </a:lnTo>
                  <a:lnTo>
                    <a:pt x="110236" y="102108"/>
                  </a:lnTo>
                  <a:lnTo>
                    <a:pt x="103760" y="103124"/>
                  </a:lnTo>
                  <a:lnTo>
                    <a:pt x="97536" y="105918"/>
                  </a:lnTo>
                  <a:lnTo>
                    <a:pt x="91694" y="110109"/>
                  </a:lnTo>
                  <a:lnTo>
                    <a:pt x="86360" y="115950"/>
                  </a:lnTo>
                  <a:lnTo>
                    <a:pt x="81154" y="122681"/>
                  </a:lnTo>
                  <a:lnTo>
                    <a:pt x="70740" y="137413"/>
                  </a:lnTo>
                  <a:lnTo>
                    <a:pt x="60071" y="152653"/>
                  </a:lnTo>
                  <a:lnTo>
                    <a:pt x="54102" y="160146"/>
                  </a:lnTo>
                  <a:lnTo>
                    <a:pt x="48007" y="166750"/>
                  </a:lnTo>
                  <a:lnTo>
                    <a:pt x="40894" y="172084"/>
                  </a:lnTo>
                  <a:lnTo>
                    <a:pt x="33529" y="176530"/>
                  </a:lnTo>
                  <a:lnTo>
                    <a:pt x="25400" y="179324"/>
                  </a:lnTo>
                  <a:lnTo>
                    <a:pt x="16383" y="180212"/>
                  </a:lnTo>
                  <a:lnTo>
                    <a:pt x="10669" y="165988"/>
                  </a:lnTo>
                  <a:lnTo>
                    <a:pt x="5716" y="151765"/>
                  </a:lnTo>
                  <a:lnTo>
                    <a:pt x="2413" y="137413"/>
                  </a:lnTo>
                  <a:lnTo>
                    <a:pt x="255"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3" name="Freeform 9"/>
            <p:cNvSpPr/>
            <p:nvPr/>
          </p:nvSpPr>
          <p:spPr>
            <a:xfrm>
              <a:off x="1315800" y="279972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0"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0" y="20320"/>
                  </a:lnTo>
                  <a:lnTo>
                    <a:pt x="245111" y="24129"/>
                  </a:lnTo>
                  <a:lnTo>
                    <a:pt x="260350" y="29210"/>
                  </a:lnTo>
                  <a:lnTo>
                    <a:pt x="273050" y="36829"/>
                  </a:lnTo>
                  <a:lnTo>
                    <a:pt x="285750" y="43179"/>
                  </a:lnTo>
                  <a:lnTo>
                    <a:pt x="297181" y="52070"/>
                  </a:lnTo>
                  <a:lnTo>
                    <a:pt x="307341" y="60960"/>
                  </a:lnTo>
                  <a:lnTo>
                    <a:pt x="316231" y="69850"/>
                  </a:lnTo>
                  <a:lnTo>
                    <a:pt x="323851" y="85089"/>
                  </a:lnTo>
                  <a:lnTo>
                    <a:pt x="330201" y="101600"/>
                  </a:lnTo>
                  <a:lnTo>
                    <a:pt x="337820" y="119379"/>
                  </a:lnTo>
                  <a:lnTo>
                    <a:pt x="342901" y="139700"/>
                  </a:lnTo>
                  <a:lnTo>
                    <a:pt x="349251" y="160020"/>
                  </a:lnTo>
                  <a:lnTo>
                    <a:pt x="354331" y="180339"/>
                  </a:lnTo>
                  <a:lnTo>
                    <a:pt x="359410" y="204470"/>
                  </a:lnTo>
                  <a:lnTo>
                    <a:pt x="364491" y="228600"/>
                  </a:lnTo>
                  <a:lnTo>
                    <a:pt x="368301" y="251460"/>
                  </a:lnTo>
                  <a:lnTo>
                    <a:pt x="372110" y="278129"/>
                  </a:lnTo>
                  <a:lnTo>
                    <a:pt x="375920" y="330200"/>
                  </a:lnTo>
                  <a:lnTo>
                    <a:pt x="378460" y="382270"/>
                  </a:lnTo>
                  <a:lnTo>
                    <a:pt x="379731" y="436879"/>
                  </a:lnTo>
                  <a:lnTo>
                    <a:pt x="378460" y="488950"/>
                  </a:lnTo>
                  <a:lnTo>
                    <a:pt x="375920" y="516890"/>
                  </a:lnTo>
                  <a:lnTo>
                    <a:pt x="374651" y="542290"/>
                  </a:lnTo>
                  <a:lnTo>
                    <a:pt x="372110" y="566420"/>
                  </a:lnTo>
                  <a:lnTo>
                    <a:pt x="368301" y="589279"/>
                  </a:lnTo>
                  <a:lnTo>
                    <a:pt x="364491" y="612140"/>
                  </a:lnTo>
                  <a:lnTo>
                    <a:pt x="358141" y="635000"/>
                  </a:lnTo>
                  <a:lnTo>
                    <a:pt x="353060" y="655320"/>
                  </a:lnTo>
                  <a:lnTo>
                    <a:pt x="346710" y="674370"/>
                  </a:lnTo>
                  <a:lnTo>
                    <a:pt x="339091" y="692150"/>
                  </a:lnTo>
                  <a:lnTo>
                    <a:pt x="332741" y="709929"/>
                  </a:lnTo>
                  <a:lnTo>
                    <a:pt x="323851" y="723900"/>
                  </a:lnTo>
                  <a:lnTo>
                    <a:pt x="313691" y="736600"/>
                  </a:lnTo>
                  <a:lnTo>
                    <a:pt x="303531" y="748029"/>
                  </a:lnTo>
                  <a:lnTo>
                    <a:pt x="292100" y="756920"/>
                  </a:lnTo>
                  <a:lnTo>
                    <a:pt x="285750" y="758190"/>
                  </a:lnTo>
                  <a:lnTo>
                    <a:pt x="278131" y="762000"/>
                  </a:lnTo>
                  <a:lnTo>
                    <a:pt x="260350" y="764540"/>
                  </a:lnTo>
                  <a:lnTo>
                    <a:pt x="240031" y="765809"/>
                  </a:lnTo>
                  <a:lnTo>
                    <a:pt x="218441" y="765809"/>
                  </a:lnTo>
                  <a:lnTo>
                    <a:pt x="195581" y="765809"/>
                  </a:lnTo>
                  <a:lnTo>
                    <a:pt x="172720" y="764540"/>
                  </a:lnTo>
                  <a:lnTo>
                    <a:pt x="149861" y="762000"/>
                  </a:lnTo>
                  <a:lnTo>
                    <a:pt x="127000" y="758190"/>
                  </a:lnTo>
                  <a:lnTo>
                    <a:pt x="105411" y="755650"/>
                  </a:lnTo>
                  <a:lnTo>
                    <a:pt x="85091" y="751840"/>
                  </a:lnTo>
                  <a:lnTo>
                    <a:pt x="67311" y="746759"/>
                  </a:lnTo>
                  <a:lnTo>
                    <a:pt x="50800" y="742950"/>
                  </a:lnTo>
                  <a:lnTo>
                    <a:pt x="35561" y="736600"/>
                  </a:lnTo>
                  <a:lnTo>
                    <a:pt x="25400" y="732790"/>
                  </a:lnTo>
                  <a:lnTo>
                    <a:pt x="19050" y="726440"/>
                  </a:lnTo>
                  <a:lnTo>
                    <a:pt x="17781" y="723900"/>
                  </a:lnTo>
                  <a:lnTo>
                    <a:pt x="16511" y="721359"/>
                  </a:lnTo>
                  <a:lnTo>
                    <a:pt x="16511" y="670559"/>
                  </a:lnTo>
                  <a:lnTo>
                    <a:pt x="15241" y="661670"/>
                  </a:lnTo>
                  <a:lnTo>
                    <a:pt x="13970" y="651509"/>
                  </a:lnTo>
                  <a:lnTo>
                    <a:pt x="13970" y="645159"/>
                  </a:lnTo>
                  <a:lnTo>
                    <a:pt x="15241" y="637540"/>
                  </a:lnTo>
                  <a:lnTo>
                    <a:pt x="17781" y="631190"/>
                  </a:lnTo>
                  <a:lnTo>
                    <a:pt x="19050" y="624840"/>
                  </a:lnTo>
                  <a:lnTo>
                    <a:pt x="21591" y="618490"/>
                  </a:lnTo>
                  <a:lnTo>
                    <a:pt x="25400" y="614679"/>
                  </a:lnTo>
                  <a:lnTo>
                    <a:pt x="29211" y="609600"/>
                  </a:lnTo>
                  <a:lnTo>
                    <a:pt x="31750" y="607059"/>
                  </a:lnTo>
                  <a:lnTo>
                    <a:pt x="43181" y="599440"/>
                  </a:lnTo>
                  <a:lnTo>
                    <a:pt x="54611" y="595629"/>
                  </a:lnTo>
                  <a:lnTo>
                    <a:pt x="67311" y="593090"/>
                  </a:lnTo>
                  <a:lnTo>
                    <a:pt x="73661" y="593090"/>
                  </a:lnTo>
                  <a:lnTo>
                    <a:pt x="78741" y="595629"/>
                  </a:lnTo>
                  <a:lnTo>
                    <a:pt x="86361" y="596900"/>
                  </a:lnTo>
                  <a:lnTo>
                    <a:pt x="90170" y="600709"/>
                  </a:lnTo>
                  <a:lnTo>
                    <a:pt x="101600" y="608329"/>
                  </a:lnTo>
                  <a:lnTo>
                    <a:pt x="110491" y="619759"/>
                  </a:lnTo>
                  <a:lnTo>
                    <a:pt x="119381" y="629920"/>
                  </a:lnTo>
                  <a:lnTo>
                    <a:pt x="129541" y="641350"/>
                  </a:lnTo>
                  <a:lnTo>
                    <a:pt x="137161" y="645159"/>
                  </a:lnTo>
                  <a:lnTo>
                    <a:pt x="143511" y="650240"/>
                  </a:lnTo>
                  <a:lnTo>
                    <a:pt x="151131" y="654050"/>
                  </a:lnTo>
                  <a:lnTo>
                    <a:pt x="158750" y="655320"/>
                  </a:lnTo>
                  <a:lnTo>
                    <a:pt x="166370" y="659129"/>
                  </a:lnTo>
                  <a:lnTo>
                    <a:pt x="176531" y="659129"/>
                  </a:lnTo>
                  <a:lnTo>
                    <a:pt x="194311" y="659129"/>
                  </a:lnTo>
                  <a:lnTo>
                    <a:pt x="213361" y="656590"/>
                  </a:lnTo>
                  <a:lnTo>
                    <a:pt x="231141" y="651509"/>
                  </a:lnTo>
                  <a:lnTo>
                    <a:pt x="240031" y="648970"/>
                  </a:lnTo>
                  <a:lnTo>
                    <a:pt x="247650" y="645159"/>
                  </a:lnTo>
                  <a:lnTo>
                    <a:pt x="255270" y="640079"/>
                  </a:lnTo>
                  <a:lnTo>
                    <a:pt x="261620" y="635000"/>
                  </a:lnTo>
                  <a:lnTo>
                    <a:pt x="266700" y="629920"/>
                  </a:lnTo>
                  <a:lnTo>
                    <a:pt x="273050" y="623570"/>
                  </a:lnTo>
                  <a:lnTo>
                    <a:pt x="276861" y="617220"/>
                  </a:lnTo>
                  <a:lnTo>
                    <a:pt x="280670" y="610870"/>
                  </a:lnTo>
                  <a:lnTo>
                    <a:pt x="284481" y="598170"/>
                  </a:lnTo>
                  <a:lnTo>
                    <a:pt x="288291" y="582929"/>
                  </a:lnTo>
                  <a:lnTo>
                    <a:pt x="290831" y="567690"/>
                  </a:lnTo>
                  <a:lnTo>
                    <a:pt x="292100" y="552450"/>
                  </a:lnTo>
                  <a:lnTo>
                    <a:pt x="295911" y="533400"/>
                  </a:lnTo>
                  <a:lnTo>
                    <a:pt x="295911" y="515620"/>
                  </a:lnTo>
                  <a:lnTo>
                    <a:pt x="295911" y="496570"/>
                  </a:lnTo>
                  <a:lnTo>
                    <a:pt x="295911" y="476250"/>
                  </a:lnTo>
                  <a:lnTo>
                    <a:pt x="295911" y="455929"/>
                  </a:lnTo>
                  <a:lnTo>
                    <a:pt x="294641" y="434339"/>
                  </a:lnTo>
                  <a:lnTo>
                    <a:pt x="289561" y="391160"/>
                  </a:lnTo>
                  <a:lnTo>
                    <a:pt x="283211" y="349250"/>
                  </a:lnTo>
                  <a:lnTo>
                    <a:pt x="274320" y="307339"/>
                  </a:lnTo>
                  <a:lnTo>
                    <a:pt x="269241" y="287020"/>
                  </a:lnTo>
                  <a:lnTo>
                    <a:pt x="262891" y="265429"/>
                  </a:lnTo>
                  <a:lnTo>
                    <a:pt x="256541" y="246379"/>
                  </a:lnTo>
                  <a:lnTo>
                    <a:pt x="248920" y="228600"/>
                  </a:lnTo>
                  <a:lnTo>
                    <a:pt x="241300" y="209550"/>
                  </a:lnTo>
                  <a:lnTo>
                    <a:pt x="233681" y="193039"/>
                  </a:lnTo>
                  <a:lnTo>
                    <a:pt x="223520" y="176529"/>
                  </a:lnTo>
                  <a:lnTo>
                    <a:pt x="214631" y="162560"/>
                  </a:lnTo>
                  <a:lnTo>
                    <a:pt x="204470" y="148589"/>
                  </a:lnTo>
                  <a:lnTo>
                    <a:pt x="194311" y="138429"/>
                  </a:lnTo>
                  <a:lnTo>
                    <a:pt x="182881" y="127000"/>
                  </a:lnTo>
                  <a:lnTo>
                    <a:pt x="170181" y="118110"/>
                  </a:lnTo>
                  <a:lnTo>
                    <a:pt x="157481" y="111760"/>
                  </a:lnTo>
                  <a:lnTo>
                    <a:pt x="144781" y="106679"/>
                  </a:lnTo>
                  <a:lnTo>
                    <a:pt x="132081" y="105410"/>
                  </a:lnTo>
                  <a:lnTo>
                    <a:pt x="118111" y="102870"/>
                  </a:lnTo>
                  <a:lnTo>
                    <a:pt x="110491" y="102870"/>
                  </a:lnTo>
                  <a:lnTo>
                    <a:pt x="104141" y="102870"/>
                  </a:lnTo>
                  <a:lnTo>
                    <a:pt x="97791" y="106679"/>
                  </a:lnTo>
                  <a:lnTo>
                    <a:pt x="92711" y="110489"/>
                  </a:lnTo>
                  <a:lnTo>
                    <a:pt x="86361" y="116839"/>
                  </a:lnTo>
                  <a:lnTo>
                    <a:pt x="81281" y="123189"/>
                  </a:lnTo>
                  <a:lnTo>
                    <a:pt x="71120" y="138429"/>
                  </a:lnTo>
                  <a:lnTo>
                    <a:pt x="60961" y="153670"/>
                  </a:lnTo>
                  <a:lnTo>
                    <a:pt x="54611" y="161289"/>
                  </a:lnTo>
                  <a:lnTo>
                    <a:pt x="46991" y="167639"/>
                  </a:lnTo>
                  <a:lnTo>
                    <a:pt x="40641" y="172720"/>
                  </a:lnTo>
                  <a:lnTo>
                    <a:pt x="33020" y="176529"/>
                  </a:lnTo>
                  <a:lnTo>
                    <a:pt x="25400" y="180339"/>
                  </a:lnTo>
                  <a:lnTo>
                    <a:pt x="16511" y="180339"/>
                  </a:lnTo>
                  <a:lnTo>
                    <a:pt x="10161" y="167639"/>
                  </a:lnTo>
                  <a:lnTo>
                    <a:pt x="6350" y="152400"/>
                  </a:lnTo>
                  <a:lnTo>
                    <a:pt x="2541" y="138429"/>
                  </a:lnTo>
                  <a:lnTo>
                    <a:pt x="0" y="123189"/>
                  </a:lnTo>
                  <a:lnTo>
                    <a:pt x="0" y="107950"/>
                  </a:lnTo>
                  <a:lnTo>
                    <a:pt x="2541"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4" name="Freeform 10"/>
            <p:cNvSpPr/>
            <p:nvPr/>
          </p:nvSpPr>
          <p:spPr>
            <a:xfrm>
              <a:off x="1555200" y="287748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2" y="2285"/>
                  </a:moveTo>
                  <a:lnTo>
                    <a:pt x="80010" y="15367"/>
                  </a:lnTo>
                  <a:lnTo>
                    <a:pt x="87629" y="31114"/>
                  </a:lnTo>
                  <a:lnTo>
                    <a:pt x="94741" y="48386"/>
                  </a:lnTo>
                  <a:lnTo>
                    <a:pt x="101345" y="67563"/>
                  </a:lnTo>
                  <a:lnTo>
                    <a:pt x="107314" y="88392"/>
                  </a:lnTo>
                  <a:lnTo>
                    <a:pt x="112776" y="110363"/>
                  </a:lnTo>
                  <a:lnTo>
                    <a:pt x="117729" y="133730"/>
                  </a:lnTo>
                  <a:lnTo>
                    <a:pt x="121792" y="157988"/>
                  </a:lnTo>
                  <a:lnTo>
                    <a:pt x="125857" y="182372"/>
                  </a:lnTo>
                  <a:lnTo>
                    <a:pt x="128904" y="207645"/>
                  </a:lnTo>
                  <a:lnTo>
                    <a:pt x="133857" y="258317"/>
                  </a:lnTo>
                  <a:lnTo>
                    <a:pt x="135509" y="283336"/>
                  </a:lnTo>
                  <a:lnTo>
                    <a:pt x="136525" y="308101"/>
                  </a:lnTo>
                  <a:lnTo>
                    <a:pt x="137032" y="331723"/>
                  </a:lnTo>
                  <a:lnTo>
                    <a:pt x="137032" y="354838"/>
                  </a:lnTo>
                  <a:lnTo>
                    <a:pt x="136270" y="376428"/>
                  </a:lnTo>
                  <a:lnTo>
                    <a:pt x="135635" y="397001"/>
                  </a:lnTo>
                  <a:lnTo>
                    <a:pt x="133857" y="435101"/>
                  </a:lnTo>
                  <a:lnTo>
                    <a:pt x="130810" y="470662"/>
                  </a:lnTo>
                  <a:lnTo>
                    <a:pt x="126110" y="504570"/>
                  </a:lnTo>
                  <a:lnTo>
                    <a:pt x="119379" y="537972"/>
                  </a:lnTo>
                  <a:lnTo>
                    <a:pt x="114426" y="554862"/>
                  </a:lnTo>
                  <a:lnTo>
                    <a:pt x="108966" y="572135"/>
                  </a:lnTo>
                  <a:lnTo>
                    <a:pt x="102742" y="589914"/>
                  </a:lnTo>
                  <a:lnTo>
                    <a:pt x="94995" y="608330"/>
                  </a:lnTo>
                  <a:lnTo>
                    <a:pt x="86232" y="627380"/>
                  </a:lnTo>
                  <a:lnTo>
                    <a:pt x="76454" y="647445"/>
                  </a:lnTo>
                  <a:lnTo>
                    <a:pt x="71247" y="653287"/>
                  </a:lnTo>
                  <a:lnTo>
                    <a:pt x="65023" y="659383"/>
                  </a:lnTo>
                  <a:lnTo>
                    <a:pt x="57912" y="664972"/>
                  </a:lnTo>
                  <a:lnTo>
                    <a:pt x="50292" y="669670"/>
                  </a:lnTo>
                  <a:lnTo>
                    <a:pt x="42545" y="672973"/>
                  </a:lnTo>
                  <a:lnTo>
                    <a:pt x="35178" y="674369"/>
                  </a:lnTo>
                  <a:lnTo>
                    <a:pt x="28448" y="673862"/>
                  </a:lnTo>
                  <a:lnTo>
                    <a:pt x="25400" y="672464"/>
                  </a:lnTo>
                  <a:lnTo>
                    <a:pt x="22733" y="670179"/>
                  </a:lnTo>
                  <a:lnTo>
                    <a:pt x="21589" y="666114"/>
                  </a:lnTo>
                  <a:lnTo>
                    <a:pt x="22733" y="660018"/>
                  </a:lnTo>
                  <a:lnTo>
                    <a:pt x="26034" y="651891"/>
                  </a:lnTo>
                  <a:lnTo>
                    <a:pt x="30098" y="641985"/>
                  </a:lnTo>
                  <a:lnTo>
                    <a:pt x="35559" y="629157"/>
                  </a:lnTo>
                  <a:lnTo>
                    <a:pt x="41783" y="614172"/>
                  </a:lnTo>
                  <a:lnTo>
                    <a:pt x="48387" y="596645"/>
                  </a:lnTo>
                  <a:lnTo>
                    <a:pt x="54609" y="576072"/>
                  </a:lnTo>
                  <a:lnTo>
                    <a:pt x="61087" y="552449"/>
                  </a:lnTo>
                  <a:lnTo>
                    <a:pt x="63881" y="539368"/>
                  </a:lnTo>
                  <a:lnTo>
                    <a:pt x="66675" y="525399"/>
                  </a:lnTo>
                  <a:lnTo>
                    <a:pt x="68834" y="510667"/>
                  </a:lnTo>
                  <a:lnTo>
                    <a:pt x="70992" y="495173"/>
                  </a:lnTo>
                  <a:lnTo>
                    <a:pt x="72644" y="478662"/>
                  </a:lnTo>
                  <a:lnTo>
                    <a:pt x="74294" y="461263"/>
                  </a:lnTo>
                  <a:lnTo>
                    <a:pt x="75057" y="442849"/>
                  </a:lnTo>
                  <a:lnTo>
                    <a:pt x="75438" y="423672"/>
                  </a:lnTo>
                  <a:lnTo>
                    <a:pt x="75057"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0" y="102870"/>
                  </a:lnTo>
                  <a:lnTo>
                    <a:pt x="18669" y="89280"/>
                  </a:lnTo>
                  <a:lnTo>
                    <a:pt x="13715" y="76707"/>
                  </a:lnTo>
                  <a:lnTo>
                    <a:pt x="8762" y="65404"/>
                  </a:lnTo>
                  <a:lnTo>
                    <a:pt x="4317" y="55879"/>
                  </a:lnTo>
                  <a:lnTo>
                    <a:pt x="0" y="48132"/>
                  </a:lnTo>
                  <a:lnTo>
                    <a:pt x="4953" y="37845"/>
                  </a:lnTo>
                  <a:lnTo>
                    <a:pt x="12064" y="27813"/>
                  </a:lnTo>
                  <a:lnTo>
                    <a:pt x="20447" y="18669"/>
                  </a:lnTo>
                  <a:lnTo>
                    <a:pt x="30098" y="10795"/>
                  </a:lnTo>
                  <a:lnTo>
                    <a:pt x="40767" y="4698"/>
                  </a:lnTo>
                  <a:lnTo>
                    <a:pt x="51308" y="888"/>
                  </a:lnTo>
                  <a:lnTo>
                    <a:pt x="61975"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Freeform 11"/>
            <p:cNvSpPr/>
            <p:nvPr/>
          </p:nvSpPr>
          <p:spPr>
            <a:xfrm>
              <a:off x="1352520" y="341064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0" y="11302"/>
                  </a:lnTo>
                  <a:lnTo>
                    <a:pt x="70484" y="21970"/>
                  </a:lnTo>
                  <a:lnTo>
                    <a:pt x="82803" y="31114"/>
                  </a:lnTo>
                  <a:lnTo>
                    <a:pt x="95250" y="38862"/>
                  </a:lnTo>
                  <a:lnTo>
                    <a:pt x="107823" y="45846"/>
                  </a:lnTo>
                  <a:lnTo>
                    <a:pt x="120776" y="51308"/>
                  </a:lnTo>
                  <a:lnTo>
                    <a:pt x="133476" y="55499"/>
                  </a:lnTo>
                  <a:lnTo>
                    <a:pt x="146431" y="58293"/>
                  </a:lnTo>
                  <a:lnTo>
                    <a:pt x="159003" y="59689"/>
                  </a:lnTo>
                  <a:lnTo>
                    <a:pt x="171450" y="59689"/>
                  </a:lnTo>
                  <a:lnTo>
                    <a:pt x="183769" y="58293"/>
                  </a:lnTo>
                  <a:lnTo>
                    <a:pt x="195834" y="55245"/>
                  </a:lnTo>
                  <a:lnTo>
                    <a:pt x="207772" y="50800"/>
                  </a:lnTo>
                  <a:lnTo>
                    <a:pt x="218948" y="44703"/>
                  </a:lnTo>
                  <a:lnTo>
                    <a:pt x="229997" y="36957"/>
                  </a:lnTo>
                  <a:lnTo>
                    <a:pt x="240284" y="27432"/>
                  </a:lnTo>
                  <a:lnTo>
                    <a:pt x="237362" y="38862"/>
                  </a:lnTo>
                  <a:lnTo>
                    <a:pt x="233172" y="49149"/>
                  </a:lnTo>
                  <a:lnTo>
                    <a:pt x="228345" y="58674"/>
                  </a:lnTo>
                  <a:lnTo>
                    <a:pt x="222758" y="67437"/>
                  </a:lnTo>
                  <a:lnTo>
                    <a:pt x="211836" y="83820"/>
                  </a:lnTo>
                  <a:lnTo>
                    <a:pt x="202056" y="100583"/>
                  </a:lnTo>
                  <a:lnTo>
                    <a:pt x="194690" y="105028"/>
                  </a:lnTo>
                  <a:lnTo>
                    <a:pt x="186562" y="107822"/>
                  </a:lnTo>
                  <a:lnTo>
                    <a:pt x="178053" y="109220"/>
                  </a:lnTo>
                  <a:lnTo>
                    <a:pt x="169036" y="109474"/>
                  </a:lnTo>
                  <a:lnTo>
                    <a:pt x="150495" y="107822"/>
                  </a:lnTo>
                  <a:lnTo>
                    <a:pt x="132461" y="105283"/>
                  </a:lnTo>
                  <a:lnTo>
                    <a:pt x="100456" y="100583"/>
                  </a:lnTo>
                  <a:lnTo>
                    <a:pt x="84073" y="98044"/>
                  </a:lnTo>
                  <a:lnTo>
                    <a:pt x="68325" y="94107"/>
                  </a:lnTo>
                  <a:lnTo>
                    <a:pt x="52959" y="89153"/>
                  </a:lnTo>
                  <a:lnTo>
                    <a:pt x="38226" y="82803"/>
                  </a:lnTo>
                  <a:lnTo>
                    <a:pt x="25145" y="74421"/>
                  </a:lnTo>
                  <a:lnTo>
                    <a:pt x="19176" y="69722"/>
                  </a:lnTo>
                  <a:lnTo>
                    <a:pt x="13461" y="63881"/>
                  </a:lnTo>
                  <a:lnTo>
                    <a:pt x="6858" y="54990"/>
                  </a:lnTo>
                  <a:lnTo>
                    <a:pt x="2031" y="44450"/>
                  </a:lnTo>
                  <a:lnTo>
                    <a:pt x="0" y="33020"/>
                  </a:lnTo>
                  <a:lnTo>
                    <a:pt x="634" y="28066"/>
                  </a:lnTo>
                  <a:lnTo>
                    <a:pt x="2159" y="22987"/>
                  </a:lnTo>
                  <a:lnTo>
                    <a:pt x="5587" y="18033"/>
                  </a:lnTo>
                  <a:lnTo>
                    <a:pt x="9651" y="13843"/>
                  </a:lnTo>
                  <a:lnTo>
                    <a:pt x="15367" y="10287"/>
                  </a:lnTo>
                  <a:lnTo>
                    <a:pt x="21589" y="7112"/>
                  </a:lnTo>
                  <a:lnTo>
                    <a:pt x="35051"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6" name="Freeform 12"/>
            <p:cNvSpPr/>
            <p:nvPr/>
          </p:nvSpPr>
          <p:spPr>
            <a:xfrm>
              <a:off x="1327680" y="287316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3" h="97919">
                  <a:moveTo>
                    <a:pt x="0" y="83186"/>
                  </a:moveTo>
                  <a:lnTo>
                    <a:pt x="761" y="77343"/>
                  </a:lnTo>
                  <a:lnTo>
                    <a:pt x="2413" y="71502"/>
                  </a:lnTo>
                  <a:lnTo>
                    <a:pt x="5080" y="65405"/>
                  </a:lnTo>
                  <a:lnTo>
                    <a:pt x="13080" y="53468"/>
                  </a:lnTo>
                  <a:lnTo>
                    <a:pt x="23241" y="41784"/>
                  </a:lnTo>
                  <a:lnTo>
                    <a:pt x="35178" y="30608"/>
                  </a:lnTo>
                  <a:lnTo>
                    <a:pt x="47497" y="20955"/>
                  </a:lnTo>
                  <a:lnTo>
                    <a:pt x="59436" y="12827"/>
                  </a:lnTo>
                  <a:lnTo>
                    <a:pt x="70103" y="6477"/>
                  </a:lnTo>
                  <a:lnTo>
                    <a:pt x="76961" y="3430"/>
                  </a:lnTo>
                  <a:lnTo>
                    <a:pt x="84328" y="1397"/>
                  </a:lnTo>
                  <a:lnTo>
                    <a:pt x="92455" y="381"/>
                  </a:lnTo>
                  <a:lnTo>
                    <a:pt x="101219" y="0"/>
                  </a:lnTo>
                  <a:lnTo>
                    <a:pt x="109981" y="636"/>
                  </a:lnTo>
                  <a:lnTo>
                    <a:pt x="119253" y="2287"/>
                  </a:lnTo>
                  <a:lnTo>
                    <a:pt x="137541" y="6986"/>
                  </a:lnTo>
                  <a:lnTo>
                    <a:pt x="146558" y="10668"/>
                  </a:lnTo>
                  <a:lnTo>
                    <a:pt x="154939" y="14859"/>
                  </a:lnTo>
                  <a:lnTo>
                    <a:pt x="162941" y="19812"/>
                  </a:lnTo>
                  <a:lnTo>
                    <a:pt x="170561" y="25020"/>
                  </a:lnTo>
                  <a:lnTo>
                    <a:pt x="177419" y="31243"/>
                  </a:lnTo>
                  <a:lnTo>
                    <a:pt x="183133" y="37593"/>
                  </a:lnTo>
                  <a:lnTo>
                    <a:pt x="188086" y="44831"/>
                  </a:lnTo>
                  <a:lnTo>
                    <a:pt x="191642" y="52324"/>
                  </a:lnTo>
                  <a:lnTo>
                    <a:pt x="177672" y="47371"/>
                  </a:lnTo>
                  <a:lnTo>
                    <a:pt x="165734" y="42037"/>
                  </a:lnTo>
                  <a:lnTo>
                    <a:pt x="154431" y="36196"/>
                  </a:lnTo>
                  <a:lnTo>
                    <a:pt x="144399" y="30353"/>
                  </a:lnTo>
                  <a:lnTo>
                    <a:pt x="134874" y="25020"/>
                  </a:lnTo>
                  <a:lnTo>
                    <a:pt x="126111" y="20574"/>
                  </a:lnTo>
                  <a:lnTo>
                    <a:pt x="117347" y="17018"/>
                  </a:lnTo>
                  <a:lnTo>
                    <a:pt x="108966" y="14987"/>
                  </a:lnTo>
                  <a:lnTo>
                    <a:pt x="100330" y="14859"/>
                  </a:lnTo>
                  <a:lnTo>
                    <a:pt x="91694" y="17272"/>
                  </a:lnTo>
                  <a:lnTo>
                    <a:pt x="82677" y="21971"/>
                  </a:lnTo>
                  <a:lnTo>
                    <a:pt x="72897" y="29846"/>
                  </a:lnTo>
                  <a:lnTo>
                    <a:pt x="67436" y="34799"/>
                  </a:lnTo>
                  <a:lnTo>
                    <a:pt x="62230" y="40640"/>
                  </a:lnTo>
                  <a:lnTo>
                    <a:pt x="56514" y="47880"/>
                  </a:lnTo>
                  <a:lnTo>
                    <a:pt x="50419" y="55627"/>
                  </a:lnTo>
                  <a:lnTo>
                    <a:pt x="44195" y="64517"/>
                  </a:lnTo>
                  <a:lnTo>
                    <a:pt x="37338" y="74549"/>
                  </a:lnTo>
                  <a:lnTo>
                    <a:pt x="30225" y="85599"/>
                  </a:lnTo>
                  <a:lnTo>
                    <a:pt x="22859" y="97918"/>
                  </a:lnTo>
                  <a:lnTo>
                    <a:pt x="16255" y="97409"/>
                  </a:lnTo>
                  <a:lnTo>
                    <a:pt x="9270" y="96267"/>
                  </a:lnTo>
                  <a:lnTo>
                    <a:pt x="3555" y="93472"/>
                  </a:lnTo>
                  <a:lnTo>
                    <a:pt x="1524" y="91568"/>
                  </a:lnTo>
                  <a:lnTo>
                    <a:pt x="508"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Freeform 13"/>
            <p:cNvSpPr/>
            <p:nvPr/>
          </p:nvSpPr>
          <p:spPr>
            <a:xfrm>
              <a:off x="620280" y="2412000"/>
              <a:ext cx="763200" cy="167040"/>
            </a:xfrm>
            <a:custGeom>
              <a:avLst/>
              <a:gdLst>
                <a:gd name="textAreaLeft" fmla="*/ 0 w 763200"/>
                <a:gd name="textAreaRight" fmla="*/ 763560 w 763200"/>
                <a:gd name="textAreaTop" fmla="*/ 0 h 167040"/>
                <a:gd name="textAreaBottom" fmla="*/ 167400 h 167040"/>
              </a:gdLst>
              <a:ahLst/>
              <a:rect l="textAreaLeft" t="textAreaTop" r="textAreaRight" b="textAreaBottom"/>
              <a:pathLst>
                <a:path w="762891" h="167260">
                  <a:moveTo>
                    <a:pt x="622046" y="148718"/>
                  </a:moveTo>
                  <a:lnTo>
                    <a:pt x="591185" y="153671"/>
                  </a:lnTo>
                  <a:lnTo>
                    <a:pt x="558674" y="157862"/>
                  </a:lnTo>
                  <a:lnTo>
                    <a:pt x="524891" y="161163"/>
                  </a:lnTo>
                  <a:lnTo>
                    <a:pt x="489966" y="163958"/>
                  </a:lnTo>
                  <a:lnTo>
                    <a:pt x="454152" y="165990"/>
                  </a:lnTo>
                  <a:lnTo>
                    <a:pt x="417830" y="167133"/>
                  </a:lnTo>
                  <a:lnTo>
                    <a:pt x="381509" y="167259"/>
                  </a:lnTo>
                  <a:lnTo>
                    <a:pt x="344679" y="167133"/>
                  </a:lnTo>
                  <a:lnTo>
                    <a:pt x="308610" y="165990"/>
                  </a:lnTo>
                  <a:lnTo>
                    <a:pt x="272669" y="163958"/>
                  </a:lnTo>
                  <a:lnTo>
                    <a:pt x="237744" y="161163"/>
                  </a:lnTo>
                  <a:lnTo>
                    <a:pt x="203835" y="157862"/>
                  </a:lnTo>
                  <a:lnTo>
                    <a:pt x="171324" y="153671"/>
                  </a:lnTo>
                  <a:lnTo>
                    <a:pt x="140843" y="148718"/>
                  </a:lnTo>
                  <a:lnTo>
                    <a:pt x="111507" y="142875"/>
                  </a:lnTo>
                  <a:lnTo>
                    <a:pt x="85599" y="136525"/>
                  </a:lnTo>
                  <a:lnTo>
                    <a:pt x="62739" y="129540"/>
                  </a:lnTo>
                  <a:lnTo>
                    <a:pt x="43561" y="122556"/>
                  </a:lnTo>
                  <a:lnTo>
                    <a:pt x="27814" y="115316"/>
                  </a:lnTo>
                  <a:lnTo>
                    <a:pt x="15495" y="107569"/>
                  </a:lnTo>
                  <a:lnTo>
                    <a:pt x="6985" y="99441"/>
                  </a:lnTo>
                  <a:lnTo>
                    <a:pt x="1525" y="91694"/>
                  </a:lnTo>
                  <a:lnTo>
                    <a:pt x="0" y="83693"/>
                  </a:lnTo>
                  <a:lnTo>
                    <a:pt x="1525" y="75565"/>
                  </a:lnTo>
                  <a:lnTo>
                    <a:pt x="6985" y="67818"/>
                  </a:lnTo>
                  <a:lnTo>
                    <a:pt x="15495" y="59818"/>
                  </a:lnTo>
                  <a:lnTo>
                    <a:pt x="27814" y="51943"/>
                  </a:lnTo>
                  <a:lnTo>
                    <a:pt x="43561" y="44450"/>
                  </a:lnTo>
                  <a:lnTo>
                    <a:pt x="62739" y="37465"/>
                  </a:lnTo>
                  <a:lnTo>
                    <a:pt x="85599" y="30862"/>
                  </a:lnTo>
                  <a:lnTo>
                    <a:pt x="111507" y="24512"/>
                  </a:lnTo>
                  <a:lnTo>
                    <a:pt x="140843" y="18543"/>
                  </a:lnTo>
                  <a:lnTo>
                    <a:pt x="171324" y="13590"/>
                  </a:lnTo>
                  <a:lnTo>
                    <a:pt x="203835" y="9399"/>
                  </a:lnTo>
                  <a:lnTo>
                    <a:pt x="237744" y="6096"/>
                  </a:lnTo>
                  <a:lnTo>
                    <a:pt x="272669" y="3303"/>
                  </a:lnTo>
                  <a:lnTo>
                    <a:pt x="308610" y="1397"/>
                  </a:lnTo>
                  <a:lnTo>
                    <a:pt x="344679" y="255"/>
                  </a:lnTo>
                  <a:lnTo>
                    <a:pt x="381509" y="0"/>
                  </a:lnTo>
                  <a:lnTo>
                    <a:pt x="417830" y="255"/>
                  </a:lnTo>
                  <a:lnTo>
                    <a:pt x="454152" y="1397"/>
                  </a:lnTo>
                  <a:lnTo>
                    <a:pt x="489966" y="3303"/>
                  </a:lnTo>
                  <a:lnTo>
                    <a:pt x="524891" y="6096"/>
                  </a:lnTo>
                  <a:lnTo>
                    <a:pt x="558674" y="9399"/>
                  </a:lnTo>
                  <a:lnTo>
                    <a:pt x="591185" y="13590"/>
                  </a:lnTo>
                  <a:lnTo>
                    <a:pt x="622046" y="18543"/>
                  </a:lnTo>
                  <a:lnTo>
                    <a:pt x="651002" y="24512"/>
                  </a:lnTo>
                  <a:lnTo>
                    <a:pt x="677291" y="30862"/>
                  </a:lnTo>
                  <a:lnTo>
                    <a:pt x="700152" y="37465"/>
                  </a:lnTo>
                  <a:lnTo>
                    <a:pt x="718948" y="44450"/>
                  </a:lnTo>
                  <a:lnTo>
                    <a:pt x="734823" y="51943"/>
                  </a:lnTo>
                  <a:lnTo>
                    <a:pt x="747141" y="59818"/>
                  </a:lnTo>
                  <a:lnTo>
                    <a:pt x="755777" y="67818"/>
                  </a:lnTo>
                  <a:lnTo>
                    <a:pt x="760985" y="75565"/>
                  </a:lnTo>
                  <a:lnTo>
                    <a:pt x="762890" y="83693"/>
                  </a:lnTo>
                  <a:lnTo>
                    <a:pt x="760985" y="91694"/>
                  </a:lnTo>
                  <a:lnTo>
                    <a:pt x="755777" y="99441"/>
                  </a:lnTo>
                  <a:lnTo>
                    <a:pt x="747141" y="107569"/>
                  </a:lnTo>
                  <a:lnTo>
                    <a:pt x="734823" y="115316"/>
                  </a:lnTo>
                  <a:lnTo>
                    <a:pt x="718948" y="122556"/>
                  </a:lnTo>
                  <a:lnTo>
                    <a:pt x="700152" y="129540"/>
                  </a:lnTo>
                  <a:lnTo>
                    <a:pt x="677291" y="136525"/>
                  </a:lnTo>
                  <a:lnTo>
                    <a:pt x="651002"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Freeform 14"/>
            <p:cNvSpPr/>
            <p:nvPr/>
          </p:nvSpPr>
          <p:spPr>
            <a:xfrm>
              <a:off x="1447920" y="2869560"/>
              <a:ext cx="64800" cy="32760"/>
            </a:xfrm>
            <a:custGeom>
              <a:avLst/>
              <a:gdLst>
                <a:gd name="textAreaLeft" fmla="*/ 0 w 64800"/>
                <a:gd name="textAreaRight" fmla="*/ 65160 w 6480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7" y="15239"/>
                  </a:lnTo>
                  <a:lnTo>
                    <a:pt x="-32517" y="10160"/>
                  </a:lnTo>
                  <a:lnTo>
                    <a:pt x="24130" y="5079"/>
                  </a:lnTo>
                  <a:lnTo>
                    <a:pt x="15239"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19" name="Freeform 15"/>
            <p:cNvSpPr/>
            <p:nvPr/>
          </p:nvSpPr>
          <p:spPr>
            <a:xfrm>
              <a:off x="1433880" y="350712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7" y="12700"/>
                  </a:lnTo>
                  <a:lnTo>
                    <a:pt x="-28706" y="11430"/>
                  </a:lnTo>
                  <a:lnTo>
                    <a:pt x="29209" y="11430"/>
                  </a:lnTo>
                  <a:lnTo>
                    <a:pt x="22859" y="7619"/>
                  </a:lnTo>
                  <a:lnTo>
                    <a:pt x="11430"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20" name="Freeform 16"/>
            <p:cNvSpPr/>
            <p:nvPr/>
          </p:nvSpPr>
          <p:spPr>
            <a:xfrm>
              <a:off x="882360" y="259524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39" y="7621"/>
                  </a:lnTo>
                  <a:lnTo>
                    <a:pt x="92710" y="7621"/>
                  </a:lnTo>
                  <a:lnTo>
                    <a:pt x="68580" y="7621"/>
                  </a:lnTo>
                  <a:lnTo>
                    <a:pt x="43180"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21" name="Oval 18"/>
          <p:cNvSpPr/>
          <p:nvPr/>
        </p:nvSpPr>
        <p:spPr>
          <a:xfrm>
            <a:off x="2933640" y="394956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Group 33"/>
          <p:cNvGrpSpPr/>
          <p:nvPr/>
        </p:nvGrpSpPr>
        <p:grpSpPr>
          <a:xfrm>
            <a:off x="1957320" y="2414520"/>
            <a:ext cx="1096920" cy="1344600"/>
            <a:chOff x="1957320" y="2414520"/>
            <a:chExt cx="1096920" cy="1344600"/>
          </a:xfrm>
        </p:grpSpPr>
        <p:sp>
          <p:nvSpPr>
            <p:cNvPr id="423" name="Freeform 19"/>
            <p:cNvSpPr/>
            <p:nvPr/>
          </p:nvSpPr>
          <p:spPr>
            <a:xfrm>
              <a:off x="1957320" y="251748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6" h="1242060">
                  <a:moveTo>
                    <a:pt x="809245" y="0"/>
                  </a:moveTo>
                  <a:lnTo>
                    <a:pt x="809245" y="1093851"/>
                  </a:lnTo>
                  <a:lnTo>
                    <a:pt x="808355" y="1105534"/>
                  </a:lnTo>
                  <a:lnTo>
                    <a:pt x="807593" y="1110741"/>
                  </a:lnTo>
                  <a:lnTo>
                    <a:pt x="805943" y="1116329"/>
                  </a:lnTo>
                  <a:lnTo>
                    <a:pt x="802640" y="1122171"/>
                  </a:lnTo>
                  <a:lnTo>
                    <a:pt x="798323" y="1128903"/>
                  </a:lnTo>
                  <a:lnTo>
                    <a:pt x="791973" y="1136396"/>
                  </a:lnTo>
                  <a:lnTo>
                    <a:pt x="783845" y="1145540"/>
                  </a:lnTo>
                  <a:lnTo>
                    <a:pt x="770764" y="1157223"/>
                  </a:lnTo>
                  <a:lnTo>
                    <a:pt x="755396" y="1168019"/>
                  </a:lnTo>
                  <a:lnTo>
                    <a:pt x="738252" y="1178052"/>
                  </a:lnTo>
                  <a:lnTo>
                    <a:pt x="719074" y="1187830"/>
                  </a:lnTo>
                  <a:lnTo>
                    <a:pt x="697865" y="1196466"/>
                  </a:lnTo>
                  <a:lnTo>
                    <a:pt x="675768" y="1204214"/>
                  </a:lnTo>
                  <a:lnTo>
                    <a:pt x="651383" y="1211453"/>
                  </a:lnTo>
                  <a:lnTo>
                    <a:pt x="625983" y="1217803"/>
                  </a:lnTo>
                  <a:lnTo>
                    <a:pt x="599568" y="1223390"/>
                  </a:lnTo>
                  <a:lnTo>
                    <a:pt x="572262" y="1228471"/>
                  </a:lnTo>
                  <a:lnTo>
                    <a:pt x="543815" y="1232534"/>
                  </a:lnTo>
                  <a:lnTo>
                    <a:pt x="514858" y="1235964"/>
                  </a:lnTo>
                  <a:lnTo>
                    <a:pt x="485395" y="1238377"/>
                  </a:lnTo>
                  <a:lnTo>
                    <a:pt x="455423" y="1240282"/>
                  </a:lnTo>
                  <a:lnTo>
                    <a:pt x="395098" y="1242059"/>
                  </a:lnTo>
                  <a:lnTo>
                    <a:pt x="335027" y="1240282"/>
                  </a:lnTo>
                  <a:lnTo>
                    <a:pt x="305436" y="1238377"/>
                  </a:lnTo>
                  <a:lnTo>
                    <a:pt x="276606" y="1235964"/>
                  </a:lnTo>
                  <a:lnTo>
                    <a:pt x="248158" y="1232534"/>
                  </a:lnTo>
                  <a:lnTo>
                    <a:pt x="220599" y="1228471"/>
                  </a:lnTo>
                  <a:lnTo>
                    <a:pt x="194056" y="1223390"/>
                  </a:lnTo>
                  <a:lnTo>
                    <a:pt x="168783" y="1217803"/>
                  </a:lnTo>
                  <a:lnTo>
                    <a:pt x="144653" y="1211453"/>
                  </a:lnTo>
                  <a:lnTo>
                    <a:pt x="122048" y="1204214"/>
                  </a:lnTo>
                  <a:lnTo>
                    <a:pt x="101093" y="1196466"/>
                  </a:lnTo>
                  <a:lnTo>
                    <a:pt x="81915" y="1187830"/>
                  </a:lnTo>
                  <a:lnTo>
                    <a:pt x="64771" y="1178052"/>
                  </a:lnTo>
                  <a:lnTo>
                    <a:pt x="49149" y="1168019"/>
                  </a:lnTo>
                  <a:lnTo>
                    <a:pt x="36068" y="1157223"/>
                  </a:lnTo>
                  <a:lnTo>
                    <a:pt x="25400" y="1145540"/>
                  </a:lnTo>
                  <a:lnTo>
                    <a:pt x="21083" y="1140840"/>
                  </a:lnTo>
                  <a:lnTo>
                    <a:pt x="17273" y="1136903"/>
                  </a:lnTo>
                  <a:lnTo>
                    <a:pt x="10668" y="1130172"/>
                  </a:lnTo>
                  <a:lnTo>
                    <a:pt x="6350" y="1124711"/>
                  </a:lnTo>
                  <a:lnTo>
                    <a:pt x="3302" y="1119759"/>
                  </a:lnTo>
                  <a:lnTo>
                    <a:pt x="1652"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4" name="Freeform 20"/>
            <p:cNvSpPr/>
            <p:nvPr/>
          </p:nvSpPr>
          <p:spPr>
            <a:xfrm>
              <a:off x="1958040" y="251784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71" y="1115060"/>
                  </a:lnTo>
                  <a:lnTo>
                    <a:pt x="3811" y="1118869"/>
                  </a:lnTo>
                  <a:lnTo>
                    <a:pt x="5081" y="1123949"/>
                  </a:lnTo>
                  <a:lnTo>
                    <a:pt x="10161" y="1130299"/>
                  </a:lnTo>
                  <a:lnTo>
                    <a:pt x="16511" y="1136649"/>
                  </a:lnTo>
                  <a:lnTo>
                    <a:pt x="20321" y="1140460"/>
                  </a:lnTo>
                  <a:lnTo>
                    <a:pt x="25400" y="1145540"/>
                  </a:lnTo>
                  <a:lnTo>
                    <a:pt x="35561" y="1155699"/>
                  </a:lnTo>
                  <a:lnTo>
                    <a:pt x="48261" y="1167130"/>
                  </a:lnTo>
                  <a:lnTo>
                    <a:pt x="64771" y="1178560"/>
                  </a:lnTo>
                  <a:lnTo>
                    <a:pt x="80011" y="1187449"/>
                  </a:lnTo>
                  <a:lnTo>
                    <a:pt x="100331" y="1196340"/>
                  </a:lnTo>
                  <a:lnTo>
                    <a:pt x="120650" y="1203960"/>
                  </a:lnTo>
                  <a:lnTo>
                    <a:pt x="143511" y="1211580"/>
                  </a:lnTo>
                  <a:lnTo>
                    <a:pt x="167640" y="1217930"/>
                  </a:lnTo>
                  <a:lnTo>
                    <a:pt x="193040" y="1221740"/>
                  </a:lnTo>
                  <a:lnTo>
                    <a:pt x="219711" y="1228090"/>
                  </a:lnTo>
                  <a:lnTo>
                    <a:pt x="247650" y="1231899"/>
                  </a:lnTo>
                  <a:lnTo>
                    <a:pt x="275590" y="1235710"/>
                  </a:lnTo>
                  <a:lnTo>
                    <a:pt x="304800" y="1238249"/>
                  </a:lnTo>
                  <a:lnTo>
                    <a:pt x="334011" y="1239519"/>
                  </a:lnTo>
                  <a:lnTo>
                    <a:pt x="394971" y="1240790"/>
                  </a:lnTo>
                  <a:lnTo>
                    <a:pt x="454661" y="1239519"/>
                  </a:lnTo>
                  <a:lnTo>
                    <a:pt x="485140" y="1238249"/>
                  </a:lnTo>
                  <a:lnTo>
                    <a:pt x="514350" y="1235710"/>
                  </a:lnTo>
                  <a:lnTo>
                    <a:pt x="542290" y="1231899"/>
                  </a:lnTo>
                  <a:lnTo>
                    <a:pt x="571500" y="1228090"/>
                  </a:lnTo>
                  <a:lnTo>
                    <a:pt x="599440" y="1221740"/>
                  </a:lnTo>
                  <a:lnTo>
                    <a:pt x="626111" y="1217930"/>
                  </a:lnTo>
                  <a:lnTo>
                    <a:pt x="651511" y="1211580"/>
                  </a:lnTo>
                  <a:lnTo>
                    <a:pt x="674371" y="1203960"/>
                  </a:lnTo>
                  <a:lnTo>
                    <a:pt x="697231" y="1196340"/>
                  </a:lnTo>
                  <a:lnTo>
                    <a:pt x="718821" y="1187449"/>
                  </a:lnTo>
                  <a:lnTo>
                    <a:pt x="737871" y="1178560"/>
                  </a:lnTo>
                  <a:lnTo>
                    <a:pt x="755650" y="1167130"/>
                  </a:lnTo>
                  <a:lnTo>
                    <a:pt x="770890" y="1155699"/>
                  </a:lnTo>
                  <a:lnTo>
                    <a:pt x="783590" y="1145540"/>
                  </a:lnTo>
                  <a:lnTo>
                    <a:pt x="792481" y="1136649"/>
                  </a:lnTo>
                  <a:lnTo>
                    <a:pt x="797561" y="1129030"/>
                  </a:lnTo>
                  <a:lnTo>
                    <a:pt x="802640" y="1122680"/>
                  </a:lnTo>
                  <a:lnTo>
                    <a:pt x="805181" y="1115060"/>
                  </a:lnTo>
                  <a:lnTo>
                    <a:pt x="806450" y="1109980"/>
                  </a:lnTo>
                  <a:lnTo>
                    <a:pt x="807721"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Freeform 21"/>
            <p:cNvSpPr/>
            <p:nvPr/>
          </p:nvSpPr>
          <p:spPr>
            <a:xfrm>
              <a:off x="1957320" y="241452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6" h="206122">
                  <a:moveTo>
                    <a:pt x="659893" y="183008"/>
                  </a:moveTo>
                  <a:lnTo>
                    <a:pt x="627380" y="189103"/>
                  </a:lnTo>
                  <a:lnTo>
                    <a:pt x="592709" y="194183"/>
                  </a:lnTo>
                  <a:lnTo>
                    <a:pt x="556896" y="198248"/>
                  </a:lnTo>
                  <a:lnTo>
                    <a:pt x="519812" y="201677"/>
                  </a:lnTo>
                  <a:lnTo>
                    <a:pt x="481839" y="204217"/>
                  </a:lnTo>
                  <a:lnTo>
                    <a:pt x="443358" y="205487"/>
                  </a:lnTo>
                  <a:lnTo>
                    <a:pt x="404623" y="206121"/>
                  </a:lnTo>
                  <a:lnTo>
                    <a:pt x="365887" y="205487"/>
                  </a:lnTo>
                  <a:lnTo>
                    <a:pt x="327406" y="204217"/>
                  </a:lnTo>
                  <a:lnTo>
                    <a:pt x="289433" y="201677"/>
                  </a:lnTo>
                  <a:lnTo>
                    <a:pt x="252603" y="198248"/>
                  </a:lnTo>
                  <a:lnTo>
                    <a:pt x="216536" y="194183"/>
                  </a:lnTo>
                  <a:lnTo>
                    <a:pt x="182118" y="189103"/>
                  </a:lnTo>
                  <a:lnTo>
                    <a:pt x="149352" y="183008"/>
                  </a:lnTo>
                  <a:lnTo>
                    <a:pt x="118746" y="175768"/>
                  </a:lnTo>
                  <a:lnTo>
                    <a:pt x="104268" y="171831"/>
                  </a:lnTo>
                  <a:lnTo>
                    <a:pt x="90933" y="168021"/>
                  </a:lnTo>
                  <a:lnTo>
                    <a:pt x="78359" y="164084"/>
                  </a:lnTo>
                  <a:lnTo>
                    <a:pt x="66930" y="159640"/>
                  </a:lnTo>
                  <a:lnTo>
                    <a:pt x="56262" y="155449"/>
                  </a:lnTo>
                  <a:lnTo>
                    <a:pt x="46483" y="150749"/>
                  </a:lnTo>
                  <a:lnTo>
                    <a:pt x="29846" y="141605"/>
                  </a:lnTo>
                  <a:lnTo>
                    <a:pt x="17018" y="132334"/>
                  </a:lnTo>
                  <a:lnTo>
                    <a:pt x="7748" y="122683"/>
                  </a:lnTo>
                  <a:lnTo>
                    <a:pt x="2033" y="112903"/>
                  </a:lnTo>
                  <a:lnTo>
                    <a:pt x="0" y="103252"/>
                  </a:lnTo>
                  <a:lnTo>
                    <a:pt x="2033" y="93218"/>
                  </a:lnTo>
                  <a:lnTo>
                    <a:pt x="7748" y="83186"/>
                  </a:lnTo>
                  <a:lnTo>
                    <a:pt x="17018" y="73787"/>
                  </a:lnTo>
                  <a:lnTo>
                    <a:pt x="29846" y="64262"/>
                  </a:lnTo>
                  <a:lnTo>
                    <a:pt x="46483" y="55118"/>
                  </a:lnTo>
                  <a:lnTo>
                    <a:pt x="56262" y="50674"/>
                  </a:lnTo>
                  <a:lnTo>
                    <a:pt x="66930" y="46483"/>
                  </a:lnTo>
                  <a:lnTo>
                    <a:pt x="78359" y="42292"/>
                  </a:lnTo>
                  <a:lnTo>
                    <a:pt x="90933" y="38100"/>
                  </a:lnTo>
                  <a:lnTo>
                    <a:pt x="104268" y="34037"/>
                  </a:lnTo>
                  <a:lnTo>
                    <a:pt x="118746" y="30099"/>
                  </a:lnTo>
                  <a:lnTo>
                    <a:pt x="149352" y="23115"/>
                  </a:lnTo>
                  <a:lnTo>
                    <a:pt x="182118" y="17018"/>
                  </a:lnTo>
                  <a:lnTo>
                    <a:pt x="216536" y="12065"/>
                  </a:lnTo>
                  <a:lnTo>
                    <a:pt x="252603" y="7621"/>
                  </a:lnTo>
                  <a:lnTo>
                    <a:pt x="289433" y="4192"/>
                  </a:lnTo>
                  <a:lnTo>
                    <a:pt x="327406" y="2033"/>
                  </a:lnTo>
                  <a:lnTo>
                    <a:pt x="365887" y="636"/>
                  </a:lnTo>
                  <a:lnTo>
                    <a:pt x="404623" y="0"/>
                  </a:lnTo>
                  <a:lnTo>
                    <a:pt x="443358" y="636"/>
                  </a:lnTo>
                  <a:lnTo>
                    <a:pt x="481839" y="2033"/>
                  </a:lnTo>
                  <a:lnTo>
                    <a:pt x="519812" y="4192"/>
                  </a:lnTo>
                  <a:lnTo>
                    <a:pt x="556896" y="7621"/>
                  </a:lnTo>
                  <a:lnTo>
                    <a:pt x="592709" y="12065"/>
                  </a:lnTo>
                  <a:lnTo>
                    <a:pt x="627380" y="17018"/>
                  </a:lnTo>
                  <a:lnTo>
                    <a:pt x="659893" y="23115"/>
                  </a:lnTo>
                  <a:lnTo>
                    <a:pt x="690499" y="30099"/>
                  </a:lnTo>
                  <a:lnTo>
                    <a:pt x="705231" y="34037"/>
                  </a:lnTo>
                  <a:lnTo>
                    <a:pt x="718312" y="38100"/>
                  </a:lnTo>
                  <a:lnTo>
                    <a:pt x="730886" y="42292"/>
                  </a:lnTo>
                  <a:lnTo>
                    <a:pt x="742570" y="46483"/>
                  </a:lnTo>
                  <a:lnTo>
                    <a:pt x="752983" y="50674"/>
                  </a:lnTo>
                  <a:lnTo>
                    <a:pt x="762762" y="55118"/>
                  </a:lnTo>
                  <a:lnTo>
                    <a:pt x="779399" y="64262"/>
                  </a:lnTo>
                  <a:lnTo>
                    <a:pt x="792480" y="73787"/>
                  </a:lnTo>
                  <a:lnTo>
                    <a:pt x="801878" y="83186"/>
                  </a:lnTo>
                  <a:lnTo>
                    <a:pt x="807212" y="93218"/>
                  </a:lnTo>
                  <a:lnTo>
                    <a:pt x="809245" y="103252"/>
                  </a:lnTo>
                  <a:lnTo>
                    <a:pt x="807212" y="112903"/>
                  </a:lnTo>
                  <a:lnTo>
                    <a:pt x="801878" y="122683"/>
                  </a:lnTo>
                  <a:lnTo>
                    <a:pt x="792480" y="132334"/>
                  </a:lnTo>
                  <a:lnTo>
                    <a:pt x="779399" y="141605"/>
                  </a:lnTo>
                  <a:lnTo>
                    <a:pt x="762762" y="150749"/>
                  </a:lnTo>
                  <a:lnTo>
                    <a:pt x="752983" y="155449"/>
                  </a:lnTo>
                  <a:lnTo>
                    <a:pt x="742570" y="159640"/>
                  </a:lnTo>
                  <a:lnTo>
                    <a:pt x="730886" y="164084"/>
                  </a:lnTo>
                  <a:lnTo>
                    <a:pt x="718312"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Freeform 22"/>
            <p:cNvSpPr/>
            <p:nvPr/>
          </p:nvSpPr>
          <p:spPr>
            <a:xfrm>
              <a:off x="1958040" y="241524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1" y="175261"/>
                  </a:moveTo>
                  <a:lnTo>
                    <a:pt x="704850" y="171450"/>
                  </a:lnTo>
                  <a:lnTo>
                    <a:pt x="716281" y="167640"/>
                  </a:lnTo>
                  <a:lnTo>
                    <a:pt x="730250" y="163831"/>
                  </a:lnTo>
                  <a:lnTo>
                    <a:pt x="741681" y="158750"/>
                  </a:lnTo>
                  <a:lnTo>
                    <a:pt x="751840" y="154940"/>
                  </a:lnTo>
                  <a:lnTo>
                    <a:pt x="762000" y="149861"/>
                  </a:lnTo>
                  <a:lnTo>
                    <a:pt x="778511" y="139700"/>
                  </a:lnTo>
                  <a:lnTo>
                    <a:pt x="792481" y="132081"/>
                  </a:lnTo>
                  <a:lnTo>
                    <a:pt x="801371" y="121921"/>
                  </a:lnTo>
                  <a:lnTo>
                    <a:pt x="806450" y="111761"/>
                  </a:lnTo>
                  <a:lnTo>
                    <a:pt x="808990" y="102871"/>
                  </a:lnTo>
                  <a:lnTo>
                    <a:pt x="806450" y="92711"/>
                  </a:lnTo>
                  <a:lnTo>
                    <a:pt x="801371" y="82550"/>
                  </a:lnTo>
                  <a:lnTo>
                    <a:pt x="792481" y="73661"/>
                  </a:lnTo>
                  <a:lnTo>
                    <a:pt x="778511" y="63500"/>
                  </a:lnTo>
                  <a:lnTo>
                    <a:pt x="762000" y="54611"/>
                  </a:lnTo>
                  <a:lnTo>
                    <a:pt x="751840" y="49531"/>
                  </a:lnTo>
                  <a:lnTo>
                    <a:pt x="741681" y="45721"/>
                  </a:lnTo>
                  <a:lnTo>
                    <a:pt x="730250" y="41911"/>
                  </a:lnTo>
                  <a:lnTo>
                    <a:pt x="716281" y="36831"/>
                  </a:lnTo>
                  <a:lnTo>
                    <a:pt x="704850" y="33021"/>
                  </a:lnTo>
                  <a:lnTo>
                    <a:pt x="689611" y="29211"/>
                  </a:lnTo>
                  <a:lnTo>
                    <a:pt x="657861" y="22861"/>
                  </a:lnTo>
                  <a:lnTo>
                    <a:pt x="626111" y="16511"/>
                  </a:lnTo>
                  <a:lnTo>
                    <a:pt x="593090" y="10161"/>
                  </a:lnTo>
                  <a:lnTo>
                    <a:pt x="556261" y="7621"/>
                  </a:lnTo>
                  <a:lnTo>
                    <a:pt x="519431" y="3811"/>
                  </a:lnTo>
                  <a:lnTo>
                    <a:pt x="481331" y="1271"/>
                  </a:lnTo>
                  <a:lnTo>
                    <a:pt x="441961" y="0"/>
                  </a:lnTo>
                  <a:lnTo>
                    <a:pt x="403861" y="0"/>
                  </a:lnTo>
                  <a:lnTo>
                    <a:pt x="365761" y="0"/>
                  </a:lnTo>
                  <a:lnTo>
                    <a:pt x="326390" y="1271"/>
                  </a:lnTo>
                  <a:lnTo>
                    <a:pt x="289561" y="3811"/>
                  </a:lnTo>
                  <a:lnTo>
                    <a:pt x="252731" y="7621"/>
                  </a:lnTo>
                  <a:lnTo>
                    <a:pt x="215900" y="10161"/>
                  </a:lnTo>
                  <a:lnTo>
                    <a:pt x="181611" y="16511"/>
                  </a:lnTo>
                  <a:lnTo>
                    <a:pt x="148590" y="22861"/>
                  </a:lnTo>
                  <a:lnTo>
                    <a:pt x="116840" y="29211"/>
                  </a:lnTo>
                  <a:lnTo>
                    <a:pt x="102871" y="33021"/>
                  </a:lnTo>
                  <a:lnTo>
                    <a:pt x="90171" y="36831"/>
                  </a:lnTo>
                  <a:lnTo>
                    <a:pt x="77471" y="41911"/>
                  </a:lnTo>
                  <a:lnTo>
                    <a:pt x="66040" y="45721"/>
                  </a:lnTo>
                  <a:lnTo>
                    <a:pt x="54611" y="49531"/>
                  </a:lnTo>
                  <a:lnTo>
                    <a:pt x="45721" y="54611"/>
                  </a:lnTo>
                  <a:lnTo>
                    <a:pt x="29211" y="63500"/>
                  </a:lnTo>
                  <a:lnTo>
                    <a:pt x="16511" y="73661"/>
                  </a:lnTo>
                  <a:lnTo>
                    <a:pt x="7621" y="82550"/>
                  </a:lnTo>
                  <a:lnTo>
                    <a:pt x="1271" y="92711"/>
                  </a:lnTo>
                  <a:lnTo>
                    <a:pt x="0" y="102871"/>
                  </a:lnTo>
                  <a:lnTo>
                    <a:pt x="1271" y="111761"/>
                  </a:lnTo>
                  <a:lnTo>
                    <a:pt x="7621" y="121921"/>
                  </a:lnTo>
                  <a:lnTo>
                    <a:pt x="16511" y="132081"/>
                  </a:lnTo>
                  <a:lnTo>
                    <a:pt x="29211" y="139700"/>
                  </a:lnTo>
                  <a:lnTo>
                    <a:pt x="45721" y="149861"/>
                  </a:lnTo>
                  <a:lnTo>
                    <a:pt x="54611" y="154940"/>
                  </a:lnTo>
                  <a:lnTo>
                    <a:pt x="66040" y="158750"/>
                  </a:lnTo>
                  <a:lnTo>
                    <a:pt x="77471" y="163831"/>
                  </a:lnTo>
                  <a:lnTo>
                    <a:pt x="90171" y="167640"/>
                  </a:lnTo>
                  <a:lnTo>
                    <a:pt x="102871" y="171450"/>
                  </a:lnTo>
                  <a:lnTo>
                    <a:pt x="116840" y="175261"/>
                  </a:lnTo>
                  <a:lnTo>
                    <a:pt x="148590" y="181611"/>
                  </a:lnTo>
                  <a:lnTo>
                    <a:pt x="181611" y="187961"/>
                  </a:lnTo>
                  <a:lnTo>
                    <a:pt x="215900" y="193040"/>
                  </a:lnTo>
                  <a:lnTo>
                    <a:pt x="252731" y="198121"/>
                  </a:lnTo>
                  <a:lnTo>
                    <a:pt x="289561" y="200661"/>
                  </a:lnTo>
                  <a:lnTo>
                    <a:pt x="326390" y="204471"/>
                  </a:lnTo>
                  <a:lnTo>
                    <a:pt x="365761" y="204471"/>
                  </a:lnTo>
                  <a:lnTo>
                    <a:pt x="403861" y="205740"/>
                  </a:lnTo>
                  <a:lnTo>
                    <a:pt x="441961" y="204471"/>
                  </a:lnTo>
                  <a:lnTo>
                    <a:pt x="481331" y="204471"/>
                  </a:lnTo>
                  <a:lnTo>
                    <a:pt x="519431" y="200661"/>
                  </a:lnTo>
                  <a:lnTo>
                    <a:pt x="556261" y="198121"/>
                  </a:lnTo>
                  <a:lnTo>
                    <a:pt x="593090" y="193040"/>
                  </a:lnTo>
                  <a:lnTo>
                    <a:pt x="626111" y="187961"/>
                  </a:lnTo>
                  <a:lnTo>
                    <a:pt x="657861"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Freeform 23"/>
            <p:cNvSpPr/>
            <p:nvPr/>
          </p:nvSpPr>
          <p:spPr>
            <a:xfrm>
              <a:off x="1985040" y="258840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0" h="1127507">
                  <a:moveTo>
                    <a:pt x="26797" y="11303"/>
                  </a:moveTo>
                  <a:lnTo>
                    <a:pt x="45974" y="17525"/>
                  </a:lnTo>
                  <a:lnTo>
                    <a:pt x="65912" y="23368"/>
                  </a:lnTo>
                  <a:lnTo>
                    <a:pt x="87122" y="28828"/>
                  </a:lnTo>
                  <a:lnTo>
                    <a:pt x="109600" y="34162"/>
                  </a:lnTo>
                  <a:lnTo>
                    <a:pt x="132715" y="38607"/>
                  </a:lnTo>
                  <a:lnTo>
                    <a:pt x="157099" y="42799"/>
                  </a:lnTo>
                  <a:lnTo>
                    <a:pt x="181990" y="46609"/>
                  </a:lnTo>
                  <a:lnTo>
                    <a:pt x="207518" y="50037"/>
                  </a:lnTo>
                  <a:lnTo>
                    <a:pt x="233806" y="52578"/>
                  </a:lnTo>
                  <a:lnTo>
                    <a:pt x="287528" y="57277"/>
                  </a:lnTo>
                  <a:lnTo>
                    <a:pt x="342391" y="60071"/>
                  </a:lnTo>
                  <a:lnTo>
                    <a:pt x="397382" y="60832"/>
                  </a:lnTo>
                  <a:lnTo>
                    <a:pt x="452119" y="60071"/>
                  </a:lnTo>
                  <a:lnTo>
                    <a:pt x="505332" y="57022"/>
                  </a:lnTo>
                  <a:lnTo>
                    <a:pt x="531368" y="55118"/>
                  </a:lnTo>
                  <a:lnTo>
                    <a:pt x="556768" y="52578"/>
                  </a:lnTo>
                  <a:lnTo>
                    <a:pt x="581278" y="49403"/>
                  </a:lnTo>
                  <a:lnTo>
                    <a:pt x="605409" y="45847"/>
                  </a:lnTo>
                  <a:lnTo>
                    <a:pt x="628269" y="41909"/>
                  </a:lnTo>
                  <a:lnTo>
                    <a:pt x="650112" y="37591"/>
                  </a:lnTo>
                  <a:lnTo>
                    <a:pt x="670813" y="32512"/>
                  </a:lnTo>
                  <a:lnTo>
                    <a:pt x="690499" y="26924"/>
                  </a:lnTo>
                  <a:lnTo>
                    <a:pt x="708787" y="21209"/>
                  </a:lnTo>
                  <a:lnTo>
                    <a:pt x="725678" y="14731"/>
                  </a:lnTo>
                  <a:lnTo>
                    <a:pt x="741299" y="7493"/>
                  </a:lnTo>
                  <a:lnTo>
                    <a:pt x="755269" y="0"/>
                  </a:lnTo>
                  <a:lnTo>
                    <a:pt x="755269" y="1016126"/>
                  </a:lnTo>
                  <a:lnTo>
                    <a:pt x="737107" y="1030732"/>
                  </a:lnTo>
                  <a:lnTo>
                    <a:pt x="717803" y="1044447"/>
                  </a:lnTo>
                  <a:lnTo>
                    <a:pt x="697356" y="1057147"/>
                  </a:lnTo>
                  <a:lnTo>
                    <a:pt x="675766" y="1068577"/>
                  </a:lnTo>
                  <a:lnTo>
                    <a:pt x="653415" y="1078864"/>
                  </a:lnTo>
                  <a:lnTo>
                    <a:pt x="629919" y="1088263"/>
                  </a:lnTo>
                  <a:lnTo>
                    <a:pt x="605409" y="1096645"/>
                  </a:lnTo>
                  <a:lnTo>
                    <a:pt x="580516" y="1103630"/>
                  </a:lnTo>
                  <a:lnTo>
                    <a:pt x="554609" y="1109980"/>
                  </a:lnTo>
                  <a:lnTo>
                    <a:pt x="528319" y="1115059"/>
                  </a:lnTo>
                  <a:lnTo>
                    <a:pt x="501522" y="1119505"/>
                  </a:lnTo>
                  <a:lnTo>
                    <a:pt x="474344" y="1122807"/>
                  </a:lnTo>
                  <a:lnTo>
                    <a:pt x="447040" y="1125346"/>
                  </a:lnTo>
                  <a:lnTo>
                    <a:pt x="419481" y="1126744"/>
                  </a:lnTo>
                  <a:lnTo>
                    <a:pt x="364235" y="1127506"/>
                  </a:lnTo>
                  <a:lnTo>
                    <a:pt x="309372" y="1124965"/>
                  </a:lnTo>
                  <a:lnTo>
                    <a:pt x="282447" y="1122171"/>
                  </a:lnTo>
                  <a:lnTo>
                    <a:pt x="255650" y="1119251"/>
                  </a:lnTo>
                  <a:lnTo>
                    <a:pt x="229362" y="1115059"/>
                  </a:lnTo>
                  <a:lnTo>
                    <a:pt x="204088" y="1110233"/>
                  </a:lnTo>
                  <a:lnTo>
                    <a:pt x="178943" y="1105026"/>
                  </a:lnTo>
                  <a:lnTo>
                    <a:pt x="154812" y="1098931"/>
                  </a:lnTo>
                  <a:lnTo>
                    <a:pt x="131699" y="1092200"/>
                  </a:lnTo>
                  <a:lnTo>
                    <a:pt x="109219" y="1084960"/>
                  </a:lnTo>
                  <a:lnTo>
                    <a:pt x="87756" y="1077214"/>
                  </a:lnTo>
                  <a:lnTo>
                    <a:pt x="67818" y="1068577"/>
                  </a:lnTo>
                  <a:lnTo>
                    <a:pt x="48640" y="1059688"/>
                  </a:lnTo>
                  <a:lnTo>
                    <a:pt x="31241" y="1050163"/>
                  </a:lnTo>
                  <a:lnTo>
                    <a:pt x="14859"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8" name="Freeform 24"/>
            <p:cNvSpPr/>
            <p:nvPr/>
          </p:nvSpPr>
          <p:spPr>
            <a:xfrm>
              <a:off x="2674440" y="283896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2">
                  <a:moveTo>
                    <a:pt x="10415" y="65405"/>
                  </a:moveTo>
                  <a:lnTo>
                    <a:pt x="16637" y="54990"/>
                  </a:lnTo>
                  <a:lnTo>
                    <a:pt x="25147" y="44196"/>
                  </a:lnTo>
                  <a:lnTo>
                    <a:pt x="34672" y="34290"/>
                  </a:lnTo>
                  <a:lnTo>
                    <a:pt x="45340" y="24511"/>
                  </a:lnTo>
                  <a:lnTo>
                    <a:pt x="57024" y="15875"/>
                  </a:lnTo>
                  <a:lnTo>
                    <a:pt x="68834" y="8636"/>
                  </a:lnTo>
                  <a:lnTo>
                    <a:pt x="80772" y="3302"/>
                  </a:lnTo>
                  <a:lnTo>
                    <a:pt x="92584" y="0"/>
                  </a:lnTo>
                  <a:lnTo>
                    <a:pt x="105918" y="508"/>
                  </a:lnTo>
                  <a:lnTo>
                    <a:pt x="120397" y="1143"/>
                  </a:lnTo>
                  <a:lnTo>
                    <a:pt x="151258" y="3683"/>
                  </a:lnTo>
                  <a:lnTo>
                    <a:pt x="182627" y="8000"/>
                  </a:lnTo>
                  <a:lnTo>
                    <a:pt x="214631" y="14478"/>
                  </a:lnTo>
                  <a:lnTo>
                    <a:pt x="230125" y="18668"/>
                  </a:lnTo>
                  <a:lnTo>
                    <a:pt x="244856" y="23621"/>
                  </a:lnTo>
                  <a:lnTo>
                    <a:pt x="259334" y="29209"/>
                  </a:lnTo>
                  <a:lnTo>
                    <a:pt x="272797" y="35687"/>
                  </a:lnTo>
                  <a:lnTo>
                    <a:pt x="285243" y="42799"/>
                  </a:lnTo>
                  <a:lnTo>
                    <a:pt x="297053" y="50800"/>
                  </a:lnTo>
                  <a:lnTo>
                    <a:pt x="307087" y="60071"/>
                  </a:lnTo>
                  <a:lnTo>
                    <a:pt x="315850" y="70103"/>
                  </a:lnTo>
                  <a:lnTo>
                    <a:pt x="323469" y="84581"/>
                  </a:lnTo>
                  <a:lnTo>
                    <a:pt x="330581" y="100965"/>
                  </a:lnTo>
                  <a:lnTo>
                    <a:pt x="337440" y="118744"/>
                  </a:lnTo>
                  <a:lnTo>
                    <a:pt x="343790" y="137921"/>
                  </a:lnTo>
                  <a:lnTo>
                    <a:pt x="349505" y="158496"/>
                  </a:lnTo>
                  <a:lnTo>
                    <a:pt x="354584" y="180212"/>
                  </a:lnTo>
                  <a:lnTo>
                    <a:pt x="359537" y="203200"/>
                  </a:lnTo>
                  <a:lnTo>
                    <a:pt x="363856" y="226821"/>
                  </a:lnTo>
                  <a:lnTo>
                    <a:pt x="367665" y="251587"/>
                  </a:lnTo>
                  <a:lnTo>
                    <a:pt x="371222" y="276859"/>
                  </a:lnTo>
                  <a:lnTo>
                    <a:pt x="376428" y="329184"/>
                  </a:lnTo>
                  <a:lnTo>
                    <a:pt x="379222" y="382524"/>
                  </a:lnTo>
                  <a:lnTo>
                    <a:pt x="379984" y="436245"/>
                  </a:lnTo>
                  <a:lnTo>
                    <a:pt x="378460" y="489331"/>
                  </a:lnTo>
                  <a:lnTo>
                    <a:pt x="376809" y="515112"/>
                  </a:lnTo>
                  <a:lnTo>
                    <a:pt x="374269" y="540384"/>
                  </a:lnTo>
                  <a:lnTo>
                    <a:pt x="371222" y="565150"/>
                  </a:lnTo>
                  <a:lnTo>
                    <a:pt x="367665" y="589152"/>
                  </a:lnTo>
                  <a:lnTo>
                    <a:pt x="363347" y="612139"/>
                  </a:lnTo>
                  <a:lnTo>
                    <a:pt x="358522" y="633857"/>
                  </a:lnTo>
                  <a:lnTo>
                    <a:pt x="352680" y="654684"/>
                  </a:lnTo>
                  <a:lnTo>
                    <a:pt x="346456" y="673862"/>
                  </a:lnTo>
                  <a:lnTo>
                    <a:pt x="339344" y="692276"/>
                  </a:lnTo>
                  <a:lnTo>
                    <a:pt x="331725" y="708278"/>
                  </a:lnTo>
                  <a:lnTo>
                    <a:pt x="323215" y="723011"/>
                  </a:lnTo>
                  <a:lnTo>
                    <a:pt x="313944" y="736472"/>
                  </a:lnTo>
                  <a:lnTo>
                    <a:pt x="304165" y="747268"/>
                  </a:lnTo>
                  <a:lnTo>
                    <a:pt x="293116" y="756157"/>
                  </a:lnTo>
                  <a:lnTo>
                    <a:pt x="285750" y="758316"/>
                  </a:lnTo>
                  <a:lnTo>
                    <a:pt x="277622" y="760349"/>
                  </a:lnTo>
                  <a:lnTo>
                    <a:pt x="259843" y="763143"/>
                  </a:lnTo>
                  <a:lnTo>
                    <a:pt x="239903" y="764794"/>
                  </a:lnTo>
                  <a:lnTo>
                    <a:pt x="218694" y="765301"/>
                  </a:lnTo>
                  <a:lnTo>
                    <a:pt x="196088" y="764794"/>
                  </a:lnTo>
                  <a:lnTo>
                    <a:pt x="173356" y="763143"/>
                  </a:lnTo>
                  <a:lnTo>
                    <a:pt x="150115" y="760857"/>
                  </a:lnTo>
                  <a:lnTo>
                    <a:pt x="127509" y="758189"/>
                  </a:lnTo>
                  <a:lnTo>
                    <a:pt x="105665" y="754507"/>
                  </a:lnTo>
                  <a:lnTo>
                    <a:pt x="85218" y="750315"/>
                  </a:lnTo>
                  <a:lnTo>
                    <a:pt x="66549" y="745489"/>
                  </a:lnTo>
                  <a:lnTo>
                    <a:pt x="50293" y="741171"/>
                  </a:lnTo>
                  <a:lnTo>
                    <a:pt x="36577" y="736091"/>
                  </a:lnTo>
                  <a:lnTo>
                    <a:pt x="26162" y="730884"/>
                  </a:lnTo>
                  <a:lnTo>
                    <a:pt x="19178" y="725805"/>
                  </a:lnTo>
                  <a:lnTo>
                    <a:pt x="17146" y="723011"/>
                  </a:lnTo>
                  <a:lnTo>
                    <a:pt x="16384" y="720597"/>
                  </a:lnTo>
                  <a:lnTo>
                    <a:pt x="16384" y="669416"/>
                  </a:lnTo>
                  <a:lnTo>
                    <a:pt x="15368" y="660272"/>
                  </a:lnTo>
                  <a:lnTo>
                    <a:pt x="14733" y="651637"/>
                  </a:lnTo>
                  <a:lnTo>
                    <a:pt x="14733" y="643889"/>
                  </a:lnTo>
                  <a:lnTo>
                    <a:pt x="15622" y="636651"/>
                  </a:lnTo>
                  <a:lnTo>
                    <a:pt x="17146" y="629920"/>
                  </a:lnTo>
                  <a:lnTo>
                    <a:pt x="19178" y="623824"/>
                  </a:lnTo>
                  <a:lnTo>
                    <a:pt x="21844" y="618236"/>
                  </a:lnTo>
                  <a:lnTo>
                    <a:pt x="24893" y="613282"/>
                  </a:lnTo>
                  <a:lnTo>
                    <a:pt x="28703" y="608838"/>
                  </a:lnTo>
                  <a:lnTo>
                    <a:pt x="32766" y="604901"/>
                  </a:lnTo>
                  <a:lnTo>
                    <a:pt x="42672" y="598805"/>
                  </a:lnTo>
                  <a:lnTo>
                    <a:pt x="54103" y="594614"/>
                  </a:lnTo>
                  <a:lnTo>
                    <a:pt x="67184" y="592074"/>
                  </a:lnTo>
                  <a:lnTo>
                    <a:pt x="73787" y="592708"/>
                  </a:lnTo>
                  <a:lnTo>
                    <a:pt x="80010" y="594106"/>
                  </a:lnTo>
                  <a:lnTo>
                    <a:pt x="85472" y="596645"/>
                  </a:lnTo>
                  <a:lnTo>
                    <a:pt x="90933" y="599947"/>
                  </a:lnTo>
                  <a:lnTo>
                    <a:pt x="100458" y="608583"/>
                  </a:lnTo>
                  <a:lnTo>
                    <a:pt x="109728" y="618870"/>
                  </a:lnTo>
                  <a:lnTo>
                    <a:pt x="119634" y="629665"/>
                  </a:lnTo>
                  <a:lnTo>
                    <a:pt x="130175" y="640207"/>
                  </a:lnTo>
                  <a:lnTo>
                    <a:pt x="136525" y="644651"/>
                  </a:lnTo>
                  <a:lnTo>
                    <a:pt x="143130" y="649096"/>
                  </a:lnTo>
                  <a:lnTo>
                    <a:pt x="150496" y="652780"/>
                  </a:lnTo>
                  <a:lnTo>
                    <a:pt x="158624" y="655574"/>
                  </a:lnTo>
                  <a:lnTo>
                    <a:pt x="167387" y="657478"/>
                  </a:lnTo>
                  <a:lnTo>
                    <a:pt x="176403" y="658876"/>
                  </a:lnTo>
                  <a:lnTo>
                    <a:pt x="194946" y="658876"/>
                  </a:lnTo>
                  <a:lnTo>
                    <a:pt x="213487" y="656336"/>
                  </a:lnTo>
                  <a:lnTo>
                    <a:pt x="231522" y="651001"/>
                  </a:lnTo>
                  <a:lnTo>
                    <a:pt x="239903" y="647445"/>
                  </a:lnTo>
                  <a:lnTo>
                    <a:pt x="247650" y="643508"/>
                  </a:lnTo>
                  <a:lnTo>
                    <a:pt x="255016" y="638809"/>
                  </a:lnTo>
                  <a:lnTo>
                    <a:pt x="261875" y="633857"/>
                  </a:lnTo>
                  <a:lnTo>
                    <a:pt x="267843" y="628522"/>
                  </a:lnTo>
                  <a:lnTo>
                    <a:pt x="272797" y="622681"/>
                  </a:lnTo>
                  <a:lnTo>
                    <a:pt x="276860" y="616331"/>
                  </a:lnTo>
                  <a:lnTo>
                    <a:pt x="280162" y="609600"/>
                  </a:lnTo>
                  <a:lnTo>
                    <a:pt x="284227" y="597153"/>
                  </a:lnTo>
                  <a:lnTo>
                    <a:pt x="287783" y="582676"/>
                  </a:lnTo>
                  <a:lnTo>
                    <a:pt x="290703" y="567055"/>
                  </a:lnTo>
                  <a:lnTo>
                    <a:pt x="293116" y="550418"/>
                  </a:lnTo>
                  <a:lnTo>
                    <a:pt x="294894" y="532891"/>
                  </a:lnTo>
                  <a:lnTo>
                    <a:pt x="295910" y="514603"/>
                  </a:lnTo>
                  <a:lnTo>
                    <a:pt x="296546" y="495426"/>
                  </a:lnTo>
                  <a:lnTo>
                    <a:pt x="296546" y="475361"/>
                  </a:lnTo>
                  <a:lnTo>
                    <a:pt x="295910" y="454532"/>
                  </a:lnTo>
                  <a:lnTo>
                    <a:pt x="294513" y="433705"/>
                  </a:lnTo>
                  <a:lnTo>
                    <a:pt x="290196" y="391159"/>
                  </a:lnTo>
                  <a:lnTo>
                    <a:pt x="283337" y="348106"/>
                  </a:lnTo>
                  <a:lnTo>
                    <a:pt x="274447" y="305815"/>
                  </a:lnTo>
                  <a:lnTo>
                    <a:pt x="268859" y="285241"/>
                  </a:lnTo>
                  <a:lnTo>
                    <a:pt x="262890" y="264921"/>
                  </a:lnTo>
                  <a:lnTo>
                    <a:pt x="256287" y="245490"/>
                  </a:lnTo>
                  <a:lnTo>
                    <a:pt x="248921" y="226821"/>
                  </a:lnTo>
                  <a:lnTo>
                    <a:pt x="241300" y="208787"/>
                  </a:lnTo>
                  <a:lnTo>
                    <a:pt x="232918" y="191896"/>
                  </a:lnTo>
                  <a:lnTo>
                    <a:pt x="224156" y="176021"/>
                  </a:lnTo>
                  <a:lnTo>
                    <a:pt x="214631" y="161797"/>
                  </a:lnTo>
                  <a:lnTo>
                    <a:pt x="204216" y="148462"/>
                  </a:lnTo>
                  <a:lnTo>
                    <a:pt x="193803" y="136778"/>
                  </a:lnTo>
                  <a:lnTo>
                    <a:pt x="182372" y="126491"/>
                  </a:lnTo>
                  <a:lnTo>
                    <a:pt x="170562" y="117856"/>
                  </a:lnTo>
                  <a:lnTo>
                    <a:pt x="158115" y="111252"/>
                  </a:lnTo>
                  <a:lnTo>
                    <a:pt x="145288" y="106425"/>
                  </a:lnTo>
                  <a:lnTo>
                    <a:pt x="131827" y="103759"/>
                  </a:lnTo>
                  <a:lnTo>
                    <a:pt x="117603" y="103124"/>
                  </a:lnTo>
                  <a:lnTo>
                    <a:pt x="110237" y="102108"/>
                  </a:lnTo>
                  <a:lnTo>
                    <a:pt x="103759" y="103124"/>
                  </a:lnTo>
                  <a:lnTo>
                    <a:pt x="97537" y="105918"/>
                  </a:lnTo>
                  <a:lnTo>
                    <a:pt x="91694" y="110109"/>
                  </a:lnTo>
                  <a:lnTo>
                    <a:pt x="86360" y="115950"/>
                  </a:lnTo>
                  <a:lnTo>
                    <a:pt x="81153" y="122681"/>
                  </a:lnTo>
                  <a:lnTo>
                    <a:pt x="70740" y="137413"/>
                  </a:lnTo>
                  <a:lnTo>
                    <a:pt x="60072" y="152653"/>
                  </a:lnTo>
                  <a:lnTo>
                    <a:pt x="54103" y="160146"/>
                  </a:lnTo>
                  <a:lnTo>
                    <a:pt x="48006" y="166750"/>
                  </a:lnTo>
                  <a:lnTo>
                    <a:pt x="40894" y="172084"/>
                  </a:lnTo>
                  <a:lnTo>
                    <a:pt x="33528" y="176530"/>
                  </a:lnTo>
                  <a:lnTo>
                    <a:pt x="25400" y="179324"/>
                  </a:lnTo>
                  <a:lnTo>
                    <a:pt x="16384" y="180212"/>
                  </a:lnTo>
                  <a:lnTo>
                    <a:pt x="10668" y="165988"/>
                  </a:lnTo>
                  <a:lnTo>
                    <a:pt x="5715" y="151765"/>
                  </a:lnTo>
                  <a:lnTo>
                    <a:pt x="2413" y="137413"/>
                  </a:lnTo>
                  <a:lnTo>
                    <a:pt x="255" y="122681"/>
                  </a:lnTo>
                  <a:lnTo>
                    <a:pt x="0" y="107822"/>
                  </a:lnTo>
                  <a:lnTo>
                    <a:pt x="1652" y="93471"/>
                  </a:lnTo>
                  <a:lnTo>
                    <a:pt x="4953"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9" name="Freeform 25"/>
            <p:cNvSpPr/>
            <p:nvPr/>
          </p:nvSpPr>
          <p:spPr>
            <a:xfrm>
              <a:off x="2674440" y="283788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19"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69" y="20320"/>
                  </a:lnTo>
                  <a:lnTo>
                    <a:pt x="245109" y="24129"/>
                  </a:lnTo>
                  <a:lnTo>
                    <a:pt x="260350" y="29210"/>
                  </a:lnTo>
                  <a:lnTo>
                    <a:pt x="273050" y="36829"/>
                  </a:lnTo>
                  <a:lnTo>
                    <a:pt x="285750" y="43179"/>
                  </a:lnTo>
                  <a:lnTo>
                    <a:pt x="297180" y="52070"/>
                  </a:lnTo>
                  <a:lnTo>
                    <a:pt x="307340" y="60960"/>
                  </a:lnTo>
                  <a:lnTo>
                    <a:pt x="316230" y="69850"/>
                  </a:lnTo>
                  <a:lnTo>
                    <a:pt x="323850" y="85089"/>
                  </a:lnTo>
                  <a:lnTo>
                    <a:pt x="330200" y="101600"/>
                  </a:lnTo>
                  <a:lnTo>
                    <a:pt x="337819" y="119379"/>
                  </a:lnTo>
                  <a:lnTo>
                    <a:pt x="342900" y="139700"/>
                  </a:lnTo>
                  <a:lnTo>
                    <a:pt x="349250" y="160020"/>
                  </a:lnTo>
                  <a:lnTo>
                    <a:pt x="354330" y="180339"/>
                  </a:lnTo>
                  <a:lnTo>
                    <a:pt x="359409" y="204470"/>
                  </a:lnTo>
                  <a:lnTo>
                    <a:pt x="364490" y="228600"/>
                  </a:lnTo>
                  <a:lnTo>
                    <a:pt x="368300" y="251460"/>
                  </a:lnTo>
                  <a:lnTo>
                    <a:pt x="372109" y="278129"/>
                  </a:lnTo>
                  <a:lnTo>
                    <a:pt x="375919" y="330200"/>
                  </a:lnTo>
                  <a:lnTo>
                    <a:pt x="378459" y="382270"/>
                  </a:lnTo>
                  <a:lnTo>
                    <a:pt x="379730" y="436879"/>
                  </a:lnTo>
                  <a:lnTo>
                    <a:pt x="378459" y="488950"/>
                  </a:lnTo>
                  <a:lnTo>
                    <a:pt x="375919" y="516890"/>
                  </a:lnTo>
                  <a:lnTo>
                    <a:pt x="374650" y="542290"/>
                  </a:lnTo>
                  <a:lnTo>
                    <a:pt x="372109" y="566420"/>
                  </a:lnTo>
                  <a:lnTo>
                    <a:pt x="368300" y="589279"/>
                  </a:lnTo>
                  <a:lnTo>
                    <a:pt x="364490" y="612140"/>
                  </a:lnTo>
                  <a:lnTo>
                    <a:pt x="358140" y="635000"/>
                  </a:lnTo>
                  <a:lnTo>
                    <a:pt x="353059" y="655320"/>
                  </a:lnTo>
                  <a:lnTo>
                    <a:pt x="346709" y="674370"/>
                  </a:lnTo>
                  <a:lnTo>
                    <a:pt x="339090" y="692150"/>
                  </a:lnTo>
                  <a:lnTo>
                    <a:pt x="332740" y="709929"/>
                  </a:lnTo>
                  <a:lnTo>
                    <a:pt x="323850" y="723900"/>
                  </a:lnTo>
                  <a:lnTo>
                    <a:pt x="313690" y="736600"/>
                  </a:lnTo>
                  <a:lnTo>
                    <a:pt x="303530" y="748029"/>
                  </a:lnTo>
                  <a:lnTo>
                    <a:pt x="292100" y="756920"/>
                  </a:lnTo>
                  <a:lnTo>
                    <a:pt x="285750" y="758190"/>
                  </a:lnTo>
                  <a:lnTo>
                    <a:pt x="278130" y="762000"/>
                  </a:lnTo>
                  <a:lnTo>
                    <a:pt x="260350" y="764540"/>
                  </a:lnTo>
                  <a:lnTo>
                    <a:pt x="240030" y="765809"/>
                  </a:lnTo>
                  <a:lnTo>
                    <a:pt x="218440" y="765809"/>
                  </a:lnTo>
                  <a:lnTo>
                    <a:pt x="195580" y="765809"/>
                  </a:lnTo>
                  <a:lnTo>
                    <a:pt x="172719" y="764540"/>
                  </a:lnTo>
                  <a:lnTo>
                    <a:pt x="149859" y="762000"/>
                  </a:lnTo>
                  <a:lnTo>
                    <a:pt x="127000" y="758190"/>
                  </a:lnTo>
                  <a:lnTo>
                    <a:pt x="105409" y="755650"/>
                  </a:lnTo>
                  <a:lnTo>
                    <a:pt x="85090" y="751840"/>
                  </a:lnTo>
                  <a:lnTo>
                    <a:pt x="67309" y="746759"/>
                  </a:lnTo>
                  <a:lnTo>
                    <a:pt x="50800" y="742950"/>
                  </a:lnTo>
                  <a:lnTo>
                    <a:pt x="35559" y="736600"/>
                  </a:lnTo>
                  <a:lnTo>
                    <a:pt x="25400" y="732790"/>
                  </a:lnTo>
                  <a:lnTo>
                    <a:pt x="19050" y="726440"/>
                  </a:lnTo>
                  <a:lnTo>
                    <a:pt x="17780" y="723900"/>
                  </a:lnTo>
                  <a:lnTo>
                    <a:pt x="16509" y="721359"/>
                  </a:lnTo>
                  <a:lnTo>
                    <a:pt x="16509" y="670559"/>
                  </a:lnTo>
                  <a:lnTo>
                    <a:pt x="15240" y="661670"/>
                  </a:lnTo>
                  <a:lnTo>
                    <a:pt x="13969" y="651509"/>
                  </a:lnTo>
                  <a:lnTo>
                    <a:pt x="13969" y="645159"/>
                  </a:lnTo>
                  <a:lnTo>
                    <a:pt x="15240" y="637540"/>
                  </a:lnTo>
                  <a:lnTo>
                    <a:pt x="17780" y="631190"/>
                  </a:lnTo>
                  <a:lnTo>
                    <a:pt x="19050" y="624840"/>
                  </a:lnTo>
                  <a:lnTo>
                    <a:pt x="21590" y="618490"/>
                  </a:lnTo>
                  <a:lnTo>
                    <a:pt x="25400" y="614679"/>
                  </a:lnTo>
                  <a:lnTo>
                    <a:pt x="29209" y="609600"/>
                  </a:lnTo>
                  <a:lnTo>
                    <a:pt x="31750" y="607059"/>
                  </a:lnTo>
                  <a:lnTo>
                    <a:pt x="43180" y="599440"/>
                  </a:lnTo>
                  <a:lnTo>
                    <a:pt x="54609" y="595629"/>
                  </a:lnTo>
                  <a:lnTo>
                    <a:pt x="67309" y="593090"/>
                  </a:lnTo>
                  <a:lnTo>
                    <a:pt x="73659" y="593090"/>
                  </a:lnTo>
                  <a:lnTo>
                    <a:pt x="78740" y="595629"/>
                  </a:lnTo>
                  <a:lnTo>
                    <a:pt x="86359" y="596900"/>
                  </a:lnTo>
                  <a:lnTo>
                    <a:pt x="90169" y="600709"/>
                  </a:lnTo>
                  <a:lnTo>
                    <a:pt x="101600" y="608329"/>
                  </a:lnTo>
                  <a:lnTo>
                    <a:pt x="110490" y="619759"/>
                  </a:lnTo>
                  <a:lnTo>
                    <a:pt x="119380" y="629920"/>
                  </a:lnTo>
                  <a:lnTo>
                    <a:pt x="129540" y="641350"/>
                  </a:lnTo>
                  <a:lnTo>
                    <a:pt x="137159" y="645159"/>
                  </a:lnTo>
                  <a:lnTo>
                    <a:pt x="143509" y="650240"/>
                  </a:lnTo>
                  <a:lnTo>
                    <a:pt x="151130" y="654050"/>
                  </a:lnTo>
                  <a:lnTo>
                    <a:pt x="158750" y="655320"/>
                  </a:lnTo>
                  <a:lnTo>
                    <a:pt x="166369" y="659129"/>
                  </a:lnTo>
                  <a:lnTo>
                    <a:pt x="176530" y="659129"/>
                  </a:lnTo>
                  <a:lnTo>
                    <a:pt x="194309" y="659129"/>
                  </a:lnTo>
                  <a:lnTo>
                    <a:pt x="213359" y="656590"/>
                  </a:lnTo>
                  <a:lnTo>
                    <a:pt x="231140" y="651509"/>
                  </a:lnTo>
                  <a:lnTo>
                    <a:pt x="240030" y="648970"/>
                  </a:lnTo>
                  <a:lnTo>
                    <a:pt x="247650" y="645159"/>
                  </a:lnTo>
                  <a:lnTo>
                    <a:pt x="255269" y="640079"/>
                  </a:lnTo>
                  <a:lnTo>
                    <a:pt x="261619" y="635000"/>
                  </a:lnTo>
                  <a:lnTo>
                    <a:pt x="266700" y="629920"/>
                  </a:lnTo>
                  <a:lnTo>
                    <a:pt x="273050" y="623570"/>
                  </a:lnTo>
                  <a:lnTo>
                    <a:pt x="276859" y="617220"/>
                  </a:lnTo>
                  <a:lnTo>
                    <a:pt x="280669" y="610870"/>
                  </a:lnTo>
                  <a:lnTo>
                    <a:pt x="284480" y="598170"/>
                  </a:lnTo>
                  <a:lnTo>
                    <a:pt x="288290" y="582929"/>
                  </a:lnTo>
                  <a:lnTo>
                    <a:pt x="290830" y="567690"/>
                  </a:lnTo>
                  <a:lnTo>
                    <a:pt x="292100" y="552450"/>
                  </a:lnTo>
                  <a:lnTo>
                    <a:pt x="295909" y="533400"/>
                  </a:lnTo>
                  <a:lnTo>
                    <a:pt x="295909" y="515620"/>
                  </a:lnTo>
                  <a:lnTo>
                    <a:pt x="295909" y="496570"/>
                  </a:lnTo>
                  <a:lnTo>
                    <a:pt x="295909" y="476250"/>
                  </a:lnTo>
                  <a:lnTo>
                    <a:pt x="295909" y="455929"/>
                  </a:lnTo>
                  <a:lnTo>
                    <a:pt x="294640" y="434340"/>
                  </a:lnTo>
                  <a:lnTo>
                    <a:pt x="289559" y="391160"/>
                  </a:lnTo>
                  <a:lnTo>
                    <a:pt x="283209" y="349250"/>
                  </a:lnTo>
                  <a:lnTo>
                    <a:pt x="274319" y="307339"/>
                  </a:lnTo>
                  <a:lnTo>
                    <a:pt x="269240" y="287020"/>
                  </a:lnTo>
                  <a:lnTo>
                    <a:pt x="262890" y="265429"/>
                  </a:lnTo>
                  <a:lnTo>
                    <a:pt x="256540" y="246379"/>
                  </a:lnTo>
                  <a:lnTo>
                    <a:pt x="248919" y="228600"/>
                  </a:lnTo>
                  <a:lnTo>
                    <a:pt x="241300" y="209550"/>
                  </a:lnTo>
                  <a:lnTo>
                    <a:pt x="233680" y="193039"/>
                  </a:lnTo>
                  <a:lnTo>
                    <a:pt x="223519" y="176529"/>
                  </a:lnTo>
                  <a:lnTo>
                    <a:pt x="214630" y="162560"/>
                  </a:lnTo>
                  <a:lnTo>
                    <a:pt x="204469" y="148589"/>
                  </a:lnTo>
                  <a:lnTo>
                    <a:pt x="194309" y="138429"/>
                  </a:lnTo>
                  <a:lnTo>
                    <a:pt x="182880" y="127000"/>
                  </a:lnTo>
                  <a:lnTo>
                    <a:pt x="170180" y="118110"/>
                  </a:lnTo>
                  <a:lnTo>
                    <a:pt x="157480" y="111760"/>
                  </a:lnTo>
                  <a:lnTo>
                    <a:pt x="144780" y="106679"/>
                  </a:lnTo>
                  <a:lnTo>
                    <a:pt x="132080" y="105410"/>
                  </a:lnTo>
                  <a:lnTo>
                    <a:pt x="118109" y="102870"/>
                  </a:lnTo>
                  <a:lnTo>
                    <a:pt x="110490" y="102870"/>
                  </a:lnTo>
                  <a:lnTo>
                    <a:pt x="104140" y="102870"/>
                  </a:lnTo>
                  <a:lnTo>
                    <a:pt x="97790" y="106679"/>
                  </a:lnTo>
                  <a:lnTo>
                    <a:pt x="92709" y="110489"/>
                  </a:lnTo>
                  <a:lnTo>
                    <a:pt x="86359" y="116839"/>
                  </a:lnTo>
                  <a:lnTo>
                    <a:pt x="81280" y="123189"/>
                  </a:lnTo>
                  <a:lnTo>
                    <a:pt x="71119" y="138429"/>
                  </a:lnTo>
                  <a:lnTo>
                    <a:pt x="60959" y="153670"/>
                  </a:lnTo>
                  <a:lnTo>
                    <a:pt x="54609" y="161289"/>
                  </a:lnTo>
                  <a:lnTo>
                    <a:pt x="46990" y="167639"/>
                  </a:lnTo>
                  <a:lnTo>
                    <a:pt x="40640" y="172720"/>
                  </a:lnTo>
                  <a:lnTo>
                    <a:pt x="33019" y="176529"/>
                  </a:lnTo>
                  <a:lnTo>
                    <a:pt x="25400" y="180339"/>
                  </a:lnTo>
                  <a:lnTo>
                    <a:pt x="16509" y="180339"/>
                  </a:lnTo>
                  <a:lnTo>
                    <a:pt x="10159" y="167639"/>
                  </a:lnTo>
                  <a:lnTo>
                    <a:pt x="6350" y="152400"/>
                  </a:lnTo>
                  <a:lnTo>
                    <a:pt x="2540" y="138429"/>
                  </a:lnTo>
                  <a:lnTo>
                    <a:pt x="0" y="123189"/>
                  </a:lnTo>
                  <a:lnTo>
                    <a:pt x="0" y="107950"/>
                  </a:lnTo>
                  <a:lnTo>
                    <a:pt x="2540"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0" name="Freeform 26"/>
            <p:cNvSpPr/>
            <p:nvPr/>
          </p:nvSpPr>
          <p:spPr>
            <a:xfrm>
              <a:off x="2913840" y="291564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2" y="2285"/>
                  </a:moveTo>
                  <a:lnTo>
                    <a:pt x="80010" y="15367"/>
                  </a:lnTo>
                  <a:lnTo>
                    <a:pt x="87629" y="31114"/>
                  </a:lnTo>
                  <a:lnTo>
                    <a:pt x="94741" y="48386"/>
                  </a:lnTo>
                  <a:lnTo>
                    <a:pt x="101345" y="67563"/>
                  </a:lnTo>
                  <a:lnTo>
                    <a:pt x="107314" y="88392"/>
                  </a:lnTo>
                  <a:lnTo>
                    <a:pt x="112776" y="110363"/>
                  </a:lnTo>
                  <a:lnTo>
                    <a:pt x="117729" y="133730"/>
                  </a:lnTo>
                  <a:lnTo>
                    <a:pt x="121792" y="157988"/>
                  </a:lnTo>
                  <a:lnTo>
                    <a:pt x="125857" y="182372"/>
                  </a:lnTo>
                  <a:lnTo>
                    <a:pt x="128904" y="207645"/>
                  </a:lnTo>
                  <a:lnTo>
                    <a:pt x="133857" y="258317"/>
                  </a:lnTo>
                  <a:lnTo>
                    <a:pt x="135509" y="283336"/>
                  </a:lnTo>
                  <a:lnTo>
                    <a:pt x="136525" y="308101"/>
                  </a:lnTo>
                  <a:lnTo>
                    <a:pt x="137032" y="331723"/>
                  </a:lnTo>
                  <a:lnTo>
                    <a:pt x="137032" y="354837"/>
                  </a:lnTo>
                  <a:lnTo>
                    <a:pt x="136270" y="376428"/>
                  </a:lnTo>
                  <a:lnTo>
                    <a:pt x="135635" y="397001"/>
                  </a:lnTo>
                  <a:lnTo>
                    <a:pt x="133857" y="435101"/>
                  </a:lnTo>
                  <a:lnTo>
                    <a:pt x="130810" y="470662"/>
                  </a:lnTo>
                  <a:lnTo>
                    <a:pt x="126110" y="504570"/>
                  </a:lnTo>
                  <a:lnTo>
                    <a:pt x="119379" y="537972"/>
                  </a:lnTo>
                  <a:lnTo>
                    <a:pt x="114426" y="554862"/>
                  </a:lnTo>
                  <a:lnTo>
                    <a:pt x="108966" y="572135"/>
                  </a:lnTo>
                  <a:lnTo>
                    <a:pt x="102742" y="589914"/>
                  </a:lnTo>
                  <a:lnTo>
                    <a:pt x="94995" y="608330"/>
                  </a:lnTo>
                  <a:lnTo>
                    <a:pt x="86232" y="627380"/>
                  </a:lnTo>
                  <a:lnTo>
                    <a:pt x="76454" y="647445"/>
                  </a:lnTo>
                  <a:lnTo>
                    <a:pt x="71247" y="653287"/>
                  </a:lnTo>
                  <a:lnTo>
                    <a:pt x="65023" y="659383"/>
                  </a:lnTo>
                  <a:lnTo>
                    <a:pt x="57912" y="664972"/>
                  </a:lnTo>
                  <a:lnTo>
                    <a:pt x="50291" y="669670"/>
                  </a:lnTo>
                  <a:lnTo>
                    <a:pt x="42544" y="672973"/>
                  </a:lnTo>
                  <a:lnTo>
                    <a:pt x="35179" y="674369"/>
                  </a:lnTo>
                  <a:lnTo>
                    <a:pt x="28447" y="673862"/>
                  </a:lnTo>
                  <a:lnTo>
                    <a:pt x="25400" y="672464"/>
                  </a:lnTo>
                  <a:lnTo>
                    <a:pt x="22732" y="670179"/>
                  </a:lnTo>
                  <a:lnTo>
                    <a:pt x="21589" y="666114"/>
                  </a:lnTo>
                  <a:lnTo>
                    <a:pt x="22732" y="660018"/>
                  </a:lnTo>
                  <a:lnTo>
                    <a:pt x="26035" y="651891"/>
                  </a:lnTo>
                  <a:lnTo>
                    <a:pt x="30098" y="641985"/>
                  </a:lnTo>
                  <a:lnTo>
                    <a:pt x="35560" y="629157"/>
                  </a:lnTo>
                  <a:lnTo>
                    <a:pt x="41782" y="614172"/>
                  </a:lnTo>
                  <a:lnTo>
                    <a:pt x="48387" y="596645"/>
                  </a:lnTo>
                  <a:lnTo>
                    <a:pt x="54610" y="576072"/>
                  </a:lnTo>
                  <a:lnTo>
                    <a:pt x="61087" y="552449"/>
                  </a:lnTo>
                  <a:lnTo>
                    <a:pt x="63881" y="539368"/>
                  </a:lnTo>
                  <a:lnTo>
                    <a:pt x="66675" y="525399"/>
                  </a:lnTo>
                  <a:lnTo>
                    <a:pt x="68834" y="510667"/>
                  </a:lnTo>
                  <a:lnTo>
                    <a:pt x="70992" y="495173"/>
                  </a:lnTo>
                  <a:lnTo>
                    <a:pt x="72644" y="478662"/>
                  </a:lnTo>
                  <a:lnTo>
                    <a:pt x="74294" y="461263"/>
                  </a:lnTo>
                  <a:lnTo>
                    <a:pt x="75057" y="442849"/>
                  </a:lnTo>
                  <a:lnTo>
                    <a:pt x="75438" y="423672"/>
                  </a:lnTo>
                  <a:lnTo>
                    <a:pt x="75057"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1" y="102870"/>
                  </a:lnTo>
                  <a:lnTo>
                    <a:pt x="18669" y="89280"/>
                  </a:lnTo>
                  <a:lnTo>
                    <a:pt x="13716" y="76707"/>
                  </a:lnTo>
                  <a:lnTo>
                    <a:pt x="8763" y="65404"/>
                  </a:lnTo>
                  <a:lnTo>
                    <a:pt x="4317" y="55879"/>
                  </a:lnTo>
                  <a:lnTo>
                    <a:pt x="0" y="48132"/>
                  </a:lnTo>
                  <a:lnTo>
                    <a:pt x="4953" y="37845"/>
                  </a:lnTo>
                  <a:lnTo>
                    <a:pt x="12064" y="27813"/>
                  </a:lnTo>
                  <a:lnTo>
                    <a:pt x="20447" y="18669"/>
                  </a:lnTo>
                  <a:lnTo>
                    <a:pt x="30098" y="10795"/>
                  </a:lnTo>
                  <a:lnTo>
                    <a:pt x="40766"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Freeform 27"/>
            <p:cNvSpPr/>
            <p:nvPr/>
          </p:nvSpPr>
          <p:spPr>
            <a:xfrm>
              <a:off x="2711520" y="344880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1" y="11302"/>
                  </a:lnTo>
                  <a:lnTo>
                    <a:pt x="70485" y="21970"/>
                  </a:lnTo>
                  <a:lnTo>
                    <a:pt x="82804" y="31114"/>
                  </a:lnTo>
                  <a:lnTo>
                    <a:pt x="95250" y="38862"/>
                  </a:lnTo>
                  <a:lnTo>
                    <a:pt x="107824" y="45846"/>
                  </a:lnTo>
                  <a:lnTo>
                    <a:pt x="120778" y="51308"/>
                  </a:lnTo>
                  <a:lnTo>
                    <a:pt x="133478" y="55499"/>
                  </a:lnTo>
                  <a:lnTo>
                    <a:pt x="146431" y="58293"/>
                  </a:lnTo>
                  <a:lnTo>
                    <a:pt x="159004" y="59689"/>
                  </a:lnTo>
                  <a:lnTo>
                    <a:pt x="171450" y="59689"/>
                  </a:lnTo>
                  <a:lnTo>
                    <a:pt x="183769" y="58293"/>
                  </a:lnTo>
                  <a:lnTo>
                    <a:pt x="195834" y="55245"/>
                  </a:lnTo>
                  <a:lnTo>
                    <a:pt x="207772" y="50800"/>
                  </a:lnTo>
                  <a:lnTo>
                    <a:pt x="218949" y="44703"/>
                  </a:lnTo>
                  <a:lnTo>
                    <a:pt x="229997" y="36957"/>
                  </a:lnTo>
                  <a:lnTo>
                    <a:pt x="240284" y="27432"/>
                  </a:lnTo>
                  <a:lnTo>
                    <a:pt x="237363" y="38862"/>
                  </a:lnTo>
                  <a:lnTo>
                    <a:pt x="233172" y="49149"/>
                  </a:lnTo>
                  <a:lnTo>
                    <a:pt x="228347" y="58674"/>
                  </a:lnTo>
                  <a:lnTo>
                    <a:pt x="222759" y="67437"/>
                  </a:lnTo>
                  <a:lnTo>
                    <a:pt x="211837" y="83820"/>
                  </a:lnTo>
                  <a:lnTo>
                    <a:pt x="202057" y="100583"/>
                  </a:lnTo>
                  <a:lnTo>
                    <a:pt x="194691" y="105028"/>
                  </a:lnTo>
                  <a:lnTo>
                    <a:pt x="186563" y="107822"/>
                  </a:lnTo>
                  <a:lnTo>
                    <a:pt x="178054" y="109220"/>
                  </a:lnTo>
                  <a:lnTo>
                    <a:pt x="169038" y="109474"/>
                  </a:lnTo>
                  <a:lnTo>
                    <a:pt x="150496" y="107822"/>
                  </a:lnTo>
                  <a:lnTo>
                    <a:pt x="132462" y="105283"/>
                  </a:lnTo>
                  <a:lnTo>
                    <a:pt x="100457" y="100583"/>
                  </a:lnTo>
                  <a:lnTo>
                    <a:pt x="84075" y="98044"/>
                  </a:lnTo>
                  <a:lnTo>
                    <a:pt x="68326" y="94107"/>
                  </a:lnTo>
                  <a:lnTo>
                    <a:pt x="52959" y="89153"/>
                  </a:lnTo>
                  <a:lnTo>
                    <a:pt x="38228" y="82803"/>
                  </a:lnTo>
                  <a:lnTo>
                    <a:pt x="25147" y="74421"/>
                  </a:lnTo>
                  <a:lnTo>
                    <a:pt x="19178" y="69722"/>
                  </a:lnTo>
                  <a:lnTo>
                    <a:pt x="13463" y="63881"/>
                  </a:lnTo>
                  <a:lnTo>
                    <a:pt x="6859" y="54990"/>
                  </a:lnTo>
                  <a:lnTo>
                    <a:pt x="2032" y="44450"/>
                  </a:lnTo>
                  <a:lnTo>
                    <a:pt x="0" y="33020"/>
                  </a:lnTo>
                  <a:lnTo>
                    <a:pt x="635" y="28066"/>
                  </a:lnTo>
                  <a:lnTo>
                    <a:pt x="2159" y="22987"/>
                  </a:lnTo>
                  <a:lnTo>
                    <a:pt x="5588" y="18033"/>
                  </a:lnTo>
                  <a:lnTo>
                    <a:pt x="9653" y="13843"/>
                  </a:lnTo>
                  <a:lnTo>
                    <a:pt x="15368" y="10287"/>
                  </a:lnTo>
                  <a:lnTo>
                    <a:pt x="21591" y="7112"/>
                  </a:lnTo>
                  <a:lnTo>
                    <a:pt x="35053"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Freeform 28"/>
            <p:cNvSpPr/>
            <p:nvPr/>
          </p:nvSpPr>
          <p:spPr>
            <a:xfrm>
              <a:off x="2686320" y="291132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3" y="77343"/>
                  </a:lnTo>
                  <a:lnTo>
                    <a:pt x="2413" y="71502"/>
                  </a:lnTo>
                  <a:lnTo>
                    <a:pt x="5081" y="65405"/>
                  </a:lnTo>
                  <a:lnTo>
                    <a:pt x="13082" y="53468"/>
                  </a:lnTo>
                  <a:lnTo>
                    <a:pt x="23241" y="41784"/>
                  </a:lnTo>
                  <a:lnTo>
                    <a:pt x="35179" y="30608"/>
                  </a:lnTo>
                  <a:lnTo>
                    <a:pt x="47498" y="20955"/>
                  </a:lnTo>
                  <a:lnTo>
                    <a:pt x="59437" y="12827"/>
                  </a:lnTo>
                  <a:lnTo>
                    <a:pt x="70104" y="6477"/>
                  </a:lnTo>
                  <a:lnTo>
                    <a:pt x="76963" y="3430"/>
                  </a:lnTo>
                  <a:lnTo>
                    <a:pt x="84328" y="1397"/>
                  </a:lnTo>
                  <a:lnTo>
                    <a:pt x="92584" y="381"/>
                  </a:lnTo>
                  <a:lnTo>
                    <a:pt x="101219" y="0"/>
                  </a:lnTo>
                  <a:lnTo>
                    <a:pt x="109982" y="636"/>
                  </a:lnTo>
                  <a:lnTo>
                    <a:pt x="119253" y="2287"/>
                  </a:lnTo>
                  <a:lnTo>
                    <a:pt x="137541" y="6986"/>
                  </a:lnTo>
                  <a:lnTo>
                    <a:pt x="146559" y="10668"/>
                  </a:lnTo>
                  <a:lnTo>
                    <a:pt x="154941" y="14859"/>
                  </a:lnTo>
                  <a:lnTo>
                    <a:pt x="162941" y="19812"/>
                  </a:lnTo>
                  <a:lnTo>
                    <a:pt x="170562" y="25020"/>
                  </a:lnTo>
                  <a:lnTo>
                    <a:pt x="177419" y="31243"/>
                  </a:lnTo>
                  <a:lnTo>
                    <a:pt x="183135" y="37593"/>
                  </a:lnTo>
                  <a:lnTo>
                    <a:pt x="188088" y="44831"/>
                  </a:lnTo>
                  <a:lnTo>
                    <a:pt x="191644" y="52324"/>
                  </a:lnTo>
                  <a:lnTo>
                    <a:pt x="177673" y="47371"/>
                  </a:lnTo>
                  <a:lnTo>
                    <a:pt x="165735" y="42037"/>
                  </a:lnTo>
                  <a:lnTo>
                    <a:pt x="154432" y="36196"/>
                  </a:lnTo>
                  <a:lnTo>
                    <a:pt x="144400" y="30353"/>
                  </a:lnTo>
                  <a:lnTo>
                    <a:pt x="134875" y="25020"/>
                  </a:lnTo>
                  <a:lnTo>
                    <a:pt x="126112" y="20574"/>
                  </a:lnTo>
                  <a:lnTo>
                    <a:pt x="117348" y="17018"/>
                  </a:lnTo>
                  <a:lnTo>
                    <a:pt x="108966" y="14987"/>
                  </a:lnTo>
                  <a:lnTo>
                    <a:pt x="100331" y="14859"/>
                  </a:lnTo>
                  <a:lnTo>
                    <a:pt x="91694" y="17272"/>
                  </a:lnTo>
                  <a:lnTo>
                    <a:pt x="82678" y="21971"/>
                  </a:lnTo>
                  <a:lnTo>
                    <a:pt x="72898" y="29846"/>
                  </a:lnTo>
                  <a:lnTo>
                    <a:pt x="67438" y="34799"/>
                  </a:lnTo>
                  <a:lnTo>
                    <a:pt x="62231" y="40640"/>
                  </a:lnTo>
                  <a:lnTo>
                    <a:pt x="56516" y="47880"/>
                  </a:lnTo>
                  <a:lnTo>
                    <a:pt x="50419" y="55627"/>
                  </a:lnTo>
                  <a:lnTo>
                    <a:pt x="44197" y="64517"/>
                  </a:lnTo>
                  <a:lnTo>
                    <a:pt x="37338" y="74549"/>
                  </a:lnTo>
                  <a:lnTo>
                    <a:pt x="30226" y="85599"/>
                  </a:lnTo>
                  <a:lnTo>
                    <a:pt x="22860" y="97918"/>
                  </a:lnTo>
                  <a:lnTo>
                    <a:pt x="16257" y="97409"/>
                  </a:lnTo>
                  <a:lnTo>
                    <a:pt x="9272" y="96267"/>
                  </a:lnTo>
                  <a:lnTo>
                    <a:pt x="3557" y="93472"/>
                  </a:lnTo>
                  <a:lnTo>
                    <a:pt x="1525"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Freeform 29"/>
            <p:cNvSpPr/>
            <p:nvPr/>
          </p:nvSpPr>
          <p:spPr>
            <a:xfrm>
              <a:off x="1979280" y="245016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7" y="148718"/>
                  </a:moveTo>
                  <a:lnTo>
                    <a:pt x="591185" y="153671"/>
                  </a:lnTo>
                  <a:lnTo>
                    <a:pt x="558674" y="157862"/>
                  </a:lnTo>
                  <a:lnTo>
                    <a:pt x="524891" y="161163"/>
                  </a:lnTo>
                  <a:lnTo>
                    <a:pt x="489966" y="163958"/>
                  </a:lnTo>
                  <a:lnTo>
                    <a:pt x="454153" y="165990"/>
                  </a:lnTo>
                  <a:lnTo>
                    <a:pt x="417831" y="167133"/>
                  </a:lnTo>
                  <a:lnTo>
                    <a:pt x="381509" y="167259"/>
                  </a:lnTo>
                  <a:lnTo>
                    <a:pt x="344678" y="167133"/>
                  </a:lnTo>
                  <a:lnTo>
                    <a:pt x="308610" y="165990"/>
                  </a:lnTo>
                  <a:lnTo>
                    <a:pt x="272669" y="163958"/>
                  </a:lnTo>
                  <a:lnTo>
                    <a:pt x="237744" y="161163"/>
                  </a:lnTo>
                  <a:lnTo>
                    <a:pt x="203835" y="157862"/>
                  </a:lnTo>
                  <a:lnTo>
                    <a:pt x="171324" y="153671"/>
                  </a:lnTo>
                  <a:lnTo>
                    <a:pt x="140844" y="148718"/>
                  </a:lnTo>
                  <a:lnTo>
                    <a:pt x="111506" y="142875"/>
                  </a:lnTo>
                  <a:lnTo>
                    <a:pt x="85599" y="136525"/>
                  </a:lnTo>
                  <a:lnTo>
                    <a:pt x="62738" y="129540"/>
                  </a:lnTo>
                  <a:lnTo>
                    <a:pt x="43562" y="122556"/>
                  </a:lnTo>
                  <a:lnTo>
                    <a:pt x="27813" y="115316"/>
                  </a:lnTo>
                  <a:lnTo>
                    <a:pt x="15494" y="107569"/>
                  </a:lnTo>
                  <a:lnTo>
                    <a:pt x="6985" y="99441"/>
                  </a:lnTo>
                  <a:lnTo>
                    <a:pt x="1525" y="91694"/>
                  </a:lnTo>
                  <a:lnTo>
                    <a:pt x="0" y="83693"/>
                  </a:lnTo>
                  <a:lnTo>
                    <a:pt x="1525" y="75565"/>
                  </a:lnTo>
                  <a:lnTo>
                    <a:pt x="6985" y="67818"/>
                  </a:lnTo>
                  <a:lnTo>
                    <a:pt x="15494" y="59818"/>
                  </a:lnTo>
                  <a:lnTo>
                    <a:pt x="27813" y="51943"/>
                  </a:lnTo>
                  <a:lnTo>
                    <a:pt x="43562" y="44450"/>
                  </a:lnTo>
                  <a:lnTo>
                    <a:pt x="62738" y="37465"/>
                  </a:lnTo>
                  <a:lnTo>
                    <a:pt x="85599" y="30862"/>
                  </a:lnTo>
                  <a:lnTo>
                    <a:pt x="111506" y="24512"/>
                  </a:lnTo>
                  <a:lnTo>
                    <a:pt x="140844" y="18543"/>
                  </a:lnTo>
                  <a:lnTo>
                    <a:pt x="171324" y="13590"/>
                  </a:lnTo>
                  <a:lnTo>
                    <a:pt x="203835" y="9399"/>
                  </a:lnTo>
                  <a:lnTo>
                    <a:pt x="237744" y="6096"/>
                  </a:lnTo>
                  <a:lnTo>
                    <a:pt x="272669" y="3303"/>
                  </a:lnTo>
                  <a:lnTo>
                    <a:pt x="308610" y="1397"/>
                  </a:lnTo>
                  <a:lnTo>
                    <a:pt x="344678" y="255"/>
                  </a:lnTo>
                  <a:lnTo>
                    <a:pt x="381509" y="0"/>
                  </a:lnTo>
                  <a:lnTo>
                    <a:pt x="417831" y="255"/>
                  </a:lnTo>
                  <a:lnTo>
                    <a:pt x="454153" y="1397"/>
                  </a:lnTo>
                  <a:lnTo>
                    <a:pt x="489966" y="3303"/>
                  </a:lnTo>
                  <a:lnTo>
                    <a:pt x="524891" y="6096"/>
                  </a:lnTo>
                  <a:lnTo>
                    <a:pt x="558674" y="9399"/>
                  </a:lnTo>
                  <a:lnTo>
                    <a:pt x="591185" y="13590"/>
                  </a:lnTo>
                  <a:lnTo>
                    <a:pt x="622047" y="18543"/>
                  </a:lnTo>
                  <a:lnTo>
                    <a:pt x="651003" y="24512"/>
                  </a:lnTo>
                  <a:lnTo>
                    <a:pt x="677291" y="30862"/>
                  </a:lnTo>
                  <a:lnTo>
                    <a:pt x="700152" y="37465"/>
                  </a:lnTo>
                  <a:lnTo>
                    <a:pt x="718947" y="44450"/>
                  </a:lnTo>
                  <a:lnTo>
                    <a:pt x="734822" y="51943"/>
                  </a:lnTo>
                  <a:lnTo>
                    <a:pt x="747141" y="59818"/>
                  </a:lnTo>
                  <a:lnTo>
                    <a:pt x="755778" y="67818"/>
                  </a:lnTo>
                  <a:lnTo>
                    <a:pt x="760984" y="75565"/>
                  </a:lnTo>
                  <a:lnTo>
                    <a:pt x="762890" y="83693"/>
                  </a:lnTo>
                  <a:lnTo>
                    <a:pt x="760984" y="91694"/>
                  </a:lnTo>
                  <a:lnTo>
                    <a:pt x="755778" y="99441"/>
                  </a:lnTo>
                  <a:lnTo>
                    <a:pt x="747141" y="107569"/>
                  </a:lnTo>
                  <a:lnTo>
                    <a:pt x="734822" y="115316"/>
                  </a:lnTo>
                  <a:lnTo>
                    <a:pt x="718947" y="122556"/>
                  </a:lnTo>
                  <a:lnTo>
                    <a:pt x="700152" y="129540"/>
                  </a:lnTo>
                  <a:lnTo>
                    <a:pt x="677291"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Freeform 30"/>
            <p:cNvSpPr/>
            <p:nvPr/>
          </p:nvSpPr>
          <p:spPr>
            <a:xfrm>
              <a:off x="2806560" y="290772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7" y="15239"/>
                  </a:lnTo>
                  <a:lnTo>
                    <a:pt x="-32516" y="10160"/>
                  </a:lnTo>
                  <a:lnTo>
                    <a:pt x="24129" y="5079"/>
                  </a:lnTo>
                  <a:lnTo>
                    <a:pt x="15239"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35" name="Freeform 31"/>
            <p:cNvSpPr/>
            <p:nvPr/>
          </p:nvSpPr>
          <p:spPr>
            <a:xfrm>
              <a:off x="2792520" y="354528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2" h="12701">
                  <a:moveTo>
                    <a:pt x="-9655" y="12700"/>
                  </a:moveTo>
                  <a:lnTo>
                    <a:pt x="-18545" y="12700"/>
                  </a:lnTo>
                  <a:lnTo>
                    <a:pt x="-28705" y="11430"/>
                  </a:lnTo>
                  <a:lnTo>
                    <a:pt x="29210" y="11430"/>
                  </a:lnTo>
                  <a:lnTo>
                    <a:pt x="22860" y="7619"/>
                  </a:lnTo>
                  <a:lnTo>
                    <a:pt x="11431"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36" name="Freeform 32"/>
            <p:cNvSpPr/>
            <p:nvPr/>
          </p:nvSpPr>
          <p:spPr>
            <a:xfrm>
              <a:off x="2241360" y="263340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39" y="7621"/>
                  </a:lnTo>
                  <a:lnTo>
                    <a:pt x="92710" y="7621"/>
                  </a:lnTo>
                  <a:lnTo>
                    <a:pt x="68579" y="7621"/>
                  </a:lnTo>
                  <a:lnTo>
                    <a:pt x="43179"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37" name="Oval 34"/>
          <p:cNvSpPr/>
          <p:nvPr/>
        </p:nvSpPr>
        <p:spPr>
          <a:xfrm>
            <a:off x="3225960" y="276876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Oval 35"/>
          <p:cNvSpPr/>
          <p:nvPr/>
        </p:nvSpPr>
        <p:spPr>
          <a:xfrm>
            <a:off x="3543480" y="3492360"/>
            <a:ext cx="25380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Oval 36"/>
          <p:cNvSpPr/>
          <p:nvPr/>
        </p:nvSpPr>
        <p:spPr>
          <a:xfrm>
            <a:off x="3708360" y="245124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Oval 37"/>
          <p:cNvSpPr/>
          <p:nvPr/>
        </p:nvSpPr>
        <p:spPr>
          <a:xfrm>
            <a:off x="3213000" y="322596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1" name="Picture 38" descr="sam-worthington-t4-2[1].jpg"/>
          <p:cNvPicPr/>
          <p:nvPr/>
        </p:nvPicPr>
        <p:blipFill>
          <a:blip r:embed="rId1">
            <a:alphaModFix amt="0"/>
          </a:blip>
          <a:stretch/>
        </p:blipFill>
        <p:spPr>
          <a:xfrm>
            <a:off x="6261120" y="3594240"/>
            <a:ext cx="3851280" cy="3709800"/>
          </a:xfrm>
          <a:prstGeom prst="rect">
            <a:avLst/>
          </a:prstGeom>
          <a:ln w="0">
            <a:noFill/>
          </a:ln>
        </p:spPr>
      </p:pic>
      <p:grpSp>
        <p:nvGrpSpPr>
          <p:cNvPr id="442" name="Group 41"/>
          <p:cNvGrpSpPr/>
          <p:nvPr/>
        </p:nvGrpSpPr>
        <p:grpSpPr>
          <a:xfrm>
            <a:off x="3949200" y="1930320"/>
            <a:ext cx="3645000" cy="3385800"/>
            <a:chOff x="3949200" y="1930320"/>
            <a:chExt cx="3645000" cy="3385800"/>
          </a:xfrm>
        </p:grpSpPr>
        <p:sp>
          <p:nvSpPr>
            <p:cNvPr id="443" name="Freeform 39"/>
            <p:cNvSpPr/>
            <p:nvPr/>
          </p:nvSpPr>
          <p:spPr>
            <a:xfrm flipH="1">
              <a:off x="4012200" y="1930320"/>
              <a:ext cx="3518280" cy="2883240"/>
            </a:xfrm>
            <a:custGeom>
              <a:avLst/>
              <a:gdLst>
                <a:gd name="textAreaLeft" fmla="*/ -360 w 3518280"/>
                <a:gd name="textAreaRight" fmla="*/ 3518280 w 3518280"/>
                <a:gd name="textAreaTop" fmla="*/ 0 h 2883240"/>
                <a:gd name="textAreaBottom" fmla="*/ 2883600 h 2883240"/>
              </a:gdLst>
              <a:ahLst/>
              <a:rect l="textAreaLeft" t="textAreaTop" r="textAreaRight" b="textAreaBottom"/>
              <a:pathLst>
                <a:path w="3517901" h="2882901">
                  <a:moveTo>
                    <a:pt x="129794" y="555498"/>
                  </a:moveTo>
                  <a:lnTo>
                    <a:pt x="240410" y="439166"/>
                  </a:lnTo>
                  <a:lnTo>
                    <a:pt x="403225" y="329438"/>
                  </a:lnTo>
                  <a:lnTo>
                    <a:pt x="627634" y="216535"/>
                  </a:lnTo>
                  <a:lnTo>
                    <a:pt x="898016" y="128904"/>
                  </a:lnTo>
                  <a:lnTo>
                    <a:pt x="1146936" y="73279"/>
                  </a:lnTo>
                  <a:lnTo>
                    <a:pt x="1450085" y="25780"/>
                  </a:lnTo>
                  <a:lnTo>
                    <a:pt x="1762505" y="1651"/>
                  </a:lnTo>
                  <a:lnTo>
                    <a:pt x="2013584" y="0"/>
                  </a:lnTo>
                  <a:lnTo>
                    <a:pt x="2335910" y="14097"/>
                  </a:lnTo>
                  <a:lnTo>
                    <a:pt x="2571368" y="53848"/>
                  </a:lnTo>
                  <a:lnTo>
                    <a:pt x="2843783" y="126745"/>
                  </a:lnTo>
                  <a:lnTo>
                    <a:pt x="3115436" y="260350"/>
                  </a:lnTo>
                  <a:lnTo>
                    <a:pt x="3242564" y="352805"/>
                  </a:lnTo>
                  <a:lnTo>
                    <a:pt x="3343782" y="450214"/>
                  </a:lnTo>
                  <a:lnTo>
                    <a:pt x="3424555" y="563372"/>
                  </a:lnTo>
                  <a:lnTo>
                    <a:pt x="3485133" y="693547"/>
                  </a:lnTo>
                  <a:lnTo>
                    <a:pt x="3517900" y="873886"/>
                  </a:lnTo>
                  <a:lnTo>
                    <a:pt x="3509264" y="1022223"/>
                  </a:lnTo>
                  <a:lnTo>
                    <a:pt x="3461384" y="1200150"/>
                  </a:lnTo>
                  <a:lnTo>
                    <a:pt x="3383153" y="1329054"/>
                  </a:lnTo>
                  <a:lnTo>
                    <a:pt x="3285363" y="1440053"/>
                  </a:lnTo>
                  <a:lnTo>
                    <a:pt x="3176396" y="1529207"/>
                  </a:lnTo>
                  <a:lnTo>
                    <a:pt x="3024758" y="1627123"/>
                  </a:lnTo>
                  <a:lnTo>
                    <a:pt x="2837180" y="1693164"/>
                  </a:lnTo>
                  <a:lnTo>
                    <a:pt x="2643378" y="1732660"/>
                  </a:lnTo>
                  <a:lnTo>
                    <a:pt x="2431669" y="1747901"/>
                  </a:lnTo>
                  <a:lnTo>
                    <a:pt x="2438019" y="1907794"/>
                  </a:lnTo>
                  <a:lnTo>
                    <a:pt x="2395982" y="2069719"/>
                  </a:lnTo>
                  <a:lnTo>
                    <a:pt x="2323084" y="2248280"/>
                  </a:lnTo>
                  <a:lnTo>
                    <a:pt x="2221865" y="2400427"/>
                  </a:lnTo>
                  <a:lnTo>
                    <a:pt x="2066290" y="2586101"/>
                  </a:lnTo>
                  <a:lnTo>
                    <a:pt x="1945766" y="2692146"/>
                  </a:lnTo>
                  <a:lnTo>
                    <a:pt x="1798192" y="2793365"/>
                  </a:lnTo>
                  <a:lnTo>
                    <a:pt x="1626361" y="2882900"/>
                  </a:lnTo>
                  <a:lnTo>
                    <a:pt x="1786001" y="2681859"/>
                  </a:lnTo>
                  <a:lnTo>
                    <a:pt x="1963420" y="2418588"/>
                  </a:lnTo>
                  <a:lnTo>
                    <a:pt x="2029840" y="2270633"/>
                  </a:lnTo>
                  <a:lnTo>
                    <a:pt x="2070480" y="2114296"/>
                  </a:lnTo>
                  <a:lnTo>
                    <a:pt x="2075815" y="1985771"/>
                  </a:lnTo>
                  <a:lnTo>
                    <a:pt x="2050034" y="1872615"/>
                  </a:lnTo>
                  <a:lnTo>
                    <a:pt x="1995551" y="1748790"/>
                  </a:lnTo>
                  <a:lnTo>
                    <a:pt x="1632839" y="1734820"/>
                  </a:lnTo>
                  <a:lnTo>
                    <a:pt x="1349628" y="1708911"/>
                  </a:lnTo>
                  <a:lnTo>
                    <a:pt x="1078484" y="1666494"/>
                  </a:lnTo>
                  <a:lnTo>
                    <a:pt x="887984" y="1621154"/>
                  </a:lnTo>
                  <a:lnTo>
                    <a:pt x="679069" y="1552955"/>
                  </a:lnTo>
                  <a:lnTo>
                    <a:pt x="517905" y="1494028"/>
                  </a:lnTo>
                  <a:lnTo>
                    <a:pt x="340359" y="1394840"/>
                  </a:lnTo>
                  <a:lnTo>
                    <a:pt x="156336" y="1242567"/>
                  </a:lnTo>
                  <a:lnTo>
                    <a:pt x="86486" y="1171829"/>
                  </a:lnTo>
                  <a:lnTo>
                    <a:pt x="35052" y="1092073"/>
                  </a:lnTo>
                  <a:lnTo>
                    <a:pt x="0" y="992504"/>
                  </a:lnTo>
                  <a:lnTo>
                    <a:pt x="3428" y="866648"/>
                  </a:lnTo>
                  <a:lnTo>
                    <a:pt x="12446" y="770254"/>
                  </a:lnTo>
                  <a:lnTo>
                    <a:pt x="62738" y="654557"/>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4" name="TextBox 40"/>
            <p:cNvSpPr/>
            <p:nvPr/>
          </p:nvSpPr>
          <p:spPr>
            <a:xfrm flipH="1">
              <a:off x="3948840" y="1930320"/>
              <a:ext cx="3645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3900" spc="-1" strike="noStrike">
                  <a:solidFill>
                    <a:srgbClr val="000000"/>
                  </a:solidFill>
                  <a:latin typeface="Comic Sans MS - 22"/>
                </a:rPr>
                <a:t>'m using these</a:t>
              </a:r>
              <a:endParaRPr b="0" lang="en-US" sz="3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 22"/>
                </a:rPr>
                <a:t> </a:t>
              </a:r>
              <a:r>
                <a:rPr b="0" lang="en-US" sz="3900" spc="-1" strike="noStrike">
                  <a:solidFill>
                    <a:srgbClr val="000000"/>
                  </a:solidFill>
                  <a:latin typeface="Comic Sans MS - 22"/>
                </a:rPr>
                <a:t>cups and counters</a:t>
              </a:r>
              <a:endParaRPr b="0" lang="en-US" sz="3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 22"/>
                </a:rPr>
                <a:t>to model 2</a:t>
              </a:r>
              <a:r>
                <a:rPr b="0" i="1" lang="en-US" sz="3900" spc="-1" strike="noStrike">
                  <a:solidFill>
                    <a:srgbClr val="000000"/>
                  </a:solidFill>
                  <a:latin typeface="Comic Sans MS - 22"/>
                </a:rPr>
                <a:t>c</a:t>
              </a:r>
              <a:r>
                <a:rPr b="0" lang="en-US" sz="3900" spc="-1" strike="noStrike">
                  <a:solidFill>
                    <a:srgbClr val="000000"/>
                  </a:solidFill>
                  <a:latin typeface="Comic Sans MS - 22"/>
                </a:rPr>
                <a:t> + 5.</a:t>
              </a:r>
              <a:r>
                <a:rPr b="0" lang="en-US" sz="4200" spc="-1" strike="noStrike">
                  <a:solidFill>
                    <a:srgbClr val="000000"/>
                  </a:solidFill>
                  <a:latin typeface="Comic Sans MS - 24"/>
                </a:rPr>
                <a:t> </a:t>
              </a:r>
              <a:endParaRPr b="0" lang="en-US" sz="4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extBox 1"/>
          <p:cNvSpPr/>
          <p:nvPr/>
        </p:nvSpPr>
        <p:spPr>
          <a:xfrm>
            <a:off x="88920" y="12600"/>
            <a:ext cx="662940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ff"/>
                </a:solidFill>
                <a:uFillTx/>
                <a:latin typeface="Comic Sans MS - 28"/>
              </a:rPr>
              <a:t>How can you model an express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omic Sans MS - 28"/>
              </a:rPr>
              <a:t>1.</a:t>
            </a:r>
            <a:r>
              <a:rPr b="0" lang="en-US" sz="2400" spc="-1" strike="noStrike">
                <a:solidFill>
                  <a:srgbClr val="0000ff"/>
                </a:solidFill>
                <a:latin typeface="Comic Sans MS - 24"/>
              </a:rPr>
              <a:t> Let the variable </a:t>
            </a:r>
            <a:r>
              <a:rPr b="1" i="1" lang="en-US" sz="2400" spc="-1" strike="noStrike">
                <a:solidFill>
                  <a:srgbClr val="0000ff"/>
                </a:solidFill>
                <a:latin typeface="Comic Sans MS - 24"/>
              </a:rPr>
              <a:t>c</a:t>
            </a:r>
            <a:r>
              <a:rPr b="0" lang="en-US" sz="2400" spc="-1" strike="noStrike">
                <a:solidFill>
                  <a:srgbClr val="0000ff"/>
                </a:solidFill>
                <a:latin typeface="Comic Sans MS - 24"/>
              </a:rPr>
              <a:t> represent the unknown </a:t>
            </a:r>
            <a:r>
              <a:rPr b="0" lang="en-CA" sz="2400" spc="-1" strike="noStrike">
                <a:solidFill>
                  <a:srgbClr val="0000ff"/>
                </a:solidFill>
                <a:latin typeface="Comic Sans MS - 24"/>
              </a:rPr>
              <a:t>number of counters in the cup shown in the diagram.  What is the expression for the total number of counters shown?</a:t>
            </a:r>
            <a:endParaRPr b="0" lang="en-US" sz="2400" spc="-1" strike="noStrike">
              <a:solidFill>
                <a:srgbClr val="000000"/>
              </a:solidFill>
              <a:latin typeface="Calibri"/>
            </a:endParaRPr>
          </a:p>
        </p:txBody>
      </p:sp>
      <p:sp>
        <p:nvSpPr>
          <p:cNvPr id="446" name="TextBox 2"/>
          <p:cNvSpPr/>
          <p:nvPr/>
        </p:nvSpPr>
        <p:spPr>
          <a:xfrm>
            <a:off x="88920" y="3048120"/>
            <a:ext cx="960120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2. Put 6 counters in the cup.  What is the value for </a:t>
            </a:r>
            <a:r>
              <a:rPr b="1" i="1" lang="en-CA" sz="2300" spc="-1" strike="noStrike">
                <a:solidFill>
                  <a:srgbClr val="0000ff"/>
                </a:solidFill>
                <a:latin typeface="Comic Sans MS - 24"/>
              </a:rPr>
              <a:t>c</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3. How many counters do you have in total?</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4. If you substitute </a:t>
            </a:r>
            <a:r>
              <a:rPr b="1" i="1" lang="en-US" sz="2300" spc="-1" strike="noStrike">
                <a:solidFill>
                  <a:srgbClr val="0000ff"/>
                </a:solidFill>
                <a:latin typeface="Comic Sans MS - 24"/>
              </a:rPr>
              <a:t>c</a:t>
            </a:r>
            <a:r>
              <a:rPr b="0" lang="en-CA" sz="2300" spc="-1" strike="noStrike">
                <a:solidFill>
                  <a:srgbClr val="0000ff"/>
                </a:solidFill>
                <a:latin typeface="Comic Sans MS - 24"/>
              </a:rPr>
              <a:t> = 6, what is the value of the expression in step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a:t>
            </a:r>
            <a:r>
              <a:rPr b="0" lang="en-US" sz="2300" spc="-1" strike="noStrike" u="sng">
                <a:solidFill>
                  <a:srgbClr val="0000ff"/>
                </a:solidFill>
                <a:uFillTx/>
                <a:latin typeface="Comic Sans MS - 24"/>
              </a:rPr>
              <a:t>ink about i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u="sng">
                <a:solidFill>
                  <a:srgbClr val="0000ff"/>
                </a:solidFill>
                <a:uFillTx/>
                <a:latin typeface="Comic Sans MS - 24"/>
              </a:rPr>
              <a:t>5</a:t>
            </a:r>
            <a:r>
              <a:rPr b="0" lang="en-CA" sz="2300" spc="-1" strike="noStrike">
                <a:solidFill>
                  <a:srgbClr val="0000ff"/>
                </a:solidFill>
                <a:latin typeface="Comic Sans MS - 24"/>
              </a:rPr>
              <a:t>. a) Describe what the cup represent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    </a:t>
            </a:r>
            <a:r>
              <a:rPr b="0" lang="en-CA" sz="2300" spc="-1" strike="noStrike">
                <a:solidFill>
                  <a:srgbClr val="0000ff"/>
                </a:solidFill>
                <a:latin typeface="Comic Sans MS - 24"/>
              </a:rPr>
              <a:t>b) Describe what the three counters represent.</a:t>
            </a:r>
            <a:endParaRPr b="0" lang="en-US" sz="2300" spc="-1" strike="noStrike">
              <a:solidFill>
                <a:srgbClr val="000000"/>
              </a:solidFill>
              <a:latin typeface="Calibri"/>
            </a:endParaRPr>
          </a:p>
        </p:txBody>
      </p:sp>
      <p:grpSp>
        <p:nvGrpSpPr>
          <p:cNvPr id="447" name="Group 23"/>
          <p:cNvGrpSpPr/>
          <p:nvPr/>
        </p:nvGrpSpPr>
        <p:grpSpPr>
          <a:xfrm>
            <a:off x="6770520" y="903240"/>
            <a:ext cx="2907000" cy="1344600"/>
            <a:chOff x="6770520" y="903240"/>
            <a:chExt cx="2907000" cy="1344600"/>
          </a:xfrm>
        </p:grpSpPr>
        <p:grpSp>
          <p:nvGrpSpPr>
            <p:cNvPr id="448" name="Group 17"/>
            <p:cNvGrpSpPr/>
            <p:nvPr/>
          </p:nvGrpSpPr>
          <p:grpSpPr>
            <a:xfrm>
              <a:off x="6770520" y="903240"/>
              <a:ext cx="1096920" cy="1344600"/>
              <a:chOff x="6770520" y="903240"/>
              <a:chExt cx="1096920" cy="1344600"/>
            </a:xfrm>
          </p:grpSpPr>
          <p:sp>
            <p:nvSpPr>
              <p:cNvPr id="449" name="Freeform 3"/>
              <p:cNvSpPr/>
              <p:nvPr/>
            </p:nvSpPr>
            <p:spPr>
              <a:xfrm>
                <a:off x="6770520" y="10062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1">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2"/>
                    </a:lnTo>
                    <a:lnTo>
                      <a:pt x="625982" y="1217802"/>
                    </a:lnTo>
                    <a:lnTo>
                      <a:pt x="599566" y="1223391"/>
                    </a:lnTo>
                    <a:lnTo>
                      <a:pt x="572262" y="1228470"/>
                    </a:lnTo>
                    <a:lnTo>
                      <a:pt x="543814" y="1232535"/>
                    </a:lnTo>
                    <a:lnTo>
                      <a:pt x="514857" y="1235964"/>
                    </a:lnTo>
                    <a:lnTo>
                      <a:pt x="485393" y="1238376"/>
                    </a:lnTo>
                    <a:lnTo>
                      <a:pt x="455422" y="1240282"/>
                    </a:lnTo>
                    <a:lnTo>
                      <a:pt x="395097" y="1242060"/>
                    </a:lnTo>
                    <a:lnTo>
                      <a:pt x="335026" y="1240282"/>
                    </a:lnTo>
                    <a:lnTo>
                      <a:pt x="305435" y="1238376"/>
                    </a:lnTo>
                    <a:lnTo>
                      <a:pt x="276605" y="1235964"/>
                    </a:lnTo>
                    <a:lnTo>
                      <a:pt x="248157" y="1232535"/>
                    </a:lnTo>
                    <a:lnTo>
                      <a:pt x="220599" y="1228470"/>
                    </a:lnTo>
                    <a:lnTo>
                      <a:pt x="194055" y="1223391"/>
                    </a:lnTo>
                    <a:lnTo>
                      <a:pt x="168782" y="1217802"/>
                    </a:lnTo>
                    <a:lnTo>
                      <a:pt x="144653" y="1211452"/>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0" name="Freeform 4"/>
              <p:cNvSpPr/>
              <p:nvPr/>
            </p:nvSpPr>
            <p:spPr>
              <a:xfrm>
                <a:off x="6771240" y="10065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79"/>
                    </a:lnTo>
                    <a:lnTo>
                      <a:pt x="167640" y="1217929"/>
                    </a:lnTo>
                    <a:lnTo>
                      <a:pt x="193040" y="1221740"/>
                    </a:lnTo>
                    <a:lnTo>
                      <a:pt x="219710" y="1228090"/>
                    </a:lnTo>
                    <a:lnTo>
                      <a:pt x="247650" y="1231900"/>
                    </a:lnTo>
                    <a:lnTo>
                      <a:pt x="275590" y="1235710"/>
                    </a:lnTo>
                    <a:lnTo>
                      <a:pt x="304800" y="1238250"/>
                    </a:lnTo>
                    <a:lnTo>
                      <a:pt x="334010" y="1239519"/>
                    </a:lnTo>
                    <a:lnTo>
                      <a:pt x="394969" y="1240790"/>
                    </a:lnTo>
                    <a:lnTo>
                      <a:pt x="454660" y="1239519"/>
                    </a:lnTo>
                    <a:lnTo>
                      <a:pt x="485140" y="1238250"/>
                    </a:lnTo>
                    <a:lnTo>
                      <a:pt x="514350" y="1235710"/>
                    </a:lnTo>
                    <a:lnTo>
                      <a:pt x="542290" y="1231900"/>
                    </a:lnTo>
                    <a:lnTo>
                      <a:pt x="571500" y="1228090"/>
                    </a:lnTo>
                    <a:lnTo>
                      <a:pt x="599440" y="1221740"/>
                    </a:lnTo>
                    <a:lnTo>
                      <a:pt x="626110" y="1217929"/>
                    </a:lnTo>
                    <a:lnTo>
                      <a:pt x="651510" y="1211579"/>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Freeform 5"/>
              <p:cNvSpPr/>
              <p:nvPr/>
            </p:nvSpPr>
            <p:spPr>
              <a:xfrm>
                <a:off x="6770520" y="9032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3">
                    <a:moveTo>
                      <a:pt x="659891" y="183008"/>
                    </a:moveTo>
                    <a:lnTo>
                      <a:pt x="627379" y="189103"/>
                    </a:lnTo>
                    <a:lnTo>
                      <a:pt x="592708" y="194184"/>
                    </a:lnTo>
                    <a:lnTo>
                      <a:pt x="556894" y="198248"/>
                    </a:lnTo>
                    <a:lnTo>
                      <a:pt x="519811" y="201676"/>
                    </a:lnTo>
                    <a:lnTo>
                      <a:pt x="481838" y="204217"/>
                    </a:lnTo>
                    <a:lnTo>
                      <a:pt x="443356" y="205486"/>
                    </a:lnTo>
                    <a:lnTo>
                      <a:pt x="404622" y="206122"/>
                    </a:lnTo>
                    <a:lnTo>
                      <a:pt x="365887" y="205486"/>
                    </a:lnTo>
                    <a:lnTo>
                      <a:pt x="327405" y="204217"/>
                    </a:lnTo>
                    <a:lnTo>
                      <a:pt x="289432" y="201676"/>
                    </a:lnTo>
                    <a:lnTo>
                      <a:pt x="252603" y="198248"/>
                    </a:lnTo>
                    <a:lnTo>
                      <a:pt x="216535" y="194184"/>
                    </a:lnTo>
                    <a:lnTo>
                      <a:pt x="182117" y="189103"/>
                    </a:lnTo>
                    <a:lnTo>
                      <a:pt x="149352" y="183008"/>
                    </a:lnTo>
                    <a:lnTo>
                      <a:pt x="118744" y="175769"/>
                    </a:lnTo>
                    <a:lnTo>
                      <a:pt x="104266" y="171831"/>
                    </a:lnTo>
                    <a:lnTo>
                      <a:pt x="90931" y="168022"/>
                    </a:lnTo>
                    <a:lnTo>
                      <a:pt x="78358" y="164084"/>
                    </a:lnTo>
                    <a:lnTo>
                      <a:pt x="66928" y="159639"/>
                    </a:lnTo>
                    <a:lnTo>
                      <a:pt x="56261" y="155448"/>
                    </a:lnTo>
                    <a:lnTo>
                      <a:pt x="46481" y="150750"/>
                    </a:lnTo>
                    <a:lnTo>
                      <a:pt x="29844" y="141606"/>
                    </a:lnTo>
                    <a:lnTo>
                      <a:pt x="17017" y="132334"/>
                    </a:lnTo>
                    <a:lnTo>
                      <a:pt x="7747" y="122683"/>
                    </a:lnTo>
                    <a:lnTo>
                      <a:pt x="2031" y="112903"/>
                    </a:lnTo>
                    <a:lnTo>
                      <a:pt x="0" y="103251"/>
                    </a:lnTo>
                    <a:lnTo>
                      <a:pt x="2031" y="93219"/>
                    </a:lnTo>
                    <a:lnTo>
                      <a:pt x="7747" y="83186"/>
                    </a:lnTo>
                    <a:lnTo>
                      <a:pt x="17017" y="73787"/>
                    </a:lnTo>
                    <a:lnTo>
                      <a:pt x="29844" y="64262"/>
                    </a:lnTo>
                    <a:lnTo>
                      <a:pt x="46481" y="55119"/>
                    </a:lnTo>
                    <a:lnTo>
                      <a:pt x="56261" y="50673"/>
                    </a:lnTo>
                    <a:lnTo>
                      <a:pt x="66928" y="46483"/>
                    </a:lnTo>
                    <a:lnTo>
                      <a:pt x="78358" y="42292"/>
                    </a:lnTo>
                    <a:lnTo>
                      <a:pt x="90931" y="38100"/>
                    </a:lnTo>
                    <a:lnTo>
                      <a:pt x="104266" y="34036"/>
                    </a:lnTo>
                    <a:lnTo>
                      <a:pt x="118744" y="30100"/>
                    </a:lnTo>
                    <a:lnTo>
                      <a:pt x="149352" y="23114"/>
                    </a:lnTo>
                    <a:lnTo>
                      <a:pt x="182117" y="17019"/>
                    </a:lnTo>
                    <a:lnTo>
                      <a:pt x="216535" y="12065"/>
                    </a:lnTo>
                    <a:lnTo>
                      <a:pt x="252603" y="7620"/>
                    </a:lnTo>
                    <a:lnTo>
                      <a:pt x="289432" y="4192"/>
                    </a:lnTo>
                    <a:lnTo>
                      <a:pt x="327405" y="2033"/>
                    </a:lnTo>
                    <a:lnTo>
                      <a:pt x="365887" y="636"/>
                    </a:lnTo>
                    <a:lnTo>
                      <a:pt x="404622" y="0"/>
                    </a:lnTo>
                    <a:lnTo>
                      <a:pt x="443356" y="636"/>
                    </a:lnTo>
                    <a:lnTo>
                      <a:pt x="481838" y="2033"/>
                    </a:lnTo>
                    <a:lnTo>
                      <a:pt x="519811" y="4192"/>
                    </a:lnTo>
                    <a:lnTo>
                      <a:pt x="556894" y="7620"/>
                    </a:lnTo>
                    <a:lnTo>
                      <a:pt x="592708" y="12065"/>
                    </a:lnTo>
                    <a:lnTo>
                      <a:pt x="627379" y="17019"/>
                    </a:lnTo>
                    <a:lnTo>
                      <a:pt x="659891" y="23114"/>
                    </a:lnTo>
                    <a:lnTo>
                      <a:pt x="690499" y="30100"/>
                    </a:lnTo>
                    <a:lnTo>
                      <a:pt x="705230" y="34036"/>
                    </a:lnTo>
                    <a:lnTo>
                      <a:pt x="718312" y="38100"/>
                    </a:lnTo>
                    <a:lnTo>
                      <a:pt x="730885" y="42292"/>
                    </a:lnTo>
                    <a:lnTo>
                      <a:pt x="742568" y="46483"/>
                    </a:lnTo>
                    <a:lnTo>
                      <a:pt x="752982" y="50673"/>
                    </a:lnTo>
                    <a:lnTo>
                      <a:pt x="762762" y="55119"/>
                    </a:lnTo>
                    <a:lnTo>
                      <a:pt x="779399" y="64262"/>
                    </a:lnTo>
                    <a:lnTo>
                      <a:pt x="792479" y="73787"/>
                    </a:lnTo>
                    <a:lnTo>
                      <a:pt x="801878" y="83186"/>
                    </a:lnTo>
                    <a:lnTo>
                      <a:pt x="807212" y="93219"/>
                    </a:lnTo>
                    <a:lnTo>
                      <a:pt x="809243" y="103251"/>
                    </a:lnTo>
                    <a:lnTo>
                      <a:pt x="807212" y="112903"/>
                    </a:lnTo>
                    <a:lnTo>
                      <a:pt x="801878" y="122683"/>
                    </a:lnTo>
                    <a:lnTo>
                      <a:pt x="792479" y="132334"/>
                    </a:lnTo>
                    <a:lnTo>
                      <a:pt x="779399" y="141606"/>
                    </a:lnTo>
                    <a:lnTo>
                      <a:pt x="762762" y="150750"/>
                    </a:lnTo>
                    <a:lnTo>
                      <a:pt x="752982" y="155448"/>
                    </a:lnTo>
                    <a:lnTo>
                      <a:pt x="742568" y="159639"/>
                    </a:lnTo>
                    <a:lnTo>
                      <a:pt x="730885" y="164084"/>
                    </a:lnTo>
                    <a:lnTo>
                      <a:pt x="718312" y="168022"/>
                    </a:lnTo>
                    <a:lnTo>
                      <a:pt x="705230" y="171831"/>
                    </a:lnTo>
                    <a:lnTo>
                      <a:pt x="690499" y="175769"/>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2" name="Freeform 6"/>
              <p:cNvSpPr/>
              <p:nvPr/>
            </p:nvSpPr>
            <p:spPr>
              <a:xfrm>
                <a:off x="6771240" y="9039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2">
                    <a:moveTo>
                      <a:pt x="689610" y="175261"/>
                    </a:moveTo>
                    <a:lnTo>
                      <a:pt x="704850" y="171450"/>
                    </a:lnTo>
                    <a:lnTo>
                      <a:pt x="716279" y="167641"/>
                    </a:lnTo>
                    <a:lnTo>
                      <a:pt x="730250" y="163830"/>
                    </a:lnTo>
                    <a:lnTo>
                      <a:pt x="741679" y="158750"/>
                    </a:lnTo>
                    <a:lnTo>
                      <a:pt x="751840" y="154941"/>
                    </a:lnTo>
                    <a:lnTo>
                      <a:pt x="762000" y="149861"/>
                    </a:lnTo>
                    <a:lnTo>
                      <a:pt x="778510" y="139700"/>
                    </a:lnTo>
                    <a:lnTo>
                      <a:pt x="792479" y="132080"/>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0"/>
                    </a:lnTo>
                    <a:lnTo>
                      <a:pt x="741679" y="45721"/>
                    </a:lnTo>
                    <a:lnTo>
                      <a:pt x="730250" y="41911"/>
                    </a:lnTo>
                    <a:lnTo>
                      <a:pt x="716279" y="36830"/>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0"/>
                    </a:lnTo>
                    <a:lnTo>
                      <a:pt x="77469" y="41911"/>
                    </a:lnTo>
                    <a:lnTo>
                      <a:pt x="66040" y="45721"/>
                    </a:lnTo>
                    <a:lnTo>
                      <a:pt x="54610" y="49530"/>
                    </a:lnTo>
                    <a:lnTo>
                      <a:pt x="45719" y="54611"/>
                    </a:lnTo>
                    <a:lnTo>
                      <a:pt x="29210" y="63500"/>
                    </a:lnTo>
                    <a:lnTo>
                      <a:pt x="16510" y="73661"/>
                    </a:lnTo>
                    <a:lnTo>
                      <a:pt x="7619" y="82550"/>
                    </a:lnTo>
                    <a:lnTo>
                      <a:pt x="1269" y="92711"/>
                    </a:lnTo>
                    <a:lnTo>
                      <a:pt x="0" y="102871"/>
                    </a:lnTo>
                    <a:lnTo>
                      <a:pt x="1269" y="111761"/>
                    </a:lnTo>
                    <a:lnTo>
                      <a:pt x="7619" y="121921"/>
                    </a:lnTo>
                    <a:lnTo>
                      <a:pt x="16510" y="132080"/>
                    </a:lnTo>
                    <a:lnTo>
                      <a:pt x="29210" y="139700"/>
                    </a:lnTo>
                    <a:lnTo>
                      <a:pt x="45719" y="149861"/>
                    </a:lnTo>
                    <a:lnTo>
                      <a:pt x="54610" y="154941"/>
                    </a:lnTo>
                    <a:lnTo>
                      <a:pt x="66040" y="158750"/>
                    </a:lnTo>
                    <a:lnTo>
                      <a:pt x="77469" y="163830"/>
                    </a:lnTo>
                    <a:lnTo>
                      <a:pt x="90169" y="167641"/>
                    </a:lnTo>
                    <a:lnTo>
                      <a:pt x="102869" y="171450"/>
                    </a:lnTo>
                    <a:lnTo>
                      <a:pt x="116840" y="175261"/>
                    </a:lnTo>
                    <a:lnTo>
                      <a:pt x="148590" y="181611"/>
                    </a:lnTo>
                    <a:lnTo>
                      <a:pt x="181610" y="187961"/>
                    </a:lnTo>
                    <a:lnTo>
                      <a:pt x="215900" y="193041"/>
                    </a:lnTo>
                    <a:lnTo>
                      <a:pt x="252729" y="198121"/>
                    </a:lnTo>
                    <a:lnTo>
                      <a:pt x="289560" y="200661"/>
                    </a:lnTo>
                    <a:lnTo>
                      <a:pt x="326390" y="204471"/>
                    </a:lnTo>
                    <a:lnTo>
                      <a:pt x="365760" y="204471"/>
                    </a:lnTo>
                    <a:lnTo>
                      <a:pt x="403860" y="205741"/>
                    </a:lnTo>
                    <a:lnTo>
                      <a:pt x="441960" y="204471"/>
                    </a:lnTo>
                    <a:lnTo>
                      <a:pt x="481329" y="204471"/>
                    </a:lnTo>
                    <a:lnTo>
                      <a:pt x="519429" y="200661"/>
                    </a:lnTo>
                    <a:lnTo>
                      <a:pt x="556260" y="198121"/>
                    </a:lnTo>
                    <a:lnTo>
                      <a:pt x="593090" y="193041"/>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3" name="Freeform 7"/>
              <p:cNvSpPr/>
              <p:nvPr/>
            </p:nvSpPr>
            <p:spPr>
              <a:xfrm>
                <a:off x="6798240" y="10771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8">
                    <a:moveTo>
                      <a:pt x="26798" y="11303"/>
                    </a:moveTo>
                    <a:lnTo>
                      <a:pt x="45974" y="17527"/>
                    </a:lnTo>
                    <a:lnTo>
                      <a:pt x="65913" y="23369"/>
                    </a:lnTo>
                    <a:lnTo>
                      <a:pt x="87123" y="28830"/>
                    </a:lnTo>
                    <a:lnTo>
                      <a:pt x="109601" y="34164"/>
                    </a:lnTo>
                    <a:lnTo>
                      <a:pt x="132715" y="38608"/>
                    </a:lnTo>
                    <a:lnTo>
                      <a:pt x="157099" y="42800"/>
                    </a:lnTo>
                    <a:lnTo>
                      <a:pt x="181991" y="46609"/>
                    </a:lnTo>
                    <a:lnTo>
                      <a:pt x="207519" y="50039"/>
                    </a:lnTo>
                    <a:lnTo>
                      <a:pt x="233808" y="52578"/>
                    </a:lnTo>
                    <a:lnTo>
                      <a:pt x="287528" y="57278"/>
                    </a:lnTo>
                    <a:lnTo>
                      <a:pt x="342392" y="60072"/>
                    </a:lnTo>
                    <a:lnTo>
                      <a:pt x="397384" y="60833"/>
                    </a:lnTo>
                    <a:lnTo>
                      <a:pt x="452121" y="60072"/>
                    </a:lnTo>
                    <a:lnTo>
                      <a:pt x="505334" y="57023"/>
                    </a:lnTo>
                    <a:lnTo>
                      <a:pt x="531369" y="55119"/>
                    </a:lnTo>
                    <a:lnTo>
                      <a:pt x="556769" y="52578"/>
                    </a:lnTo>
                    <a:lnTo>
                      <a:pt x="581279" y="49403"/>
                    </a:lnTo>
                    <a:lnTo>
                      <a:pt x="605410" y="45847"/>
                    </a:lnTo>
                    <a:lnTo>
                      <a:pt x="628270" y="41911"/>
                    </a:lnTo>
                    <a:lnTo>
                      <a:pt x="650113" y="37592"/>
                    </a:lnTo>
                    <a:lnTo>
                      <a:pt x="670814" y="32513"/>
                    </a:lnTo>
                    <a:lnTo>
                      <a:pt x="690499" y="26925"/>
                    </a:lnTo>
                    <a:lnTo>
                      <a:pt x="708787" y="21209"/>
                    </a:lnTo>
                    <a:lnTo>
                      <a:pt x="725678" y="14733"/>
                    </a:lnTo>
                    <a:lnTo>
                      <a:pt x="741299" y="7494"/>
                    </a:lnTo>
                    <a:lnTo>
                      <a:pt x="755270" y="0"/>
                    </a:lnTo>
                    <a:lnTo>
                      <a:pt x="755270" y="1016128"/>
                    </a:lnTo>
                    <a:lnTo>
                      <a:pt x="737109" y="1030732"/>
                    </a:lnTo>
                    <a:lnTo>
                      <a:pt x="717804" y="1044448"/>
                    </a:lnTo>
                    <a:lnTo>
                      <a:pt x="697358" y="1057148"/>
                    </a:lnTo>
                    <a:lnTo>
                      <a:pt x="675767" y="1068579"/>
                    </a:lnTo>
                    <a:lnTo>
                      <a:pt x="653415" y="1078866"/>
                    </a:lnTo>
                    <a:lnTo>
                      <a:pt x="629921" y="1088263"/>
                    </a:lnTo>
                    <a:lnTo>
                      <a:pt x="605410" y="1096645"/>
                    </a:lnTo>
                    <a:lnTo>
                      <a:pt x="580517" y="1103631"/>
                    </a:lnTo>
                    <a:lnTo>
                      <a:pt x="554610" y="1109981"/>
                    </a:lnTo>
                    <a:lnTo>
                      <a:pt x="528321" y="1115060"/>
                    </a:lnTo>
                    <a:lnTo>
                      <a:pt x="501524" y="1119506"/>
                    </a:lnTo>
                    <a:lnTo>
                      <a:pt x="474346" y="1122807"/>
                    </a:lnTo>
                    <a:lnTo>
                      <a:pt x="447040" y="1125348"/>
                    </a:lnTo>
                    <a:lnTo>
                      <a:pt x="419482" y="1126745"/>
                    </a:lnTo>
                    <a:lnTo>
                      <a:pt x="364237" y="1127507"/>
                    </a:lnTo>
                    <a:lnTo>
                      <a:pt x="309373" y="1124966"/>
                    </a:lnTo>
                    <a:lnTo>
                      <a:pt x="282449" y="1122173"/>
                    </a:lnTo>
                    <a:lnTo>
                      <a:pt x="255651" y="1119251"/>
                    </a:lnTo>
                    <a:lnTo>
                      <a:pt x="229362" y="1115060"/>
                    </a:lnTo>
                    <a:lnTo>
                      <a:pt x="204089" y="1110235"/>
                    </a:lnTo>
                    <a:lnTo>
                      <a:pt x="178944" y="1105028"/>
                    </a:lnTo>
                    <a:lnTo>
                      <a:pt x="154813" y="1098932"/>
                    </a:lnTo>
                    <a:lnTo>
                      <a:pt x="131699" y="1092201"/>
                    </a:lnTo>
                    <a:lnTo>
                      <a:pt x="109221" y="1084961"/>
                    </a:lnTo>
                    <a:lnTo>
                      <a:pt x="87758" y="1077214"/>
                    </a:lnTo>
                    <a:lnTo>
                      <a:pt x="67819" y="1068579"/>
                    </a:lnTo>
                    <a:lnTo>
                      <a:pt x="48641" y="1059688"/>
                    </a:lnTo>
                    <a:lnTo>
                      <a:pt x="31242" y="1050163"/>
                    </a:lnTo>
                    <a:lnTo>
                      <a:pt x="14860" y="1040257"/>
                    </a:lnTo>
                    <a:lnTo>
                      <a:pt x="0" y="1029716"/>
                    </a:lnTo>
                    <a:lnTo>
                      <a:pt x="9145" y="4700"/>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4" name="Freeform 8"/>
              <p:cNvSpPr/>
              <p:nvPr/>
            </p:nvSpPr>
            <p:spPr>
              <a:xfrm>
                <a:off x="7487640" y="13276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4">
                    <a:moveTo>
                      <a:pt x="10413" y="65406"/>
                    </a:moveTo>
                    <a:lnTo>
                      <a:pt x="16637" y="54992"/>
                    </a:lnTo>
                    <a:lnTo>
                      <a:pt x="25146" y="44197"/>
                    </a:lnTo>
                    <a:lnTo>
                      <a:pt x="34671" y="34290"/>
                    </a:lnTo>
                    <a:lnTo>
                      <a:pt x="45338" y="24512"/>
                    </a:lnTo>
                    <a:lnTo>
                      <a:pt x="57023" y="15875"/>
                    </a:lnTo>
                    <a:lnTo>
                      <a:pt x="68834" y="8637"/>
                    </a:lnTo>
                    <a:lnTo>
                      <a:pt x="80772" y="3303"/>
                    </a:lnTo>
                    <a:lnTo>
                      <a:pt x="92583" y="0"/>
                    </a:lnTo>
                    <a:lnTo>
                      <a:pt x="105917" y="509"/>
                    </a:lnTo>
                    <a:lnTo>
                      <a:pt x="120396" y="1144"/>
                    </a:lnTo>
                    <a:lnTo>
                      <a:pt x="151257" y="3684"/>
                    </a:lnTo>
                    <a:lnTo>
                      <a:pt x="182625" y="8001"/>
                    </a:lnTo>
                    <a:lnTo>
                      <a:pt x="214629" y="14478"/>
                    </a:lnTo>
                    <a:lnTo>
                      <a:pt x="230124" y="18670"/>
                    </a:lnTo>
                    <a:lnTo>
                      <a:pt x="244855" y="23623"/>
                    </a:lnTo>
                    <a:lnTo>
                      <a:pt x="259334" y="29211"/>
                    </a:lnTo>
                    <a:lnTo>
                      <a:pt x="272796" y="35687"/>
                    </a:lnTo>
                    <a:lnTo>
                      <a:pt x="285241" y="42800"/>
                    </a:lnTo>
                    <a:lnTo>
                      <a:pt x="297052" y="50800"/>
                    </a:lnTo>
                    <a:lnTo>
                      <a:pt x="307086" y="60072"/>
                    </a:lnTo>
                    <a:lnTo>
                      <a:pt x="315849" y="70104"/>
                    </a:lnTo>
                    <a:lnTo>
                      <a:pt x="323468" y="84583"/>
                    </a:lnTo>
                    <a:lnTo>
                      <a:pt x="330580" y="100965"/>
                    </a:lnTo>
                    <a:lnTo>
                      <a:pt x="337438" y="118745"/>
                    </a:lnTo>
                    <a:lnTo>
                      <a:pt x="343788" y="137923"/>
                    </a:lnTo>
                    <a:lnTo>
                      <a:pt x="349503" y="158497"/>
                    </a:lnTo>
                    <a:lnTo>
                      <a:pt x="354584" y="180214"/>
                    </a:lnTo>
                    <a:lnTo>
                      <a:pt x="359537" y="203200"/>
                    </a:lnTo>
                    <a:lnTo>
                      <a:pt x="363854" y="226823"/>
                    </a:lnTo>
                    <a:lnTo>
                      <a:pt x="367664" y="251587"/>
                    </a:lnTo>
                    <a:lnTo>
                      <a:pt x="371221" y="276861"/>
                    </a:lnTo>
                    <a:lnTo>
                      <a:pt x="376427" y="329185"/>
                    </a:lnTo>
                    <a:lnTo>
                      <a:pt x="379222" y="382525"/>
                    </a:lnTo>
                    <a:lnTo>
                      <a:pt x="379984" y="436245"/>
                    </a:lnTo>
                    <a:lnTo>
                      <a:pt x="378460" y="489332"/>
                    </a:lnTo>
                    <a:lnTo>
                      <a:pt x="376809" y="515113"/>
                    </a:lnTo>
                    <a:lnTo>
                      <a:pt x="374268" y="540385"/>
                    </a:lnTo>
                    <a:lnTo>
                      <a:pt x="371221" y="565151"/>
                    </a:lnTo>
                    <a:lnTo>
                      <a:pt x="367664" y="589154"/>
                    </a:lnTo>
                    <a:lnTo>
                      <a:pt x="363347" y="612141"/>
                    </a:lnTo>
                    <a:lnTo>
                      <a:pt x="358521" y="633857"/>
                    </a:lnTo>
                    <a:lnTo>
                      <a:pt x="352678" y="654685"/>
                    </a:lnTo>
                    <a:lnTo>
                      <a:pt x="346455" y="673863"/>
                    </a:lnTo>
                    <a:lnTo>
                      <a:pt x="339343" y="692278"/>
                    </a:lnTo>
                    <a:lnTo>
                      <a:pt x="331724" y="708279"/>
                    </a:lnTo>
                    <a:lnTo>
                      <a:pt x="323214" y="723012"/>
                    </a:lnTo>
                    <a:lnTo>
                      <a:pt x="313943" y="736473"/>
                    </a:lnTo>
                    <a:lnTo>
                      <a:pt x="304164" y="747269"/>
                    </a:lnTo>
                    <a:lnTo>
                      <a:pt x="293115" y="756159"/>
                    </a:lnTo>
                    <a:lnTo>
                      <a:pt x="285750" y="758317"/>
                    </a:lnTo>
                    <a:lnTo>
                      <a:pt x="277622" y="760350"/>
                    </a:lnTo>
                    <a:lnTo>
                      <a:pt x="259841" y="763144"/>
                    </a:lnTo>
                    <a:lnTo>
                      <a:pt x="239902" y="764794"/>
                    </a:lnTo>
                    <a:lnTo>
                      <a:pt x="218693" y="765303"/>
                    </a:lnTo>
                    <a:lnTo>
                      <a:pt x="196088" y="764794"/>
                    </a:lnTo>
                    <a:lnTo>
                      <a:pt x="173354" y="763144"/>
                    </a:lnTo>
                    <a:lnTo>
                      <a:pt x="150113" y="760857"/>
                    </a:lnTo>
                    <a:lnTo>
                      <a:pt x="127508" y="758191"/>
                    </a:lnTo>
                    <a:lnTo>
                      <a:pt x="105663" y="754507"/>
                    </a:lnTo>
                    <a:lnTo>
                      <a:pt x="85216" y="750316"/>
                    </a:lnTo>
                    <a:lnTo>
                      <a:pt x="66548" y="745491"/>
                    </a:lnTo>
                    <a:lnTo>
                      <a:pt x="50291" y="741172"/>
                    </a:lnTo>
                    <a:lnTo>
                      <a:pt x="36575" y="736092"/>
                    </a:lnTo>
                    <a:lnTo>
                      <a:pt x="26162" y="730885"/>
                    </a:lnTo>
                    <a:lnTo>
                      <a:pt x="19176" y="725806"/>
                    </a:lnTo>
                    <a:lnTo>
                      <a:pt x="17145" y="723012"/>
                    </a:lnTo>
                    <a:lnTo>
                      <a:pt x="16383" y="720598"/>
                    </a:lnTo>
                    <a:lnTo>
                      <a:pt x="16383" y="669417"/>
                    </a:lnTo>
                    <a:lnTo>
                      <a:pt x="15366" y="660273"/>
                    </a:lnTo>
                    <a:lnTo>
                      <a:pt x="14732" y="651638"/>
                    </a:lnTo>
                    <a:lnTo>
                      <a:pt x="14732" y="643891"/>
                    </a:lnTo>
                    <a:lnTo>
                      <a:pt x="15621" y="636651"/>
                    </a:lnTo>
                    <a:lnTo>
                      <a:pt x="17145" y="629920"/>
                    </a:lnTo>
                    <a:lnTo>
                      <a:pt x="19176" y="623825"/>
                    </a:lnTo>
                    <a:lnTo>
                      <a:pt x="21843" y="618237"/>
                    </a:lnTo>
                    <a:lnTo>
                      <a:pt x="24891" y="613284"/>
                    </a:lnTo>
                    <a:lnTo>
                      <a:pt x="28701" y="608838"/>
                    </a:lnTo>
                    <a:lnTo>
                      <a:pt x="32765" y="604901"/>
                    </a:lnTo>
                    <a:lnTo>
                      <a:pt x="42672" y="598806"/>
                    </a:lnTo>
                    <a:lnTo>
                      <a:pt x="54101" y="594614"/>
                    </a:lnTo>
                    <a:lnTo>
                      <a:pt x="67183" y="592075"/>
                    </a:lnTo>
                    <a:lnTo>
                      <a:pt x="73787" y="592710"/>
                    </a:lnTo>
                    <a:lnTo>
                      <a:pt x="80010" y="594107"/>
                    </a:lnTo>
                    <a:lnTo>
                      <a:pt x="85471" y="596647"/>
                    </a:lnTo>
                    <a:lnTo>
                      <a:pt x="90932" y="599948"/>
                    </a:lnTo>
                    <a:lnTo>
                      <a:pt x="100457" y="608585"/>
                    </a:lnTo>
                    <a:lnTo>
                      <a:pt x="109727" y="618872"/>
                    </a:lnTo>
                    <a:lnTo>
                      <a:pt x="119634" y="629666"/>
                    </a:lnTo>
                    <a:lnTo>
                      <a:pt x="130175" y="640207"/>
                    </a:lnTo>
                    <a:lnTo>
                      <a:pt x="136525" y="644653"/>
                    </a:lnTo>
                    <a:lnTo>
                      <a:pt x="143128" y="649097"/>
                    </a:lnTo>
                    <a:lnTo>
                      <a:pt x="150495" y="652781"/>
                    </a:lnTo>
                    <a:lnTo>
                      <a:pt x="158623" y="655575"/>
                    </a:lnTo>
                    <a:lnTo>
                      <a:pt x="167386" y="657479"/>
                    </a:lnTo>
                    <a:lnTo>
                      <a:pt x="176402" y="658876"/>
                    </a:lnTo>
                    <a:lnTo>
                      <a:pt x="194945" y="658876"/>
                    </a:lnTo>
                    <a:lnTo>
                      <a:pt x="213487" y="656337"/>
                    </a:lnTo>
                    <a:lnTo>
                      <a:pt x="231521" y="651003"/>
                    </a:lnTo>
                    <a:lnTo>
                      <a:pt x="239902" y="647447"/>
                    </a:lnTo>
                    <a:lnTo>
                      <a:pt x="247650" y="643510"/>
                    </a:lnTo>
                    <a:lnTo>
                      <a:pt x="255015" y="638810"/>
                    </a:lnTo>
                    <a:lnTo>
                      <a:pt x="261874" y="633857"/>
                    </a:lnTo>
                    <a:lnTo>
                      <a:pt x="267842" y="628523"/>
                    </a:lnTo>
                    <a:lnTo>
                      <a:pt x="272796" y="622682"/>
                    </a:lnTo>
                    <a:lnTo>
                      <a:pt x="276860" y="616332"/>
                    </a:lnTo>
                    <a:lnTo>
                      <a:pt x="280162" y="609601"/>
                    </a:lnTo>
                    <a:lnTo>
                      <a:pt x="284225" y="597154"/>
                    </a:lnTo>
                    <a:lnTo>
                      <a:pt x="287782" y="582676"/>
                    </a:lnTo>
                    <a:lnTo>
                      <a:pt x="290702" y="567056"/>
                    </a:lnTo>
                    <a:lnTo>
                      <a:pt x="293115" y="550419"/>
                    </a:lnTo>
                    <a:lnTo>
                      <a:pt x="294893" y="532892"/>
                    </a:lnTo>
                    <a:lnTo>
                      <a:pt x="295910" y="514604"/>
                    </a:lnTo>
                    <a:lnTo>
                      <a:pt x="296545" y="495428"/>
                    </a:lnTo>
                    <a:lnTo>
                      <a:pt x="296545" y="475362"/>
                    </a:lnTo>
                    <a:lnTo>
                      <a:pt x="295910" y="454534"/>
                    </a:lnTo>
                    <a:lnTo>
                      <a:pt x="294513" y="433706"/>
                    </a:lnTo>
                    <a:lnTo>
                      <a:pt x="290195" y="391160"/>
                    </a:lnTo>
                    <a:lnTo>
                      <a:pt x="283337" y="348107"/>
                    </a:lnTo>
                    <a:lnTo>
                      <a:pt x="274447" y="305816"/>
                    </a:lnTo>
                    <a:lnTo>
                      <a:pt x="268859" y="285242"/>
                    </a:lnTo>
                    <a:lnTo>
                      <a:pt x="262889" y="264923"/>
                    </a:lnTo>
                    <a:lnTo>
                      <a:pt x="256286" y="245492"/>
                    </a:lnTo>
                    <a:lnTo>
                      <a:pt x="248920" y="226823"/>
                    </a:lnTo>
                    <a:lnTo>
                      <a:pt x="241300" y="208789"/>
                    </a:lnTo>
                    <a:lnTo>
                      <a:pt x="232917" y="191898"/>
                    </a:lnTo>
                    <a:lnTo>
                      <a:pt x="224154" y="176023"/>
                    </a:lnTo>
                    <a:lnTo>
                      <a:pt x="214629" y="161798"/>
                    </a:lnTo>
                    <a:lnTo>
                      <a:pt x="204215" y="148464"/>
                    </a:lnTo>
                    <a:lnTo>
                      <a:pt x="193801" y="136779"/>
                    </a:lnTo>
                    <a:lnTo>
                      <a:pt x="182372" y="126492"/>
                    </a:lnTo>
                    <a:lnTo>
                      <a:pt x="170561" y="117856"/>
                    </a:lnTo>
                    <a:lnTo>
                      <a:pt x="158114" y="111253"/>
                    </a:lnTo>
                    <a:lnTo>
                      <a:pt x="145288" y="106426"/>
                    </a:lnTo>
                    <a:lnTo>
                      <a:pt x="131825" y="103759"/>
                    </a:lnTo>
                    <a:lnTo>
                      <a:pt x="117601" y="103125"/>
                    </a:lnTo>
                    <a:lnTo>
                      <a:pt x="110236" y="102109"/>
                    </a:lnTo>
                    <a:lnTo>
                      <a:pt x="103759" y="103125"/>
                    </a:lnTo>
                    <a:lnTo>
                      <a:pt x="97536" y="105919"/>
                    </a:lnTo>
                    <a:lnTo>
                      <a:pt x="91693" y="110109"/>
                    </a:lnTo>
                    <a:lnTo>
                      <a:pt x="86360" y="115951"/>
                    </a:lnTo>
                    <a:lnTo>
                      <a:pt x="81152" y="122683"/>
                    </a:lnTo>
                    <a:lnTo>
                      <a:pt x="70738" y="137414"/>
                    </a:lnTo>
                    <a:lnTo>
                      <a:pt x="60071" y="152654"/>
                    </a:lnTo>
                    <a:lnTo>
                      <a:pt x="54101" y="160148"/>
                    </a:lnTo>
                    <a:lnTo>
                      <a:pt x="48005" y="166751"/>
                    </a:lnTo>
                    <a:lnTo>
                      <a:pt x="40893" y="172086"/>
                    </a:lnTo>
                    <a:lnTo>
                      <a:pt x="33527" y="176531"/>
                    </a:lnTo>
                    <a:lnTo>
                      <a:pt x="25400" y="179325"/>
                    </a:lnTo>
                    <a:lnTo>
                      <a:pt x="16383" y="180214"/>
                    </a:lnTo>
                    <a:lnTo>
                      <a:pt x="10667" y="165989"/>
                    </a:lnTo>
                    <a:lnTo>
                      <a:pt x="5714" y="151765"/>
                    </a:lnTo>
                    <a:lnTo>
                      <a:pt x="2413" y="137414"/>
                    </a:lnTo>
                    <a:lnTo>
                      <a:pt x="253" y="122683"/>
                    </a:lnTo>
                    <a:lnTo>
                      <a:pt x="0" y="107823"/>
                    </a:lnTo>
                    <a:lnTo>
                      <a:pt x="1650" y="93473"/>
                    </a:lnTo>
                    <a:lnTo>
                      <a:pt x="4952" y="7924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5" name="Freeform 9"/>
              <p:cNvSpPr/>
              <p:nvPr/>
            </p:nvSpPr>
            <p:spPr>
              <a:xfrm>
                <a:off x="7487640" y="13266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80"/>
                    </a:lnTo>
                    <a:lnTo>
                      <a:pt x="25400" y="44450"/>
                    </a:lnTo>
                    <a:lnTo>
                      <a:pt x="35561" y="35560"/>
                    </a:lnTo>
                    <a:lnTo>
                      <a:pt x="45721" y="25400"/>
                    </a:lnTo>
                    <a:lnTo>
                      <a:pt x="57150" y="16510"/>
                    </a:lnTo>
                    <a:lnTo>
                      <a:pt x="68581" y="8889"/>
                    </a:lnTo>
                    <a:lnTo>
                      <a:pt x="80011" y="3810"/>
                    </a:lnTo>
                    <a:lnTo>
                      <a:pt x="92711" y="0"/>
                    </a:lnTo>
                    <a:lnTo>
                      <a:pt x="105411" y="1269"/>
                    </a:lnTo>
                    <a:lnTo>
                      <a:pt x="119381" y="1269"/>
                    </a:lnTo>
                    <a:lnTo>
                      <a:pt x="151131" y="3810"/>
                    </a:lnTo>
                    <a:lnTo>
                      <a:pt x="182881" y="8889"/>
                    </a:lnTo>
                    <a:lnTo>
                      <a:pt x="214631" y="15239"/>
                    </a:lnTo>
                    <a:lnTo>
                      <a:pt x="229871" y="20319"/>
                    </a:lnTo>
                    <a:lnTo>
                      <a:pt x="245111" y="24130"/>
                    </a:lnTo>
                    <a:lnTo>
                      <a:pt x="260350" y="29210"/>
                    </a:lnTo>
                    <a:lnTo>
                      <a:pt x="273050" y="36830"/>
                    </a:lnTo>
                    <a:lnTo>
                      <a:pt x="285750" y="43180"/>
                    </a:lnTo>
                    <a:lnTo>
                      <a:pt x="297181" y="52069"/>
                    </a:lnTo>
                    <a:lnTo>
                      <a:pt x="307340" y="60960"/>
                    </a:lnTo>
                    <a:lnTo>
                      <a:pt x="316231" y="69850"/>
                    </a:lnTo>
                    <a:lnTo>
                      <a:pt x="323850" y="85089"/>
                    </a:lnTo>
                    <a:lnTo>
                      <a:pt x="330200" y="101600"/>
                    </a:lnTo>
                    <a:lnTo>
                      <a:pt x="337821" y="119380"/>
                    </a:lnTo>
                    <a:lnTo>
                      <a:pt x="342900" y="139700"/>
                    </a:lnTo>
                    <a:lnTo>
                      <a:pt x="349250" y="160019"/>
                    </a:lnTo>
                    <a:lnTo>
                      <a:pt x="354331" y="180339"/>
                    </a:lnTo>
                    <a:lnTo>
                      <a:pt x="359411" y="204469"/>
                    </a:lnTo>
                    <a:lnTo>
                      <a:pt x="364490" y="228600"/>
                    </a:lnTo>
                    <a:lnTo>
                      <a:pt x="368300" y="251460"/>
                    </a:lnTo>
                    <a:lnTo>
                      <a:pt x="372111" y="278130"/>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19"/>
                    </a:lnTo>
                    <a:lnTo>
                      <a:pt x="262890" y="265430"/>
                    </a:lnTo>
                    <a:lnTo>
                      <a:pt x="256540" y="246380"/>
                    </a:lnTo>
                    <a:lnTo>
                      <a:pt x="248921" y="228600"/>
                    </a:lnTo>
                    <a:lnTo>
                      <a:pt x="241300" y="209550"/>
                    </a:lnTo>
                    <a:lnTo>
                      <a:pt x="233681" y="193039"/>
                    </a:lnTo>
                    <a:lnTo>
                      <a:pt x="223521" y="176530"/>
                    </a:lnTo>
                    <a:lnTo>
                      <a:pt x="214631" y="162560"/>
                    </a:lnTo>
                    <a:lnTo>
                      <a:pt x="204471" y="148589"/>
                    </a:lnTo>
                    <a:lnTo>
                      <a:pt x="194311" y="138430"/>
                    </a:lnTo>
                    <a:lnTo>
                      <a:pt x="182881" y="127000"/>
                    </a:lnTo>
                    <a:lnTo>
                      <a:pt x="170181" y="118110"/>
                    </a:lnTo>
                    <a:lnTo>
                      <a:pt x="157481" y="111760"/>
                    </a:lnTo>
                    <a:lnTo>
                      <a:pt x="144781" y="106680"/>
                    </a:lnTo>
                    <a:lnTo>
                      <a:pt x="132081" y="105410"/>
                    </a:lnTo>
                    <a:lnTo>
                      <a:pt x="118111" y="102869"/>
                    </a:lnTo>
                    <a:lnTo>
                      <a:pt x="110490" y="102869"/>
                    </a:lnTo>
                    <a:lnTo>
                      <a:pt x="104140" y="102869"/>
                    </a:lnTo>
                    <a:lnTo>
                      <a:pt x="97790" y="106680"/>
                    </a:lnTo>
                    <a:lnTo>
                      <a:pt x="92711" y="110489"/>
                    </a:lnTo>
                    <a:lnTo>
                      <a:pt x="86361" y="116839"/>
                    </a:lnTo>
                    <a:lnTo>
                      <a:pt x="81281" y="123189"/>
                    </a:lnTo>
                    <a:lnTo>
                      <a:pt x="71121" y="138430"/>
                    </a:lnTo>
                    <a:lnTo>
                      <a:pt x="60961" y="153669"/>
                    </a:lnTo>
                    <a:lnTo>
                      <a:pt x="54611" y="161289"/>
                    </a:lnTo>
                    <a:lnTo>
                      <a:pt x="46990" y="167639"/>
                    </a:lnTo>
                    <a:lnTo>
                      <a:pt x="40640" y="172719"/>
                    </a:lnTo>
                    <a:lnTo>
                      <a:pt x="33021" y="176530"/>
                    </a:lnTo>
                    <a:lnTo>
                      <a:pt x="25400" y="180339"/>
                    </a:lnTo>
                    <a:lnTo>
                      <a:pt x="16511" y="180339"/>
                    </a:lnTo>
                    <a:lnTo>
                      <a:pt x="10161" y="167639"/>
                    </a:lnTo>
                    <a:lnTo>
                      <a:pt x="6350" y="152400"/>
                    </a:lnTo>
                    <a:lnTo>
                      <a:pt x="2540" y="138430"/>
                    </a:lnTo>
                    <a:lnTo>
                      <a:pt x="0" y="123189"/>
                    </a:lnTo>
                    <a:lnTo>
                      <a:pt x="0" y="107950"/>
                    </a:lnTo>
                    <a:lnTo>
                      <a:pt x="2540" y="93980"/>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Freeform 10"/>
              <p:cNvSpPr/>
              <p:nvPr/>
            </p:nvSpPr>
            <p:spPr>
              <a:xfrm>
                <a:off x="7727040" y="14043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6"/>
                    </a:moveTo>
                    <a:lnTo>
                      <a:pt x="80009" y="15366"/>
                    </a:lnTo>
                    <a:lnTo>
                      <a:pt x="87630" y="31114"/>
                    </a:lnTo>
                    <a:lnTo>
                      <a:pt x="94742" y="48386"/>
                    </a:lnTo>
                    <a:lnTo>
                      <a:pt x="101345" y="67564"/>
                    </a:lnTo>
                    <a:lnTo>
                      <a:pt x="107315" y="88391"/>
                    </a:lnTo>
                    <a:lnTo>
                      <a:pt x="112776" y="110363"/>
                    </a:lnTo>
                    <a:lnTo>
                      <a:pt x="117729" y="133730"/>
                    </a:lnTo>
                    <a:lnTo>
                      <a:pt x="121793" y="157988"/>
                    </a:lnTo>
                    <a:lnTo>
                      <a:pt x="125856" y="182372"/>
                    </a:lnTo>
                    <a:lnTo>
                      <a:pt x="128905" y="207644"/>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8"/>
                    </a:lnTo>
                    <a:lnTo>
                      <a:pt x="37465" y="150114"/>
                    </a:lnTo>
                    <a:lnTo>
                      <a:pt x="28193" y="117855"/>
                    </a:lnTo>
                    <a:lnTo>
                      <a:pt x="23241" y="102869"/>
                    </a:lnTo>
                    <a:lnTo>
                      <a:pt x="18668" y="89280"/>
                    </a:lnTo>
                    <a:lnTo>
                      <a:pt x="13716" y="76708"/>
                    </a:lnTo>
                    <a:lnTo>
                      <a:pt x="8763" y="65405"/>
                    </a:lnTo>
                    <a:lnTo>
                      <a:pt x="4318" y="55880"/>
                    </a:lnTo>
                    <a:lnTo>
                      <a:pt x="0" y="48133"/>
                    </a:lnTo>
                    <a:lnTo>
                      <a:pt x="4953" y="37845"/>
                    </a:lnTo>
                    <a:lnTo>
                      <a:pt x="12065" y="27813"/>
                    </a:lnTo>
                    <a:lnTo>
                      <a:pt x="20446" y="18669"/>
                    </a:lnTo>
                    <a:lnTo>
                      <a:pt x="30098" y="10794"/>
                    </a:lnTo>
                    <a:lnTo>
                      <a:pt x="40767" y="4699"/>
                    </a:lnTo>
                    <a:lnTo>
                      <a:pt x="51307" y="889"/>
                    </a:lnTo>
                    <a:lnTo>
                      <a:pt x="61976" y="0"/>
                    </a:lnTo>
                    <a:lnTo>
                      <a:pt x="66929" y="508"/>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Freeform 11"/>
              <p:cNvSpPr/>
              <p:nvPr/>
            </p:nvSpPr>
            <p:spPr>
              <a:xfrm>
                <a:off x="7524720" y="19375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Freeform 12"/>
              <p:cNvSpPr/>
              <p:nvPr/>
            </p:nvSpPr>
            <p:spPr>
              <a:xfrm>
                <a:off x="7499520" y="14000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8">
                    <a:moveTo>
                      <a:pt x="0" y="83186"/>
                    </a:moveTo>
                    <a:lnTo>
                      <a:pt x="762" y="77344"/>
                    </a:lnTo>
                    <a:lnTo>
                      <a:pt x="2413" y="71502"/>
                    </a:lnTo>
                    <a:lnTo>
                      <a:pt x="5081" y="65406"/>
                    </a:lnTo>
                    <a:lnTo>
                      <a:pt x="13082" y="53467"/>
                    </a:lnTo>
                    <a:lnTo>
                      <a:pt x="23241" y="41783"/>
                    </a:lnTo>
                    <a:lnTo>
                      <a:pt x="35179" y="30608"/>
                    </a:lnTo>
                    <a:lnTo>
                      <a:pt x="47499" y="20956"/>
                    </a:lnTo>
                    <a:lnTo>
                      <a:pt x="59436" y="12828"/>
                    </a:lnTo>
                    <a:lnTo>
                      <a:pt x="70104" y="6478"/>
                    </a:lnTo>
                    <a:lnTo>
                      <a:pt x="76962" y="3430"/>
                    </a:lnTo>
                    <a:lnTo>
                      <a:pt x="84328" y="1397"/>
                    </a:lnTo>
                    <a:lnTo>
                      <a:pt x="92457" y="381"/>
                    </a:lnTo>
                    <a:lnTo>
                      <a:pt x="101220" y="0"/>
                    </a:lnTo>
                    <a:lnTo>
                      <a:pt x="109983" y="636"/>
                    </a:lnTo>
                    <a:lnTo>
                      <a:pt x="119253" y="2286"/>
                    </a:lnTo>
                    <a:lnTo>
                      <a:pt x="137541" y="6986"/>
                    </a:lnTo>
                    <a:lnTo>
                      <a:pt x="146559" y="10669"/>
                    </a:lnTo>
                    <a:lnTo>
                      <a:pt x="154940" y="14859"/>
                    </a:lnTo>
                    <a:lnTo>
                      <a:pt x="162941" y="19812"/>
                    </a:lnTo>
                    <a:lnTo>
                      <a:pt x="170561" y="25020"/>
                    </a:lnTo>
                    <a:lnTo>
                      <a:pt x="177420" y="31242"/>
                    </a:lnTo>
                    <a:lnTo>
                      <a:pt x="183135" y="37592"/>
                    </a:lnTo>
                    <a:lnTo>
                      <a:pt x="188087" y="44831"/>
                    </a:lnTo>
                    <a:lnTo>
                      <a:pt x="191644" y="52325"/>
                    </a:lnTo>
                    <a:lnTo>
                      <a:pt x="177674" y="47372"/>
                    </a:lnTo>
                    <a:lnTo>
                      <a:pt x="165736" y="42037"/>
                    </a:lnTo>
                    <a:lnTo>
                      <a:pt x="154433" y="36195"/>
                    </a:lnTo>
                    <a:lnTo>
                      <a:pt x="144399" y="30353"/>
                    </a:lnTo>
                    <a:lnTo>
                      <a:pt x="134874" y="25020"/>
                    </a:lnTo>
                    <a:lnTo>
                      <a:pt x="126111" y="20575"/>
                    </a:lnTo>
                    <a:lnTo>
                      <a:pt x="117349" y="17019"/>
                    </a:lnTo>
                    <a:lnTo>
                      <a:pt x="108966" y="14986"/>
                    </a:lnTo>
                    <a:lnTo>
                      <a:pt x="100331" y="14859"/>
                    </a:lnTo>
                    <a:lnTo>
                      <a:pt x="91695" y="17272"/>
                    </a:lnTo>
                    <a:lnTo>
                      <a:pt x="82677" y="21972"/>
                    </a:lnTo>
                    <a:lnTo>
                      <a:pt x="72899" y="29845"/>
                    </a:lnTo>
                    <a:lnTo>
                      <a:pt x="67437" y="34798"/>
                    </a:lnTo>
                    <a:lnTo>
                      <a:pt x="62231" y="40641"/>
                    </a:lnTo>
                    <a:lnTo>
                      <a:pt x="56515" y="47880"/>
                    </a:lnTo>
                    <a:lnTo>
                      <a:pt x="50420" y="55627"/>
                    </a:lnTo>
                    <a:lnTo>
                      <a:pt x="44197" y="64517"/>
                    </a:lnTo>
                    <a:lnTo>
                      <a:pt x="37338" y="74550"/>
                    </a:lnTo>
                    <a:lnTo>
                      <a:pt x="30226" y="85598"/>
                    </a:lnTo>
                    <a:lnTo>
                      <a:pt x="22861" y="97917"/>
                    </a:lnTo>
                    <a:lnTo>
                      <a:pt x="16257" y="97409"/>
                    </a:lnTo>
                    <a:lnTo>
                      <a:pt x="9272" y="96267"/>
                    </a:lnTo>
                    <a:lnTo>
                      <a:pt x="3557" y="93472"/>
                    </a:lnTo>
                    <a:lnTo>
                      <a:pt x="1524" y="91567"/>
                    </a:lnTo>
                    <a:lnTo>
                      <a:pt x="509" y="88773"/>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9" name="Freeform 13"/>
              <p:cNvSpPr/>
              <p:nvPr/>
            </p:nvSpPr>
            <p:spPr>
              <a:xfrm>
                <a:off x="6792480" y="9388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1">
                    <a:moveTo>
                      <a:pt x="622046" y="148718"/>
                    </a:moveTo>
                    <a:lnTo>
                      <a:pt x="591185" y="153671"/>
                    </a:lnTo>
                    <a:lnTo>
                      <a:pt x="558673" y="157861"/>
                    </a:lnTo>
                    <a:lnTo>
                      <a:pt x="524892" y="161163"/>
                    </a:lnTo>
                    <a:lnTo>
                      <a:pt x="489967" y="163958"/>
                    </a:lnTo>
                    <a:lnTo>
                      <a:pt x="454153" y="165989"/>
                    </a:lnTo>
                    <a:lnTo>
                      <a:pt x="417831" y="167133"/>
                    </a:lnTo>
                    <a:lnTo>
                      <a:pt x="381508" y="167260"/>
                    </a:lnTo>
                    <a:lnTo>
                      <a:pt x="344679" y="167133"/>
                    </a:lnTo>
                    <a:lnTo>
                      <a:pt x="308610" y="165989"/>
                    </a:lnTo>
                    <a:lnTo>
                      <a:pt x="272670" y="163958"/>
                    </a:lnTo>
                    <a:lnTo>
                      <a:pt x="237745" y="161163"/>
                    </a:lnTo>
                    <a:lnTo>
                      <a:pt x="203835" y="157861"/>
                    </a:lnTo>
                    <a:lnTo>
                      <a:pt x="171323" y="153671"/>
                    </a:lnTo>
                    <a:lnTo>
                      <a:pt x="140844" y="148718"/>
                    </a:lnTo>
                    <a:lnTo>
                      <a:pt x="111507" y="142875"/>
                    </a:lnTo>
                    <a:lnTo>
                      <a:pt x="85598" y="136525"/>
                    </a:lnTo>
                    <a:lnTo>
                      <a:pt x="62738" y="129541"/>
                    </a:lnTo>
                    <a:lnTo>
                      <a:pt x="43561" y="122555"/>
                    </a:lnTo>
                    <a:lnTo>
                      <a:pt x="27813" y="115316"/>
                    </a:lnTo>
                    <a:lnTo>
                      <a:pt x="15495" y="107569"/>
                    </a:lnTo>
                    <a:lnTo>
                      <a:pt x="6985" y="99441"/>
                    </a:lnTo>
                    <a:lnTo>
                      <a:pt x="1524" y="91694"/>
                    </a:lnTo>
                    <a:lnTo>
                      <a:pt x="0" y="83694"/>
                    </a:lnTo>
                    <a:lnTo>
                      <a:pt x="1524" y="75566"/>
                    </a:lnTo>
                    <a:lnTo>
                      <a:pt x="6985" y="67819"/>
                    </a:lnTo>
                    <a:lnTo>
                      <a:pt x="15495" y="59818"/>
                    </a:lnTo>
                    <a:lnTo>
                      <a:pt x="27813" y="51944"/>
                    </a:lnTo>
                    <a:lnTo>
                      <a:pt x="43561" y="44450"/>
                    </a:lnTo>
                    <a:lnTo>
                      <a:pt x="62738" y="37466"/>
                    </a:lnTo>
                    <a:lnTo>
                      <a:pt x="85598" y="30861"/>
                    </a:lnTo>
                    <a:lnTo>
                      <a:pt x="111507" y="24511"/>
                    </a:lnTo>
                    <a:lnTo>
                      <a:pt x="140844" y="18543"/>
                    </a:lnTo>
                    <a:lnTo>
                      <a:pt x="171323" y="13589"/>
                    </a:lnTo>
                    <a:lnTo>
                      <a:pt x="203835" y="9399"/>
                    </a:lnTo>
                    <a:lnTo>
                      <a:pt x="237745" y="6097"/>
                    </a:lnTo>
                    <a:lnTo>
                      <a:pt x="272670" y="3302"/>
                    </a:lnTo>
                    <a:lnTo>
                      <a:pt x="308610" y="1397"/>
                    </a:lnTo>
                    <a:lnTo>
                      <a:pt x="344679" y="255"/>
                    </a:lnTo>
                    <a:lnTo>
                      <a:pt x="381508" y="0"/>
                    </a:lnTo>
                    <a:lnTo>
                      <a:pt x="417831" y="255"/>
                    </a:lnTo>
                    <a:lnTo>
                      <a:pt x="454153" y="1397"/>
                    </a:lnTo>
                    <a:lnTo>
                      <a:pt x="489967" y="3302"/>
                    </a:lnTo>
                    <a:lnTo>
                      <a:pt x="524892" y="6097"/>
                    </a:lnTo>
                    <a:lnTo>
                      <a:pt x="558673" y="9399"/>
                    </a:lnTo>
                    <a:lnTo>
                      <a:pt x="591185" y="13589"/>
                    </a:lnTo>
                    <a:lnTo>
                      <a:pt x="622046" y="18543"/>
                    </a:lnTo>
                    <a:lnTo>
                      <a:pt x="651003" y="24511"/>
                    </a:lnTo>
                    <a:lnTo>
                      <a:pt x="677292" y="30861"/>
                    </a:lnTo>
                    <a:lnTo>
                      <a:pt x="700152" y="37466"/>
                    </a:lnTo>
                    <a:lnTo>
                      <a:pt x="718947" y="44450"/>
                    </a:lnTo>
                    <a:lnTo>
                      <a:pt x="734822" y="51944"/>
                    </a:lnTo>
                    <a:lnTo>
                      <a:pt x="747142" y="59818"/>
                    </a:lnTo>
                    <a:lnTo>
                      <a:pt x="755778" y="67819"/>
                    </a:lnTo>
                    <a:lnTo>
                      <a:pt x="760984" y="75566"/>
                    </a:lnTo>
                    <a:lnTo>
                      <a:pt x="762890" y="83694"/>
                    </a:lnTo>
                    <a:lnTo>
                      <a:pt x="760984" y="91694"/>
                    </a:lnTo>
                    <a:lnTo>
                      <a:pt x="755778" y="99441"/>
                    </a:lnTo>
                    <a:lnTo>
                      <a:pt x="747142" y="107569"/>
                    </a:lnTo>
                    <a:lnTo>
                      <a:pt x="734822" y="115316"/>
                    </a:lnTo>
                    <a:lnTo>
                      <a:pt x="718947" y="122555"/>
                    </a:lnTo>
                    <a:lnTo>
                      <a:pt x="700152" y="129541"/>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Freeform 14"/>
              <p:cNvSpPr/>
              <p:nvPr/>
            </p:nvSpPr>
            <p:spPr>
              <a:xfrm>
                <a:off x="7619760" y="13964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0">
                    <a:moveTo>
                      <a:pt x="-767" y="-32517"/>
                    </a:moveTo>
                    <a:lnTo>
                      <a:pt x="-8386" y="26669"/>
                    </a:lnTo>
                    <a:lnTo>
                      <a:pt x="-16006" y="20319"/>
                    </a:lnTo>
                    <a:lnTo>
                      <a:pt x="-24896" y="15239"/>
                    </a:lnTo>
                    <a:lnTo>
                      <a:pt x="-32517" y="10160"/>
                    </a:lnTo>
                    <a:lnTo>
                      <a:pt x="24130" y="5080"/>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61" name="Freeform 15"/>
              <p:cNvSpPr/>
              <p:nvPr/>
            </p:nvSpPr>
            <p:spPr>
              <a:xfrm>
                <a:off x="7605720" y="20340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62" name="Freeform 16"/>
              <p:cNvSpPr/>
              <p:nvPr/>
            </p:nvSpPr>
            <p:spPr>
              <a:xfrm>
                <a:off x="7054560" y="11221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1">
                    <a:moveTo>
                      <a:pt x="189230" y="5080"/>
                    </a:moveTo>
                    <a:lnTo>
                      <a:pt x="165100" y="6350"/>
                    </a:lnTo>
                    <a:lnTo>
                      <a:pt x="142240" y="7620"/>
                    </a:lnTo>
                    <a:lnTo>
                      <a:pt x="92709" y="7620"/>
                    </a:lnTo>
                    <a:lnTo>
                      <a:pt x="68580" y="7620"/>
                    </a:lnTo>
                    <a:lnTo>
                      <a:pt x="43180" y="6350"/>
                    </a:lnTo>
                    <a:lnTo>
                      <a:pt x="21590" y="3809"/>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63" name="TextBox 18"/>
            <p:cNvSpPr/>
            <p:nvPr/>
          </p:nvSpPr>
          <p:spPr>
            <a:xfrm>
              <a:off x="8013600" y="146016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464" name="Oval 19"/>
            <p:cNvSpPr/>
            <p:nvPr/>
          </p:nvSpPr>
          <p:spPr>
            <a:xfrm>
              <a:off x="8508960" y="156168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Oval 20"/>
            <p:cNvSpPr/>
            <p:nvPr/>
          </p:nvSpPr>
          <p:spPr>
            <a:xfrm>
              <a:off x="8966160" y="156168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Oval 21"/>
            <p:cNvSpPr/>
            <p:nvPr/>
          </p:nvSpPr>
          <p:spPr>
            <a:xfrm>
              <a:off x="9423720" y="156168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TextBox 22"/>
            <p:cNvSpPr/>
            <p:nvPr/>
          </p:nvSpPr>
          <p:spPr>
            <a:xfrm>
              <a:off x="6971760" y="1472760"/>
              <a:ext cx="63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 24"/>
                </a:rPr>
                <a:t>C</a:t>
              </a:r>
              <a:endParaRPr b="0" lang="en-US" sz="2400" spc="-1" strike="noStrike">
                <a:solidFill>
                  <a:srgbClr val="000000"/>
                </a:solidFill>
                <a:latin typeface="Calibri"/>
              </a:endParaRPr>
            </a:p>
          </p:txBody>
        </p:sp>
      </p:grpSp>
      <p:sp>
        <p:nvSpPr>
          <p:cNvPr id="468" name="Freeform 24"/>
          <p:cNvSpPr/>
          <p:nvPr/>
        </p:nvSpPr>
        <p:spPr>
          <a:xfrm>
            <a:off x="5803920" y="218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2701" h="12701">
                <a:moveTo>
                  <a:pt x="0" y="0"/>
                </a:moveTo>
                <a:lnTo>
                  <a:pt x="12700" y="12700"/>
                </a:lnTo>
              </a:path>
            </a:pathLst>
          </a:custGeom>
          <a:noFill/>
          <a:ln w="38160">
            <a:solidFill>
              <a:srgbClr val="009300"/>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TextBox 1"/>
          <p:cNvSpPr/>
          <p:nvPr/>
        </p:nvSpPr>
        <p:spPr>
          <a:xfrm>
            <a:off x="25560" y="203040"/>
            <a:ext cx="855972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Ex 1: Evaluate Expression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ff"/>
                </a:solidFill>
                <a:uFillTx/>
                <a:latin typeface="Comic Sans MS - 36"/>
              </a:rPr>
              <a:t>a)</a:t>
            </a:r>
            <a:r>
              <a:rPr b="0" lang="en-CA" sz="2300" spc="-1" strike="noStrike">
                <a:solidFill>
                  <a:srgbClr val="0000ff"/>
                </a:solidFill>
                <a:latin typeface="Comic Sans MS - 24"/>
              </a:rPr>
              <a:t> Use cups and counters to model the expression 3</a:t>
            </a:r>
            <a:r>
              <a:rPr b="0" i="1" lang="en-CA" sz="2300" spc="-1" strike="noStrike">
                <a:solidFill>
                  <a:srgbClr val="0000ff"/>
                </a:solidFill>
                <a:latin typeface="Comic Sans MS - 24"/>
              </a:rPr>
              <a:t>x</a:t>
            </a:r>
            <a:r>
              <a:rPr b="0" lang="en-CA" sz="2300" spc="-1" strike="noStrike">
                <a:solidFill>
                  <a:srgbClr val="0000ff"/>
                </a:solidFill>
                <a:latin typeface="Comic Sans MS - 24"/>
              </a:rPr>
              <a:t> + 2.</a:t>
            </a:r>
            <a:endParaRPr b="0" lang="en-US" sz="2300" spc="-1" strike="noStrike">
              <a:solidFill>
                <a:srgbClr val="000000"/>
              </a:solidFill>
              <a:latin typeface="Calibri"/>
            </a:endParaRPr>
          </a:p>
        </p:txBody>
      </p:sp>
      <p:sp>
        <p:nvSpPr>
          <p:cNvPr id="470" name="Oval 2"/>
          <p:cNvSpPr/>
          <p:nvPr/>
        </p:nvSpPr>
        <p:spPr>
          <a:xfrm>
            <a:off x="8991720" y="144792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Group 17"/>
          <p:cNvGrpSpPr/>
          <p:nvPr/>
        </p:nvGrpSpPr>
        <p:grpSpPr>
          <a:xfrm>
            <a:off x="8739360" y="1944720"/>
            <a:ext cx="1096920" cy="1344600"/>
            <a:chOff x="8739360" y="1944720"/>
            <a:chExt cx="1096920" cy="1344600"/>
          </a:xfrm>
        </p:grpSpPr>
        <p:sp>
          <p:nvSpPr>
            <p:cNvPr id="472" name="Freeform 3"/>
            <p:cNvSpPr/>
            <p:nvPr/>
          </p:nvSpPr>
          <p:spPr>
            <a:xfrm>
              <a:off x="8739360" y="204768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Freeform 4"/>
            <p:cNvSpPr/>
            <p:nvPr/>
          </p:nvSpPr>
          <p:spPr>
            <a:xfrm>
              <a:off x="8740080" y="204804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500" y="1228090"/>
                  </a:lnTo>
                  <a:lnTo>
                    <a:pt x="599440" y="1221740"/>
                  </a:lnTo>
                  <a:lnTo>
                    <a:pt x="626110" y="1217930"/>
                  </a:lnTo>
                  <a:lnTo>
                    <a:pt x="651510" y="1211580"/>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4" name="Freeform 5"/>
            <p:cNvSpPr/>
            <p:nvPr/>
          </p:nvSpPr>
          <p:spPr>
            <a:xfrm>
              <a:off x="8739360" y="194472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2">
                  <a:moveTo>
                    <a:pt x="659891" y="183008"/>
                  </a:moveTo>
                  <a:lnTo>
                    <a:pt x="627379" y="189103"/>
                  </a:lnTo>
                  <a:lnTo>
                    <a:pt x="592708" y="194183"/>
                  </a:lnTo>
                  <a:lnTo>
                    <a:pt x="556894" y="198248"/>
                  </a:lnTo>
                  <a:lnTo>
                    <a:pt x="519811" y="201677"/>
                  </a:lnTo>
                  <a:lnTo>
                    <a:pt x="481838" y="204217"/>
                  </a:lnTo>
                  <a:lnTo>
                    <a:pt x="443356" y="205487"/>
                  </a:lnTo>
                  <a:lnTo>
                    <a:pt x="404622" y="206121"/>
                  </a:lnTo>
                  <a:lnTo>
                    <a:pt x="365887" y="205487"/>
                  </a:lnTo>
                  <a:lnTo>
                    <a:pt x="327405" y="204217"/>
                  </a:lnTo>
                  <a:lnTo>
                    <a:pt x="289432" y="201677"/>
                  </a:lnTo>
                  <a:lnTo>
                    <a:pt x="252603" y="198248"/>
                  </a:lnTo>
                  <a:lnTo>
                    <a:pt x="216535" y="194183"/>
                  </a:lnTo>
                  <a:lnTo>
                    <a:pt x="182117" y="189103"/>
                  </a:lnTo>
                  <a:lnTo>
                    <a:pt x="149352" y="183008"/>
                  </a:lnTo>
                  <a:lnTo>
                    <a:pt x="118744" y="175768"/>
                  </a:lnTo>
                  <a:lnTo>
                    <a:pt x="104266" y="171831"/>
                  </a:lnTo>
                  <a:lnTo>
                    <a:pt x="90931" y="168021"/>
                  </a:lnTo>
                  <a:lnTo>
                    <a:pt x="78358" y="164084"/>
                  </a:lnTo>
                  <a:lnTo>
                    <a:pt x="66928" y="159640"/>
                  </a:lnTo>
                  <a:lnTo>
                    <a:pt x="56261" y="155449"/>
                  </a:lnTo>
                  <a:lnTo>
                    <a:pt x="46481" y="150749"/>
                  </a:lnTo>
                  <a:lnTo>
                    <a:pt x="29844" y="141605"/>
                  </a:lnTo>
                  <a:lnTo>
                    <a:pt x="17017" y="132334"/>
                  </a:lnTo>
                  <a:lnTo>
                    <a:pt x="7747" y="122683"/>
                  </a:lnTo>
                  <a:lnTo>
                    <a:pt x="2031" y="112903"/>
                  </a:lnTo>
                  <a:lnTo>
                    <a:pt x="0" y="103252"/>
                  </a:lnTo>
                  <a:lnTo>
                    <a:pt x="2031" y="93218"/>
                  </a:lnTo>
                  <a:lnTo>
                    <a:pt x="7747" y="83186"/>
                  </a:lnTo>
                  <a:lnTo>
                    <a:pt x="17017" y="73787"/>
                  </a:lnTo>
                  <a:lnTo>
                    <a:pt x="29844" y="64262"/>
                  </a:lnTo>
                  <a:lnTo>
                    <a:pt x="46481" y="55118"/>
                  </a:lnTo>
                  <a:lnTo>
                    <a:pt x="56261" y="50674"/>
                  </a:lnTo>
                  <a:lnTo>
                    <a:pt x="66928" y="46483"/>
                  </a:lnTo>
                  <a:lnTo>
                    <a:pt x="78358" y="42292"/>
                  </a:lnTo>
                  <a:lnTo>
                    <a:pt x="90931" y="38100"/>
                  </a:lnTo>
                  <a:lnTo>
                    <a:pt x="104266" y="34037"/>
                  </a:lnTo>
                  <a:lnTo>
                    <a:pt x="118744" y="30099"/>
                  </a:lnTo>
                  <a:lnTo>
                    <a:pt x="149352" y="23115"/>
                  </a:lnTo>
                  <a:lnTo>
                    <a:pt x="182117" y="17018"/>
                  </a:lnTo>
                  <a:lnTo>
                    <a:pt x="216535" y="12065"/>
                  </a:lnTo>
                  <a:lnTo>
                    <a:pt x="252603" y="7621"/>
                  </a:lnTo>
                  <a:lnTo>
                    <a:pt x="289432" y="4192"/>
                  </a:lnTo>
                  <a:lnTo>
                    <a:pt x="327405" y="2033"/>
                  </a:lnTo>
                  <a:lnTo>
                    <a:pt x="365887" y="636"/>
                  </a:lnTo>
                  <a:lnTo>
                    <a:pt x="404622" y="0"/>
                  </a:lnTo>
                  <a:lnTo>
                    <a:pt x="443356" y="636"/>
                  </a:lnTo>
                  <a:lnTo>
                    <a:pt x="481838" y="2033"/>
                  </a:lnTo>
                  <a:lnTo>
                    <a:pt x="519811" y="4192"/>
                  </a:lnTo>
                  <a:lnTo>
                    <a:pt x="556894" y="7621"/>
                  </a:lnTo>
                  <a:lnTo>
                    <a:pt x="592708" y="12065"/>
                  </a:lnTo>
                  <a:lnTo>
                    <a:pt x="627379" y="17018"/>
                  </a:lnTo>
                  <a:lnTo>
                    <a:pt x="659891" y="23115"/>
                  </a:lnTo>
                  <a:lnTo>
                    <a:pt x="690499" y="30099"/>
                  </a:lnTo>
                  <a:lnTo>
                    <a:pt x="705230" y="34037"/>
                  </a:lnTo>
                  <a:lnTo>
                    <a:pt x="718312" y="38100"/>
                  </a:lnTo>
                  <a:lnTo>
                    <a:pt x="730885" y="42292"/>
                  </a:lnTo>
                  <a:lnTo>
                    <a:pt x="742568" y="46483"/>
                  </a:lnTo>
                  <a:lnTo>
                    <a:pt x="752982" y="50674"/>
                  </a:lnTo>
                  <a:lnTo>
                    <a:pt x="762762" y="55118"/>
                  </a:lnTo>
                  <a:lnTo>
                    <a:pt x="779399" y="64262"/>
                  </a:lnTo>
                  <a:lnTo>
                    <a:pt x="792479" y="73787"/>
                  </a:lnTo>
                  <a:lnTo>
                    <a:pt x="801878" y="83186"/>
                  </a:lnTo>
                  <a:lnTo>
                    <a:pt x="807212" y="93218"/>
                  </a:lnTo>
                  <a:lnTo>
                    <a:pt x="809243" y="103252"/>
                  </a:lnTo>
                  <a:lnTo>
                    <a:pt x="807212" y="112903"/>
                  </a:lnTo>
                  <a:lnTo>
                    <a:pt x="801878" y="122683"/>
                  </a:lnTo>
                  <a:lnTo>
                    <a:pt x="792479" y="132334"/>
                  </a:lnTo>
                  <a:lnTo>
                    <a:pt x="779399" y="141605"/>
                  </a:lnTo>
                  <a:lnTo>
                    <a:pt x="762762" y="150749"/>
                  </a:lnTo>
                  <a:lnTo>
                    <a:pt x="752982" y="155449"/>
                  </a:lnTo>
                  <a:lnTo>
                    <a:pt x="742568" y="159640"/>
                  </a:lnTo>
                  <a:lnTo>
                    <a:pt x="730885" y="164084"/>
                  </a:lnTo>
                  <a:lnTo>
                    <a:pt x="718312" y="168021"/>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5" name="Freeform 6"/>
            <p:cNvSpPr/>
            <p:nvPr/>
          </p:nvSpPr>
          <p:spPr>
            <a:xfrm>
              <a:off x="8740080" y="194544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0" y="175261"/>
                  </a:moveTo>
                  <a:lnTo>
                    <a:pt x="704850" y="171450"/>
                  </a:lnTo>
                  <a:lnTo>
                    <a:pt x="716279" y="167640"/>
                  </a:lnTo>
                  <a:lnTo>
                    <a:pt x="730250" y="163831"/>
                  </a:lnTo>
                  <a:lnTo>
                    <a:pt x="741679" y="158750"/>
                  </a:lnTo>
                  <a:lnTo>
                    <a:pt x="751840" y="154940"/>
                  </a:lnTo>
                  <a:lnTo>
                    <a:pt x="762000" y="149861"/>
                  </a:lnTo>
                  <a:lnTo>
                    <a:pt x="778510" y="139700"/>
                  </a:lnTo>
                  <a:lnTo>
                    <a:pt x="792479" y="132081"/>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1"/>
                  </a:lnTo>
                  <a:lnTo>
                    <a:pt x="741679" y="45721"/>
                  </a:lnTo>
                  <a:lnTo>
                    <a:pt x="730250" y="41911"/>
                  </a:lnTo>
                  <a:lnTo>
                    <a:pt x="716279" y="36831"/>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40"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40"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6" name="Freeform 7"/>
            <p:cNvSpPr/>
            <p:nvPr/>
          </p:nvSpPr>
          <p:spPr>
            <a:xfrm>
              <a:off x="8767080" y="211860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7">
                  <a:moveTo>
                    <a:pt x="26798" y="11303"/>
                  </a:moveTo>
                  <a:lnTo>
                    <a:pt x="45974" y="17525"/>
                  </a:lnTo>
                  <a:lnTo>
                    <a:pt x="65913" y="23368"/>
                  </a:lnTo>
                  <a:lnTo>
                    <a:pt x="87123" y="28828"/>
                  </a:lnTo>
                  <a:lnTo>
                    <a:pt x="109601" y="34162"/>
                  </a:lnTo>
                  <a:lnTo>
                    <a:pt x="132715" y="38607"/>
                  </a:lnTo>
                  <a:lnTo>
                    <a:pt x="157099" y="42799"/>
                  </a:lnTo>
                  <a:lnTo>
                    <a:pt x="181991" y="46609"/>
                  </a:lnTo>
                  <a:lnTo>
                    <a:pt x="207519" y="50037"/>
                  </a:lnTo>
                  <a:lnTo>
                    <a:pt x="233808" y="52578"/>
                  </a:lnTo>
                  <a:lnTo>
                    <a:pt x="287528" y="57277"/>
                  </a:lnTo>
                  <a:lnTo>
                    <a:pt x="342392" y="60071"/>
                  </a:lnTo>
                  <a:lnTo>
                    <a:pt x="397384" y="60832"/>
                  </a:lnTo>
                  <a:lnTo>
                    <a:pt x="452121" y="60071"/>
                  </a:lnTo>
                  <a:lnTo>
                    <a:pt x="505334" y="57022"/>
                  </a:lnTo>
                  <a:lnTo>
                    <a:pt x="531369" y="55118"/>
                  </a:lnTo>
                  <a:lnTo>
                    <a:pt x="556769" y="52578"/>
                  </a:lnTo>
                  <a:lnTo>
                    <a:pt x="581279" y="49403"/>
                  </a:lnTo>
                  <a:lnTo>
                    <a:pt x="605410" y="45847"/>
                  </a:lnTo>
                  <a:lnTo>
                    <a:pt x="628270" y="41909"/>
                  </a:lnTo>
                  <a:lnTo>
                    <a:pt x="650113" y="37591"/>
                  </a:lnTo>
                  <a:lnTo>
                    <a:pt x="670814" y="32512"/>
                  </a:lnTo>
                  <a:lnTo>
                    <a:pt x="690499" y="26924"/>
                  </a:lnTo>
                  <a:lnTo>
                    <a:pt x="708787" y="21209"/>
                  </a:lnTo>
                  <a:lnTo>
                    <a:pt x="725678" y="14731"/>
                  </a:lnTo>
                  <a:lnTo>
                    <a:pt x="741299" y="7493"/>
                  </a:lnTo>
                  <a:lnTo>
                    <a:pt x="755270" y="0"/>
                  </a:lnTo>
                  <a:lnTo>
                    <a:pt x="755270" y="1016127"/>
                  </a:lnTo>
                  <a:lnTo>
                    <a:pt x="737109" y="1030731"/>
                  </a:lnTo>
                  <a:lnTo>
                    <a:pt x="717804" y="1044447"/>
                  </a:lnTo>
                  <a:lnTo>
                    <a:pt x="697358" y="1057147"/>
                  </a:lnTo>
                  <a:lnTo>
                    <a:pt x="675767" y="1068578"/>
                  </a:lnTo>
                  <a:lnTo>
                    <a:pt x="653415" y="1078865"/>
                  </a:lnTo>
                  <a:lnTo>
                    <a:pt x="629921" y="1088262"/>
                  </a:lnTo>
                  <a:lnTo>
                    <a:pt x="605410" y="1096644"/>
                  </a:lnTo>
                  <a:lnTo>
                    <a:pt x="580517" y="1103630"/>
                  </a:lnTo>
                  <a:lnTo>
                    <a:pt x="554610" y="1109980"/>
                  </a:lnTo>
                  <a:lnTo>
                    <a:pt x="528321" y="1115059"/>
                  </a:lnTo>
                  <a:lnTo>
                    <a:pt x="501524" y="1119505"/>
                  </a:lnTo>
                  <a:lnTo>
                    <a:pt x="474346" y="1122806"/>
                  </a:lnTo>
                  <a:lnTo>
                    <a:pt x="447040" y="1125347"/>
                  </a:lnTo>
                  <a:lnTo>
                    <a:pt x="419482" y="1126744"/>
                  </a:lnTo>
                  <a:lnTo>
                    <a:pt x="364237" y="1127506"/>
                  </a:lnTo>
                  <a:lnTo>
                    <a:pt x="309373" y="1124965"/>
                  </a:lnTo>
                  <a:lnTo>
                    <a:pt x="282449" y="1122172"/>
                  </a:lnTo>
                  <a:lnTo>
                    <a:pt x="255651" y="1119250"/>
                  </a:lnTo>
                  <a:lnTo>
                    <a:pt x="229362" y="1115059"/>
                  </a:lnTo>
                  <a:lnTo>
                    <a:pt x="204089" y="1110234"/>
                  </a:lnTo>
                  <a:lnTo>
                    <a:pt x="178944" y="1105027"/>
                  </a:lnTo>
                  <a:lnTo>
                    <a:pt x="154813" y="1098931"/>
                  </a:lnTo>
                  <a:lnTo>
                    <a:pt x="131699" y="1092200"/>
                  </a:lnTo>
                  <a:lnTo>
                    <a:pt x="109221" y="1084960"/>
                  </a:lnTo>
                  <a:lnTo>
                    <a:pt x="87758" y="1077213"/>
                  </a:lnTo>
                  <a:lnTo>
                    <a:pt x="67819" y="1068578"/>
                  </a:lnTo>
                  <a:lnTo>
                    <a:pt x="48641" y="1059687"/>
                  </a:lnTo>
                  <a:lnTo>
                    <a:pt x="31242" y="1050162"/>
                  </a:lnTo>
                  <a:lnTo>
                    <a:pt x="14860" y="1040256"/>
                  </a:lnTo>
                  <a:lnTo>
                    <a:pt x="0" y="1029715"/>
                  </a:lnTo>
                  <a:lnTo>
                    <a:pt x="9145"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7" name="Freeform 8"/>
            <p:cNvSpPr/>
            <p:nvPr/>
          </p:nvSpPr>
          <p:spPr>
            <a:xfrm>
              <a:off x="9456480" y="236916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3">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6"/>
                  </a:lnTo>
                  <a:lnTo>
                    <a:pt x="352678" y="654684"/>
                  </a:lnTo>
                  <a:lnTo>
                    <a:pt x="346455" y="673862"/>
                  </a:lnTo>
                  <a:lnTo>
                    <a:pt x="339343" y="692277"/>
                  </a:lnTo>
                  <a:lnTo>
                    <a:pt x="331724" y="708278"/>
                  </a:lnTo>
                  <a:lnTo>
                    <a:pt x="323214" y="723011"/>
                  </a:lnTo>
                  <a:lnTo>
                    <a:pt x="313943" y="736472"/>
                  </a:lnTo>
                  <a:lnTo>
                    <a:pt x="304164" y="747268"/>
                  </a:lnTo>
                  <a:lnTo>
                    <a:pt x="293115" y="756158"/>
                  </a:lnTo>
                  <a:lnTo>
                    <a:pt x="285750" y="758316"/>
                  </a:lnTo>
                  <a:lnTo>
                    <a:pt x="277622" y="760349"/>
                  </a:lnTo>
                  <a:lnTo>
                    <a:pt x="259841" y="763143"/>
                  </a:lnTo>
                  <a:lnTo>
                    <a:pt x="239902" y="764793"/>
                  </a:lnTo>
                  <a:lnTo>
                    <a:pt x="218693" y="765302"/>
                  </a:lnTo>
                  <a:lnTo>
                    <a:pt x="196088" y="764793"/>
                  </a:lnTo>
                  <a:lnTo>
                    <a:pt x="173354" y="763143"/>
                  </a:lnTo>
                  <a:lnTo>
                    <a:pt x="150113" y="760856"/>
                  </a:lnTo>
                  <a:lnTo>
                    <a:pt x="127508" y="758190"/>
                  </a:lnTo>
                  <a:lnTo>
                    <a:pt x="105663" y="754506"/>
                  </a:lnTo>
                  <a:lnTo>
                    <a:pt x="85216" y="750315"/>
                  </a:lnTo>
                  <a:lnTo>
                    <a:pt x="66548" y="745490"/>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90"/>
                  </a:lnTo>
                  <a:lnTo>
                    <a:pt x="15621" y="636650"/>
                  </a:lnTo>
                  <a:lnTo>
                    <a:pt x="17145" y="629919"/>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1"/>
                  </a:lnTo>
                  <a:lnTo>
                    <a:pt x="119634" y="629665"/>
                  </a:lnTo>
                  <a:lnTo>
                    <a:pt x="130175" y="640206"/>
                  </a:lnTo>
                  <a:lnTo>
                    <a:pt x="136525" y="644652"/>
                  </a:lnTo>
                  <a:lnTo>
                    <a:pt x="143128" y="649096"/>
                  </a:lnTo>
                  <a:lnTo>
                    <a:pt x="150495" y="652780"/>
                  </a:lnTo>
                  <a:lnTo>
                    <a:pt x="158623" y="655574"/>
                  </a:lnTo>
                  <a:lnTo>
                    <a:pt x="167386" y="657478"/>
                  </a:lnTo>
                  <a:lnTo>
                    <a:pt x="176402" y="658875"/>
                  </a:lnTo>
                  <a:lnTo>
                    <a:pt x="194945" y="658875"/>
                  </a:lnTo>
                  <a:lnTo>
                    <a:pt x="213487" y="656336"/>
                  </a:lnTo>
                  <a:lnTo>
                    <a:pt x="231521" y="651002"/>
                  </a:lnTo>
                  <a:lnTo>
                    <a:pt x="239902" y="647446"/>
                  </a:lnTo>
                  <a:lnTo>
                    <a:pt x="247650" y="643509"/>
                  </a:lnTo>
                  <a:lnTo>
                    <a:pt x="255015" y="638809"/>
                  </a:lnTo>
                  <a:lnTo>
                    <a:pt x="261874" y="633856"/>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8" name="Freeform 9"/>
            <p:cNvSpPr/>
            <p:nvPr/>
          </p:nvSpPr>
          <p:spPr>
            <a:xfrm>
              <a:off x="9456480" y="236808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9" name="Freeform 10"/>
            <p:cNvSpPr/>
            <p:nvPr/>
          </p:nvSpPr>
          <p:spPr>
            <a:xfrm>
              <a:off x="9695880" y="244584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0" name="Freeform 11"/>
            <p:cNvSpPr/>
            <p:nvPr/>
          </p:nvSpPr>
          <p:spPr>
            <a:xfrm>
              <a:off x="9493560" y="297900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Freeform 12"/>
            <p:cNvSpPr/>
            <p:nvPr/>
          </p:nvSpPr>
          <p:spPr>
            <a:xfrm>
              <a:off x="9468360" y="244152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2" name="Freeform 13"/>
            <p:cNvSpPr/>
            <p:nvPr/>
          </p:nvSpPr>
          <p:spPr>
            <a:xfrm>
              <a:off x="8761320" y="198036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6" y="148718"/>
                  </a:moveTo>
                  <a:lnTo>
                    <a:pt x="591185" y="153671"/>
                  </a:lnTo>
                  <a:lnTo>
                    <a:pt x="558673" y="157862"/>
                  </a:lnTo>
                  <a:lnTo>
                    <a:pt x="524892" y="161163"/>
                  </a:lnTo>
                  <a:lnTo>
                    <a:pt x="489967" y="163958"/>
                  </a:lnTo>
                  <a:lnTo>
                    <a:pt x="454153" y="165990"/>
                  </a:lnTo>
                  <a:lnTo>
                    <a:pt x="417831" y="167133"/>
                  </a:lnTo>
                  <a:lnTo>
                    <a:pt x="381508" y="167259"/>
                  </a:lnTo>
                  <a:lnTo>
                    <a:pt x="344679" y="167133"/>
                  </a:lnTo>
                  <a:lnTo>
                    <a:pt x="308610" y="165990"/>
                  </a:lnTo>
                  <a:lnTo>
                    <a:pt x="272670" y="163958"/>
                  </a:lnTo>
                  <a:lnTo>
                    <a:pt x="237745" y="161163"/>
                  </a:lnTo>
                  <a:lnTo>
                    <a:pt x="203835" y="157862"/>
                  </a:lnTo>
                  <a:lnTo>
                    <a:pt x="171323" y="153671"/>
                  </a:lnTo>
                  <a:lnTo>
                    <a:pt x="140844" y="148718"/>
                  </a:lnTo>
                  <a:lnTo>
                    <a:pt x="111507" y="142875"/>
                  </a:lnTo>
                  <a:lnTo>
                    <a:pt x="85598" y="136525"/>
                  </a:lnTo>
                  <a:lnTo>
                    <a:pt x="62738" y="129540"/>
                  </a:lnTo>
                  <a:lnTo>
                    <a:pt x="43561" y="122556"/>
                  </a:lnTo>
                  <a:lnTo>
                    <a:pt x="27813" y="115316"/>
                  </a:lnTo>
                  <a:lnTo>
                    <a:pt x="15495" y="107569"/>
                  </a:lnTo>
                  <a:lnTo>
                    <a:pt x="6985" y="99441"/>
                  </a:lnTo>
                  <a:lnTo>
                    <a:pt x="1524" y="91694"/>
                  </a:lnTo>
                  <a:lnTo>
                    <a:pt x="0" y="83693"/>
                  </a:lnTo>
                  <a:lnTo>
                    <a:pt x="1524" y="75565"/>
                  </a:lnTo>
                  <a:lnTo>
                    <a:pt x="6985" y="67818"/>
                  </a:lnTo>
                  <a:lnTo>
                    <a:pt x="15495" y="59818"/>
                  </a:lnTo>
                  <a:lnTo>
                    <a:pt x="27813" y="51943"/>
                  </a:lnTo>
                  <a:lnTo>
                    <a:pt x="43561" y="44450"/>
                  </a:lnTo>
                  <a:lnTo>
                    <a:pt x="62738" y="37465"/>
                  </a:lnTo>
                  <a:lnTo>
                    <a:pt x="85598" y="30862"/>
                  </a:lnTo>
                  <a:lnTo>
                    <a:pt x="111507" y="24512"/>
                  </a:lnTo>
                  <a:lnTo>
                    <a:pt x="140844" y="18543"/>
                  </a:lnTo>
                  <a:lnTo>
                    <a:pt x="171323" y="13590"/>
                  </a:lnTo>
                  <a:lnTo>
                    <a:pt x="203835" y="9399"/>
                  </a:lnTo>
                  <a:lnTo>
                    <a:pt x="237745" y="6096"/>
                  </a:lnTo>
                  <a:lnTo>
                    <a:pt x="272670" y="3303"/>
                  </a:lnTo>
                  <a:lnTo>
                    <a:pt x="308610" y="1397"/>
                  </a:lnTo>
                  <a:lnTo>
                    <a:pt x="344679" y="255"/>
                  </a:lnTo>
                  <a:lnTo>
                    <a:pt x="381508" y="0"/>
                  </a:lnTo>
                  <a:lnTo>
                    <a:pt x="417831" y="255"/>
                  </a:lnTo>
                  <a:lnTo>
                    <a:pt x="454153" y="1397"/>
                  </a:lnTo>
                  <a:lnTo>
                    <a:pt x="489967" y="3303"/>
                  </a:lnTo>
                  <a:lnTo>
                    <a:pt x="524892" y="6096"/>
                  </a:lnTo>
                  <a:lnTo>
                    <a:pt x="558673" y="9399"/>
                  </a:lnTo>
                  <a:lnTo>
                    <a:pt x="591185" y="13590"/>
                  </a:lnTo>
                  <a:lnTo>
                    <a:pt x="622046" y="18543"/>
                  </a:lnTo>
                  <a:lnTo>
                    <a:pt x="651003" y="24512"/>
                  </a:lnTo>
                  <a:lnTo>
                    <a:pt x="677292" y="30862"/>
                  </a:lnTo>
                  <a:lnTo>
                    <a:pt x="700152" y="37465"/>
                  </a:lnTo>
                  <a:lnTo>
                    <a:pt x="718947" y="44450"/>
                  </a:lnTo>
                  <a:lnTo>
                    <a:pt x="734822" y="51943"/>
                  </a:lnTo>
                  <a:lnTo>
                    <a:pt x="747142" y="59818"/>
                  </a:lnTo>
                  <a:lnTo>
                    <a:pt x="755778" y="67818"/>
                  </a:lnTo>
                  <a:lnTo>
                    <a:pt x="760984" y="75565"/>
                  </a:lnTo>
                  <a:lnTo>
                    <a:pt x="762890" y="83693"/>
                  </a:lnTo>
                  <a:lnTo>
                    <a:pt x="760984" y="91694"/>
                  </a:lnTo>
                  <a:lnTo>
                    <a:pt x="755778" y="99441"/>
                  </a:lnTo>
                  <a:lnTo>
                    <a:pt x="747142" y="107569"/>
                  </a:lnTo>
                  <a:lnTo>
                    <a:pt x="734822" y="115316"/>
                  </a:lnTo>
                  <a:lnTo>
                    <a:pt x="718947"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Freeform 14"/>
            <p:cNvSpPr/>
            <p:nvPr/>
          </p:nvSpPr>
          <p:spPr>
            <a:xfrm>
              <a:off x="9588600" y="243792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84" name="Freeform 15"/>
            <p:cNvSpPr/>
            <p:nvPr/>
          </p:nvSpPr>
          <p:spPr>
            <a:xfrm>
              <a:off x="9574560" y="307548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85" name="Freeform 16"/>
            <p:cNvSpPr/>
            <p:nvPr/>
          </p:nvSpPr>
          <p:spPr>
            <a:xfrm>
              <a:off x="9023400" y="216360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86" name="Freeform 18"/>
          <p:cNvSpPr/>
          <p:nvPr/>
        </p:nvSpPr>
        <p:spPr>
          <a:xfrm>
            <a:off x="8648640" y="1308240"/>
            <a:ext cx="1257480" cy="2095200"/>
          </a:xfrm>
          <a:custGeom>
            <a:avLst/>
            <a:gdLst>
              <a:gd name="textAreaLeft" fmla="*/ 0 w 1257480"/>
              <a:gd name="textAreaRight" fmla="*/ 1257840 w 1257480"/>
              <a:gd name="textAreaTop" fmla="*/ 0 h 2095200"/>
              <a:gd name="textAreaBottom" fmla="*/ 2095560 h 2095200"/>
            </a:gdLst>
            <a:ahLst/>
            <a:rect l="textAreaLeft" t="textAreaTop" r="textAreaRight" b="textAreaBottom"/>
            <a:pathLst>
              <a:path w="1257301" h="2095501">
                <a:moveTo>
                  <a:pt x="0" y="0"/>
                </a:moveTo>
                <a:lnTo>
                  <a:pt x="1257300" y="0"/>
                </a:lnTo>
                <a:lnTo>
                  <a:pt x="1257300" y="2095500"/>
                </a:lnTo>
                <a:lnTo>
                  <a:pt x="0" y="20955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TextBox 19"/>
          <p:cNvSpPr/>
          <p:nvPr/>
        </p:nvSpPr>
        <p:spPr>
          <a:xfrm>
            <a:off x="9487080" y="1346040"/>
            <a:ext cx="58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488" name="TextBox 20"/>
          <p:cNvSpPr/>
          <p:nvPr/>
        </p:nvSpPr>
        <p:spPr>
          <a:xfrm>
            <a:off x="6756480" y="63360"/>
            <a:ext cx="24890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Evaluate means to determine the result or answer of an expression.</a:t>
            </a:r>
            <a:endParaRPr b="0" lang="en-US" sz="1500" spc="-1" strike="noStrike">
              <a:solidFill>
                <a:srgbClr val="000000"/>
              </a:solidFill>
              <a:latin typeface="Calibri"/>
            </a:endParaRPr>
          </a:p>
        </p:txBody>
      </p:sp>
      <p:sp>
        <p:nvSpPr>
          <p:cNvPr id="489" name="Freeform 21"/>
          <p:cNvSpPr/>
          <p:nvPr/>
        </p:nvSpPr>
        <p:spPr>
          <a:xfrm>
            <a:off x="6172200" y="-63360"/>
            <a:ext cx="3467160" cy="1625400"/>
          </a:xfrm>
          <a:custGeom>
            <a:avLst/>
            <a:gdLst>
              <a:gd name="textAreaLeft" fmla="*/ 0 w 3467160"/>
              <a:gd name="textAreaRight" fmla="*/ 3467520 w 3467160"/>
              <a:gd name="textAreaTop" fmla="*/ 0 h 1625400"/>
              <a:gd name="textAreaBottom" fmla="*/ 1625760 h 1625400"/>
            </a:gdLst>
            <a:ahLst/>
            <a:rect l="textAreaLeft" t="textAreaTop" r="textAreaRight" b="textAreaBottom"/>
            <a:pathLst>
              <a:path w="3467482" h="1625601">
                <a:moveTo>
                  <a:pt x="3555" y="647826"/>
                </a:moveTo>
                <a:lnTo>
                  <a:pt x="0" y="618108"/>
                </a:lnTo>
                <a:lnTo>
                  <a:pt x="2159" y="569722"/>
                </a:lnTo>
                <a:lnTo>
                  <a:pt x="13589" y="529590"/>
                </a:lnTo>
                <a:lnTo>
                  <a:pt x="24129" y="505333"/>
                </a:lnTo>
                <a:lnTo>
                  <a:pt x="41528" y="472820"/>
                </a:lnTo>
                <a:lnTo>
                  <a:pt x="73405" y="431165"/>
                </a:lnTo>
                <a:lnTo>
                  <a:pt x="106045" y="397256"/>
                </a:lnTo>
                <a:lnTo>
                  <a:pt x="153923" y="355472"/>
                </a:lnTo>
                <a:lnTo>
                  <a:pt x="211328" y="316102"/>
                </a:lnTo>
                <a:lnTo>
                  <a:pt x="271907" y="279400"/>
                </a:lnTo>
                <a:lnTo>
                  <a:pt x="353059" y="238887"/>
                </a:lnTo>
                <a:lnTo>
                  <a:pt x="429006" y="206883"/>
                </a:lnTo>
                <a:lnTo>
                  <a:pt x="535051" y="168275"/>
                </a:lnTo>
                <a:lnTo>
                  <a:pt x="641857" y="135001"/>
                </a:lnTo>
                <a:lnTo>
                  <a:pt x="744219" y="108077"/>
                </a:lnTo>
                <a:lnTo>
                  <a:pt x="898906" y="73660"/>
                </a:lnTo>
                <a:lnTo>
                  <a:pt x="1067943" y="45594"/>
                </a:lnTo>
                <a:lnTo>
                  <a:pt x="1195958" y="29337"/>
                </a:lnTo>
                <a:lnTo>
                  <a:pt x="1295145" y="18924"/>
                </a:lnTo>
                <a:lnTo>
                  <a:pt x="1420241" y="9144"/>
                </a:lnTo>
                <a:lnTo>
                  <a:pt x="1575689" y="1524"/>
                </a:lnTo>
                <a:lnTo>
                  <a:pt x="1662810" y="0"/>
                </a:lnTo>
                <a:lnTo>
                  <a:pt x="1817496" y="0"/>
                </a:lnTo>
                <a:lnTo>
                  <a:pt x="1922780" y="3048"/>
                </a:lnTo>
                <a:lnTo>
                  <a:pt x="2065273" y="10669"/>
                </a:lnTo>
                <a:lnTo>
                  <a:pt x="2193290" y="20829"/>
                </a:lnTo>
                <a:lnTo>
                  <a:pt x="2351658" y="38862"/>
                </a:lnTo>
                <a:lnTo>
                  <a:pt x="2472943" y="57532"/>
                </a:lnTo>
                <a:lnTo>
                  <a:pt x="2564638" y="73660"/>
                </a:lnTo>
                <a:lnTo>
                  <a:pt x="2676906" y="97281"/>
                </a:lnTo>
                <a:lnTo>
                  <a:pt x="2783713" y="123443"/>
                </a:lnTo>
                <a:lnTo>
                  <a:pt x="2853308" y="143636"/>
                </a:lnTo>
                <a:lnTo>
                  <a:pt x="2944368" y="171704"/>
                </a:lnTo>
                <a:lnTo>
                  <a:pt x="3039109" y="207263"/>
                </a:lnTo>
                <a:lnTo>
                  <a:pt x="3101340" y="233045"/>
                </a:lnTo>
                <a:lnTo>
                  <a:pt x="3156584" y="260095"/>
                </a:lnTo>
                <a:lnTo>
                  <a:pt x="3202940" y="284479"/>
                </a:lnTo>
                <a:lnTo>
                  <a:pt x="3255771" y="315722"/>
                </a:lnTo>
                <a:lnTo>
                  <a:pt x="3286379" y="336550"/>
                </a:lnTo>
                <a:lnTo>
                  <a:pt x="3328669" y="368172"/>
                </a:lnTo>
                <a:lnTo>
                  <a:pt x="3355847" y="392175"/>
                </a:lnTo>
                <a:lnTo>
                  <a:pt x="3387725" y="424561"/>
                </a:lnTo>
                <a:lnTo>
                  <a:pt x="3409950" y="450850"/>
                </a:lnTo>
                <a:lnTo>
                  <a:pt x="3429634" y="480568"/>
                </a:lnTo>
                <a:lnTo>
                  <a:pt x="3446144" y="510666"/>
                </a:lnTo>
                <a:lnTo>
                  <a:pt x="3455161" y="532383"/>
                </a:lnTo>
                <a:lnTo>
                  <a:pt x="3463670" y="565150"/>
                </a:lnTo>
                <a:lnTo>
                  <a:pt x="3466718" y="585597"/>
                </a:lnTo>
                <a:lnTo>
                  <a:pt x="3467481" y="626109"/>
                </a:lnTo>
                <a:lnTo>
                  <a:pt x="3464432" y="648969"/>
                </a:lnTo>
                <a:lnTo>
                  <a:pt x="3455161" y="681736"/>
                </a:lnTo>
                <a:lnTo>
                  <a:pt x="3442334" y="712597"/>
                </a:lnTo>
                <a:lnTo>
                  <a:pt x="3414268" y="758190"/>
                </a:lnTo>
                <a:lnTo>
                  <a:pt x="3376421" y="803401"/>
                </a:lnTo>
                <a:lnTo>
                  <a:pt x="3327781" y="847725"/>
                </a:lnTo>
                <a:lnTo>
                  <a:pt x="3258184" y="898271"/>
                </a:lnTo>
                <a:lnTo>
                  <a:pt x="3202178" y="931799"/>
                </a:lnTo>
                <a:lnTo>
                  <a:pt x="3135376" y="965835"/>
                </a:lnTo>
                <a:lnTo>
                  <a:pt x="3054222" y="1001775"/>
                </a:lnTo>
                <a:lnTo>
                  <a:pt x="2962782" y="1036827"/>
                </a:lnTo>
                <a:lnTo>
                  <a:pt x="2882265" y="1063116"/>
                </a:lnTo>
                <a:lnTo>
                  <a:pt x="2800477" y="1087119"/>
                </a:lnTo>
                <a:lnTo>
                  <a:pt x="2706369" y="1111377"/>
                </a:lnTo>
                <a:lnTo>
                  <a:pt x="2634360" y="1127633"/>
                </a:lnTo>
                <a:lnTo>
                  <a:pt x="2554858" y="1143380"/>
                </a:lnTo>
                <a:lnTo>
                  <a:pt x="2457195" y="1160907"/>
                </a:lnTo>
                <a:lnTo>
                  <a:pt x="2378836" y="1172336"/>
                </a:lnTo>
                <a:lnTo>
                  <a:pt x="2277364" y="1184783"/>
                </a:lnTo>
                <a:lnTo>
                  <a:pt x="2197100" y="1192402"/>
                </a:lnTo>
                <a:lnTo>
                  <a:pt x="2242566" y="1188974"/>
                </a:lnTo>
                <a:lnTo>
                  <a:pt x="2307717" y="1186307"/>
                </a:lnTo>
                <a:lnTo>
                  <a:pt x="2376678" y="1185417"/>
                </a:lnTo>
                <a:lnTo>
                  <a:pt x="2435097" y="1186307"/>
                </a:lnTo>
                <a:lnTo>
                  <a:pt x="2501900" y="1188974"/>
                </a:lnTo>
                <a:lnTo>
                  <a:pt x="2599563" y="1197483"/>
                </a:lnTo>
                <a:lnTo>
                  <a:pt x="2676906" y="1207135"/>
                </a:lnTo>
                <a:lnTo>
                  <a:pt x="2780792" y="1227963"/>
                </a:lnTo>
                <a:lnTo>
                  <a:pt x="2837560" y="1246124"/>
                </a:lnTo>
                <a:lnTo>
                  <a:pt x="2876295" y="1267333"/>
                </a:lnTo>
                <a:lnTo>
                  <a:pt x="2886836" y="1277747"/>
                </a:lnTo>
                <a:lnTo>
                  <a:pt x="2891408" y="1285113"/>
                </a:lnTo>
                <a:lnTo>
                  <a:pt x="2893694" y="1295908"/>
                </a:lnTo>
                <a:lnTo>
                  <a:pt x="2884423" y="1315211"/>
                </a:lnTo>
                <a:lnTo>
                  <a:pt x="2858007" y="1334897"/>
                </a:lnTo>
                <a:lnTo>
                  <a:pt x="2837560" y="1343786"/>
                </a:lnTo>
                <a:lnTo>
                  <a:pt x="2785109" y="1361186"/>
                </a:lnTo>
                <a:lnTo>
                  <a:pt x="2710942" y="1377441"/>
                </a:lnTo>
                <a:lnTo>
                  <a:pt x="2631440" y="1389380"/>
                </a:lnTo>
                <a:lnTo>
                  <a:pt x="2554858" y="1397380"/>
                </a:lnTo>
                <a:lnTo>
                  <a:pt x="2495804" y="1399794"/>
                </a:lnTo>
                <a:lnTo>
                  <a:pt x="2373630" y="1401699"/>
                </a:lnTo>
                <a:lnTo>
                  <a:pt x="2466213" y="1403222"/>
                </a:lnTo>
                <a:lnTo>
                  <a:pt x="2568447" y="1409064"/>
                </a:lnTo>
                <a:lnTo>
                  <a:pt x="2664714" y="1423669"/>
                </a:lnTo>
                <a:lnTo>
                  <a:pt x="2713228" y="1438021"/>
                </a:lnTo>
                <a:lnTo>
                  <a:pt x="2721736" y="1443355"/>
                </a:lnTo>
                <a:lnTo>
                  <a:pt x="2729356" y="1450721"/>
                </a:lnTo>
                <a:lnTo>
                  <a:pt x="2731516" y="1454658"/>
                </a:lnTo>
                <a:lnTo>
                  <a:pt x="2731516" y="1459230"/>
                </a:lnTo>
                <a:lnTo>
                  <a:pt x="2725546" y="1469263"/>
                </a:lnTo>
                <a:lnTo>
                  <a:pt x="2712339" y="1476628"/>
                </a:lnTo>
                <a:lnTo>
                  <a:pt x="2693669" y="1483867"/>
                </a:lnTo>
                <a:lnTo>
                  <a:pt x="2629789" y="1498219"/>
                </a:lnTo>
                <a:lnTo>
                  <a:pt x="2547366" y="1508252"/>
                </a:lnTo>
                <a:lnTo>
                  <a:pt x="2481960" y="1513713"/>
                </a:lnTo>
                <a:lnTo>
                  <a:pt x="2398014" y="1515999"/>
                </a:lnTo>
                <a:lnTo>
                  <a:pt x="2444115" y="1518666"/>
                </a:lnTo>
                <a:lnTo>
                  <a:pt x="2519933" y="1528699"/>
                </a:lnTo>
                <a:lnTo>
                  <a:pt x="2561081" y="1539875"/>
                </a:lnTo>
                <a:lnTo>
                  <a:pt x="2583560" y="1549653"/>
                </a:lnTo>
                <a:lnTo>
                  <a:pt x="2597277" y="1561211"/>
                </a:lnTo>
                <a:lnTo>
                  <a:pt x="2601086" y="1569592"/>
                </a:lnTo>
                <a:lnTo>
                  <a:pt x="2599563" y="1577721"/>
                </a:lnTo>
                <a:lnTo>
                  <a:pt x="2594356" y="1585467"/>
                </a:lnTo>
                <a:lnTo>
                  <a:pt x="2571495" y="1600200"/>
                </a:lnTo>
                <a:lnTo>
                  <a:pt x="2549525" y="1607058"/>
                </a:lnTo>
                <a:lnTo>
                  <a:pt x="2500248" y="1618614"/>
                </a:lnTo>
                <a:lnTo>
                  <a:pt x="2435859" y="1625600"/>
                </a:lnTo>
                <a:lnTo>
                  <a:pt x="2335021" y="1625600"/>
                </a:lnTo>
                <a:lnTo>
                  <a:pt x="2263775" y="1618233"/>
                </a:lnTo>
                <a:lnTo>
                  <a:pt x="2209292" y="1605533"/>
                </a:lnTo>
                <a:lnTo>
                  <a:pt x="2178939" y="1591691"/>
                </a:lnTo>
                <a:lnTo>
                  <a:pt x="2169159" y="1582419"/>
                </a:lnTo>
                <a:lnTo>
                  <a:pt x="2165984" y="1576197"/>
                </a:lnTo>
                <a:lnTo>
                  <a:pt x="2165984" y="1568069"/>
                </a:lnTo>
                <a:lnTo>
                  <a:pt x="2168397" y="1563116"/>
                </a:lnTo>
                <a:lnTo>
                  <a:pt x="2175129" y="1555750"/>
                </a:lnTo>
                <a:lnTo>
                  <a:pt x="2188844" y="1547241"/>
                </a:lnTo>
                <a:lnTo>
                  <a:pt x="2217546" y="1536064"/>
                </a:lnTo>
                <a:lnTo>
                  <a:pt x="2260092" y="1526413"/>
                </a:lnTo>
                <a:lnTo>
                  <a:pt x="2341753" y="1517903"/>
                </a:lnTo>
                <a:lnTo>
                  <a:pt x="2398014" y="1515999"/>
                </a:lnTo>
                <a:lnTo>
                  <a:pt x="2303906" y="1511046"/>
                </a:lnTo>
                <a:lnTo>
                  <a:pt x="2224405" y="1504061"/>
                </a:lnTo>
                <a:lnTo>
                  <a:pt x="2144014" y="1490852"/>
                </a:lnTo>
                <a:lnTo>
                  <a:pt x="2115311" y="1482852"/>
                </a:lnTo>
                <a:lnTo>
                  <a:pt x="2096389" y="1474597"/>
                </a:lnTo>
                <a:lnTo>
                  <a:pt x="2085847" y="1466596"/>
                </a:lnTo>
                <a:lnTo>
                  <a:pt x="2082038" y="1459230"/>
                </a:lnTo>
                <a:lnTo>
                  <a:pt x="2084196" y="1449577"/>
                </a:lnTo>
                <a:lnTo>
                  <a:pt x="2096389" y="1441450"/>
                </a:lnTo>
                <a:lnTo>
                  <a:pt x="2113026" y="1433830"/>
                </a:lnTo>
                <a:lnTo>
                  <a:pt x="2134869" y="1427099"/>
                </a:lnTo>
                <a:lnTo>
                  <a:pt x="2200020" y="1414017"/>
                </a:lnTo>
                <a:lnTo>
                  <a:pt x="2254884" y="1408683"/>
                </a:lnTo>
                <a:lnTo>
                  <a:pt x="2373630" y="1401699"/>
                </a:lnTo>
                <a:lnTo>
                  <a:pt x="2193290" y="1400175"/>
                </a:lnTo>
                <a:lnTo>
                  <a:pt x="2103755" y="1392427"/>
                </a:lnTo>
                <a:lnTo>
                  <a:pt x="2017648" y="1381633"/>
                </a:lnTo>
                <a:lnTo>
                  <a:pt x="1914525" y="1360424"/>
                </a:lnTo>
                <a:lnTo>
                  <a:pt x="1850770" y="1338325"/>
                </a:lnTo>
                <a:lnTo>
                  <a:pt x="1829434" y="1326388"/>
                </a:lnTo>
                <a:lnTo>
                  <a:pt x="1818893" y="1317497"/>
                </a:lnTo>
                <a:lnTo>
                  <a:pt x="1809877" y="1305941"/>
                </a:lnTo>
                <a:lnTo>
                  <a:pt x="1806702" y="1295527"/>
                </a:lnTo>
                <a:lnTo>
                  <a:pt x="1810639" y="1282827"/>
                </a:lnTo>
                <a:lnTo>
                  <a:pt x="1822068" y="1269619"/>
                </a:lnTo>
                <a:lnTo>
                  <a:pt x="1840865" y="1256538"/>
                </a:lnTo>
                <a:lnTo>
                  <a:pt x="1908175" y="1231011"/>
                </a:lnTo>
                <a:lnTo>
                  <a:pt x="1986533" y="1215644"/>
                </a:lnTo>
                <a:lnTo>
                  <a:pt x="2073529" y="1204722"/>
                </a:lnTo>
                <a:lnTo>
                  <a:pt x="2241677" y="1187830"/>
                </a:lnTo>
                <a:lnTo>
                  <a:pt x="2132710" y="1198625"/>
                </a:lnTo>
                <a:lnTo>
                  <a:pt x="2038604" y="1206372"/>
                </a:lnTo>
                <a:lnTo>
                  <a:pt x="1918969" y="1212596"/>
                </a:lnTo>
                <a:lnTo>
                  <a:pt x="1877314" y="1214119"/>
                </a:lnTo>
                <a:lnTo>
                  <a:pt x="1796160" y="1215644"/>
                </a:lnTo>
                <a:lnTo>
                  <a:pt x="1653031" y="1215644"/>
                </a:lnTo>
                <a:lnTo>
                  <a:pt x="1544573" y="1212596"/>
                </a:lnTo>
                <a:lnTo>
                  <a:pt x="1443863" y="1207516"/>
                </a:lnTo>
                <a:lnTo>
                  <a:pt x="1377950" y="1203197"/>
                </a:lnTo>
                <a:lnTo>
                  <a:pt x="1305941" y="1197102"/>
                </a:lnTo>
                <a:lnTo>
                  <a:pt x="1239901" y="1190878"/>
                </a:lnTo>
                <a:lnTo>
                  <a:pt x="1176908" y="1183894"/>
                </a:lnTo>
                <a:lnTo>
                  <a:pt x="1126997" y="1177797"/>
                </a:lnTo>
                <a:lnTo>
                  <a:pt x="1067943" y="1169288"/>
                </a:lnTo>
                <a:lnTo>
                  <a:pt x="982218" y="1156208"/>
                </a:lnTo>
                <a:lnTo>
                  <a:pt x="875283" y="1136396"/>
                </a:lnTo>
                <a:lnTo>
                  <a:pt x="787272" y="1117980"/>
                </a:lnTo>
                <a:lnTo>
                  <a:pt x="691006" y="1093597"/>
                </a:lnTo>
                <a:lnTo>
                  <a:pt x="632079" y="1076960"/>
                </a:lnTo>
                <a:lnTo>
                  <a:pt x="572134" y="1059307"/>
                </a:lnTo>
                <a:lnTo>
                  <a:pt x="509905" y="1038352"/>
                </a:lnTo>
                <a:lnTo>
                  <a:pt x="443992" y="1014857"/>
                </a:lnTo>
                <a:lnTo>
                  <a:pt x="371982" y="984377"/>
                </a:lnTo>
                <a:lnTo>
                  <a:pt x="306070" y="953135"/>
                </a:lnTo>
                <a:lnTo>
                  <a:pt x="249173" y="922274"/>
                </a:lnTo>
                <a:lnTo>
                  <a:pt x="177291" y="876300"/>
                </a:lnTo>
                <a:lnTo>
                  <a:pt x="135509" y="843914"/>
                </a:lnTo>
                <a:lnTo>
                  <a:pt x="103632" y="815339"/>
                </a:lnTo>
                <a:lnTo>
                  <a:pt x="78740" y="789431"/>
                </a:lnTo>
                <a:lnTo>
                  <a:pt x="46101" y="749680"/>
                </a:lnTo>
                <a:lnTo>
                  <a:pt x="22733" y="707262"/>
                </a:lnTo>
                <a:lnTo>
                  <a:pt x="13589" y="684402"/>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Freeform 1"/>
          <p:cNvSpPr/>
          <p:nvPr/>
        </p:nvSpPr>
        <p:spPr>
          <a:xfrm>
            <a:off x="152280" y="1574640"/>
            <a:ext cx="4826160" cy="2502000"/>
          </a:xfrm>
          <a:custGeom>
            <a:avLst/>
            <a:gdLst>
              <a:gd name="textAreaLeft" fmla="*/ 0 w 4826160"/>
              <a:gd name="textAreaRight" fmla="*/ 4826520 w 482616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91" name="Group 4"/>
          <p:cNvGrpSpPr/>
          <p:nvPr/>
        </p:nvGrpSpPr>
        <p:grpSpPr>
          <a:xfrm>
            <a:off x="393840" y="101520"/>
            <a:ext cx="3835440" cy="879120"/>
            <a:chOff x="393840" y="101520"/>
            <a:chExt cx="3835440" cy="879120"/>
          </a:xfrm>
        </p:grpSpPr>
        <p:sp>
          <p:nvSpPr>
            <p:cNvPr id="492" name="TextBox 2"/>
            <p:cNvSpPr/>
            <p:nvPr/>
          </p:nvSpPr>
          <p:spPr>
            <a:xfrm>
              <a:off x="2679840" y="52092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 24"/>
                </a:rPr>
                <a:t>·</a:t>
              </a: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4</a:t>
              </a:r>
              <a:endParaRPr b="0" lang="en-US" sz="2400" spc="-1" strike="noStrike">
                <a:solidFill>
                  <a:srgbClr val="000000"/>
                </a:solidFill>
                <a:latin typeface="Calibri"/>
              </a:endParaRPr>
            </a:p>
          </p:txBody>
        </p:sp>
        <p:sp>
          <p:nvSpPr>
            <p:cNvPr id="493" name="TextBox 3"/>
            <p:cNvSpPr/>
            <p:nvPr/>
          </p:nvSpPr>
          <p:spPr>
            <a:xfrm>
              <a:off x="393840" y="101520"/>
              <a:ext cx="383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b) Evaluate 3</a:t>
              </a:r>
              <a:r>
                <a:rPr b="0" i="1" lang="en-US" sz="2400" spc="-1" strike="noStrike">
                  <a:solidFill>
                    <a:srgbClr val="0000ff"/>
                  </a:solidFill>
                  <a:latin typeface="Comic Sans MS - 24"/>
                </a:rPr>
                <a:t>x</a:t>
              </a:r>
              <a:r>
                <a:rPr b="0" lang="en-US" sz="2400" spc="-1" strike="noStrike">
                  <a:solidFill>
                    <a:srgbClr val="0000ff"/>
                  </a:solidFill>
                  <a:latin typeface="Comic Sans MS - 24"/>
                </a:rPr>
                <a:t> + 2 whe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3</a:t>
              </a:r>
              <a:endParaRPr b="0" lang="en-US" sz="2400" spc="-1" strike="noStrike">
                <a:solidFill>
                  <a:srgbClr val="000000"/>
                </a:solidFill>
                <a:latin typeface="Calibri"/>
              </a:endParaRPr>
            </a:p>
          </p:txBody>
        </p:sp>
      </p:grpSp>
      <p:sp>
        <p:nvSpPr>
          <p:cNvPr id="494" name="Freeform 5"/>
          <p:cNvSpPr/>
          <p:nvPr/>
        </p:nvSpPr>
        <p:spPr>
          <a:xfrm>
            <a:off x="5130720" y="1574640"/>
            <a:ext cx="4826160" cy="2502000"/>
          </a:xfrm>
          <a:custGeom>
            <a:avLst/>
            <a:gdLst>
              <a:gd name="textAreaLeft" fmla="*/ 0 w 4826160"/>
              <a:gd name="textAreaRight" fmla="*/ 4826520 w 482616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5" name="Oval 6"/>
          <p:cNvSpPr/>
          <p:nvPr/>
        </p:nvSpPr>
        <p:spPr>
          <a:xfrm>
            <a:off x="1333440" y="429264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Oval 7"/>
          <p:cNvSpPr/>
          <p:nvPr/>
        </p:nvSpPr>
        <p:spPr>
          <a:xfrm>
            <a:off x="5981760" y="4254480"/>
            <a:ext cx="25380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7" name="Group 22"/>
          <p:cNvGrpSpPr/>
          <p:nvPr/>
        </p:nvGrpSpPr>
        <p:grpSpPr>
          <a:xfrm>
            <a:off x="293760" y="2097000"/>
            <a:ext cx="1096920" cy="1344600"/>
            <a:chOff x="293760" y="2097000"/>
            <a:chExt cx="1096920" cy="1344600"/>
          </a:xfrm>
        </p:grpSpPr>
        <p:sp>
          <p:nvSpPr>
            <p:cNvPr id="498" name="Freeform 8"/>
            <p:cNvSpPr/>
            <p:nvPr/>
          </p:nvSpPr>
          <p:spPr>
            <a:xfrm>
              <a:off x="293760" y="219996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6" h="1242060">
                  <a:moveTo>
                    <a:pt x="809245" y="0"/>
                  </a:moveTo>
                  <a:lnTo>
                    <a:pt x="809245" y="1093851"/>
                  </a:lnTo>
                  <a:lnTo>
                    <a:pt x="808356" y="1105534"/>
                  </a:lnTo>
                  <a:lnTo>
                    <a:pt x="807594" y="1110741"/>
                  </a:lnTo>
                  <a:lnTo>
                    <a:pt x="805942" y="1116329"/>
                  </a:lnTo>
                  <a:lnTo>
                    <a:pt x="802640" y="1122171"/>
                  </a:lnTo>
                  <a:lnTo>
                    <a:pt x="798323" y="1128903"/>
                  </a:lnTo>
                  <a:lnTo>
                    <a:pt x="791973" y="1136396"/>
                  </a:lnTo>
                  <a:lnTo>
                    <a:pt x="783845" y="1145540"/>
                  </a:lnTo>
                  <a:lnTo>
                    <a:pt x="770764" y="1157223"/>
                  </a:lnTo>
                  <a:lnTo>
                    <a:pt x="755397" y="1168019"/>
                  </a:lnTo>
                  <a:lnTo>
                    <a:pt x="738251" y="1178052"/>
                  </a:lnTo>
                  <a:lnTo>
                    <a:pt x="719075" y="1187830"/>
                  </a:lnTo>
                  <a:lnTo>
                    <a:pt x="697865" y="1196466"/>
                  </a:lnTo>
                  <a:lnTo>
                    <a:pt x="675767" y="1204214"/>
                  </a:lnTo>
                  <a:lnTo>
                    <a:pt x="651384" y="1211453"/>
                  </a:lnTo>
                  <a:lnTo>
                    <a:pt x="625984" y="1217803"/>
                  </a:lnTo>
                  <a:lnTo>
                    <a:pt x="599567" y="1223390"/>
                  </a:lnTo>
                  <a:lnTo>
                    <a:pt x="572262" y="1228471"/>
                  </a:lnTo>
                  <a:lnTo>
                    <a:pt x="543814" y="1232534"/>
                  </a:lnTo>
                  <a:lnTo>
                    <a:pt x="514859" y="1235964"/>
                  </a:lnTo>
                  <a:lnTo>
                    <a:pt x="485395" y="1238377"/>
                  </a:lnTo>
                  <a:lnTo>
                    <a:pt x="455423" y="1240282"/>
                  </a:lnTo>
                  <a:lnTo>
                    <a:pt x="395098" y="1242059"/>
                  </a:lnTo>
                  <a:lnTo>
                    <a:pt x="335027" y="1240282"/>
                  </a:lnTo>
                  <a:lnTo>
                    <a:pt x="305435" y="1238377"/>
                  </a:lnTo>
                  <a:lnTo>
                    <a:pt x="276606" y="1235964"/>
                  </a:lnTo>
                  <a:lnTo>
                    <a:pt x="248159" y="1232534"/>
                  </a:lnTo>
                  <a:lnTo>
                    <a:pt x="220599" y="1228471"/>
                  </a:lnTo>
                  <a:lnTo>
                    <a:pt x="194056" y="1223390"/>
                  </a:lnTo>
                  <a:lnTo>
                    <a:pt x="168784" y="1217803"/>
                  </a:lnTo>
                  <a:lnTo>
                    <a:pt x="144653" y="1211453"/>
                  </a:lnTo>
                  <a:lnTo>
                    <a:pt x="122048" y="1204214"/>
                  </a:lnTo>
                  <a:lnTo>
                    <a:pt x="101093" y="1196466"/>
                  </a:lnTo>
                  <a:lnTo>
                    <a:pt x="81916" y="1187830"/>
                  </a:lnTo>
                  <a:lnTo>
                    <a:pt x="64770" y="1178052"/>
                  </a:lnTo>
                  <a:lnTo>
                    <a:pt x="49150" y="1168019"/>
                  </a:lnTo>
                  <a:lnTo>
                    <a:pt x="36068" y="1157223"/>
                  </a:lnTo>
                  <a:lnTo>
                    <a:pt x="25400" y="1145540"/>
                  </a:lnTo>
                  <a:lnTo>
                    <a:pt x="21082" y="1140840"/>
                  </a:lnTo>
                  <a:lnTo>
                    <a:pt x="17273" y="1136903"/>
                  </a:lnTo>
                  <a:lnTo>
                    <a:pt x="10668" y="1130172"/>
                  </a:lnTo>
                  <a:lnTo>
                    <a:pt x="6350" y="1124711"/>
                  </a:lnTo>
                  <a:lnTo>
                    <a:pt x="3302" y="1119759"/>
                  </a:lnTo>
                  <a:lnTo>
                    <a:pt x="1652"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9" name="Freeform 9"/>
            <p:cNvSpPr/>
            <p:nvPr/>
          </p:nvSpPr>
          <p:spPr>
            <a:xfrm>
              <a:off x="294480" y="220032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80"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30"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499" y="1228090"/>
                  </a:lnTo>
                  <a:lnTo>
                    <a:pt x="599440" y="1221740"/>
                  </a:lnTo>
                  <a:lnTo>
                    <a:pt x="626110" y="1217930"/>
                  </a:lnTo>
                  <a:lnTo>
                    <a:pt x="651510" y="1211580"/>
                  </a:lnTo>
                  <a:lnTo>
                    <a:pt x="674370" y="1203960"/>
                  </a:lnTo>
                  <a:lnTo>
                    <a:pt x="697229" y="1196340"/>
                  </a:lnTo>
                  <a:lnTo>
                    <a:pt x="718820" y="1187449"/>
                  </a:lnTo>
                  <a:lnTo>
                    <a:pt x="737870" y="1178560"/>
                  </a:lnTo>
                  <a:lnTo>
                    <a:pt x="755649" y="1167130"/>
                  </a:lnTo>
                  <a:lnTo>
                    <a:pt x="770890" y="1155699"/>
                  </a:lnTo>
                  <a:lnTo>
                    <a:pt x="783590" y="1145540"/>
                  </a:lnTo>
                  <a:lnTo>
                    <a:pt x="792479" y="1136649"/>
                  </a:lnTo>
                  <a:lnTo>
                    <a:pt x="797560" y="1129030"/>
                  </a:lnTo>
                  <a:lnTo>
                    <a:pt x="802640" y="1122680"/>
                  </a:lnTo>
                  <a:lnTo>
                    <a:pt x="805179" y="1115060"/>
                  </a:lnTo>
                  <a:lnTo>
                    <a:pt x="806449" y="1109980"/>
                  </a:lnTo>
                  <a:lnTo>
                    <a:pt x="807720"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Freeform 10"/>
            <p:cNvSpPr/>
            <p:nvPr/>
          </p:nvSpPr>
          <p:spPr>
            <a:xfrm>
              <a:off x="293760" y="209700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6" h="206122">
                  <a:moveTo>
                    <a:pt x="659892" y="183008"/>
                  </a:moveTo>
                  <a:lnTo>
                    <a:pt x="627381" y="189103"/>
                  </a:lnTo>
                  <a:lnTo>
                    <a:pt x="592709" y="194183"/>
                  </a:lnTo>
                  <a:lnTo>
                    <a:pt x="556895" y="198248"/>
                  </a:lnTo>
                  <a:lnTo>
                    <a:pt x="519811" y="201677"/>
                  </a:lnTo>
                  <a:lnTo>
                    <a:pt x="481839" y="204217"/>
                  </a:lnTo>
                  <a:lnTo>
                    <a:pt x="443357" y="205487"/>
                  </a:lnTo>
                  <a:lnTo>
                    <a:pt x="404623" y="206121"/>
                  </a:lnTo>
                  <a:lnTo>
                    <a:pt x="365888" y="205487"/>
                  </a:lnTo>
                  <a:lnTo>
                    <a:pt x="327406" y="204217"/>
                  </a:lnTo>
                  <a:lnTo>
                    <a:pt x="289434" y="201677"/>
                  </a:lnTo>
                  <a:lnTo>
                    <a:pt x="252603" y="198248"/>
                  </a:lnTo>
                  <a:lnTo>
                    <a:pt x="216535" y="194183"/>
                  </a:lnTo>
                  <a:lnTo>
                    <a:pt x="182118" y="189103"/>
                  </a:lnTo>
                  <a:lnTo>
                    <a:pt x="149353" y="183008"/>
                  </a:lnTo>
                  <a:lnTo>
                    <a:pt x="118746" y="175768"/>
                  </a:lnTo>
                  <a:lnTo>
                    <a:pt x="104268" y="171831"/>
                  </a:lnTo>
                  <a:lnTo>
                    <a:pt x="90932" y="168021"/>
                  </a:lnTo>
                  <a:lnTo>
                    <a:pt x="78359" y="164084"/>
                  </a:lnTo>
                  <a:lnTo>
                    <a:pt x="66929" y="159640"/>
                  </a:lnTo>
                  <a:lnTo>
                    <a:pt x="56261" y="155449"/>
                  </a:lnTo>
                  <a:lnTo>
                    <a:pt x="46482" y="150749"/>
                  </a:lnTo>
                  <a:lnTo>
                    <a:pt x="29845" y="141605"/>
                  </a:lnTo>
                  <a:lnTo>
                    <a:pt x="17018" y="132334"/>
                  </a:lnTo>
                  <a:lnTo>
                    <a:pt x="7748" y="122683"/>
                  </a:lnTo>
                  <a:lnTo>
                    <a:pt x="2032" y="112903"/>
                  </a:lnTo>
                  <a:lnTo>
                    <a:pt x="0" y="103252"/>
                  </a:lnTo>
                  <a:lnTo>
                    <a:pt x="2032" y="93218"/>
                  </a:lnTo>
                  <a:lnTo>
                    <a:pt x="7748" y="83186"/>
                  </a:lnTo>
                  <a:lnTo>
                    <a:pt x="17018" y="73787"/>
                  </a:lnTo>
                  <a:lnTo>
                    <a:pt x="29845" y="64262"/>
                  </a:lnTo>
                  <a:lnTo>
                    <a:pt x="46482" y="55118"/>
                  </a:lnTo>
                  <a:lnTo>
                    <a:pt x="56261" y="50674"/>
                  </a:lnTo>
                  <a:lnTo>
                    <a:pt x="66929" y="46483"/>
                  </a:lnTo>
                  <a:lnTo>
                    <a:pt x="78359" y="42292"/>
                  </a:lnTo>
                  <a:lnTo>
                    <a:pt x="90932" y="38100"/>
                  </a:lnTo>
                  <a:lnTo>
                    <a:pt x="104268" y="34037"/>
                  </a:lnTo>
                  <a:lnTo>
                    <a:pt x="118746" y="30099"/>
                  </a:lnTo>
                  <a:lnTo>
                    <a:pt x="149353" y="23115"/>
                  </a:lnTo>
                  <a:lnTo>
                    <a:pt x="182118" y="17018"/>
                  </a:lnTo>
                  <a:lnTo>
                    <a:pt x="216535" y="12065"/>
                  </a:lnTo>
                  <a:lnTo>
                    <a:pt x="252603" y="7621"/>
                  </a:lnTo>
                  <a:lnTo>
                    <a:pt x="289434" y="4192"/>
                  </a:lnTo>
                  <a:lnTo>
                    <a:pt x="327406" y="2033"/>
                  </a:lnTo>
                  <a:lnTo>
                    <a:pt x="365888" y="636"/>
                  </a:lnTo>
                  <a:lnTo>
                    <a:pt x="404623" y="0"/>
                  </a:lnTo>
                  <a:lnTo>
                    <a:pt x="443357" y="636"/>
                  </a:lnTo>
                  <a:lnTo>
                    <a:pt x="481839" y="2033"/>
                  </a:lnTo>
                  <a:lnTo>
                    <a:pt x="519811" y="4192"/>
                  </a:lnTo>
                  <a:lnTo>
                    <a:pt x="556895" y="7621"/>
                  </a:lnTo>
                  <a:lnTo>
                    <a:pt x="592709" y="12065"/>
                  </a:lnTo>
                  <a:lnTo>
                    <a:pt x="627381" y="17018"/>
                  </a:lnTo>
                  <a:lnTo>
                    <a:pt x="659892" y="23115"/>
                  </a:lnTo>
                  <a:lnTo>
                    <a:pt x="690500" y="30099"/>
                  </a:lnTo>
                  <a:lnTo>
                    <a:pt x="705231" y="34037"/>
                  </a:lnTo>
                  <a:lnTo>
                    <a:pt x="718312" y="38100"/>
                  </a:lnTo>
                  <a:lnTo>
                    <a:pt x="730886" y="42292"/>
                  </a:lnTo>
                  <a:lnTo>
                    <a:pt x="742570" y="46483"/>
                  </a:lnTo>
                  <a:lnTo>
                    <a:pt x="752984" y="50674"/>
                  </a:lnTo>
                  <a:lnTo>
                    <a:pt x="762762" y="55118"/>
                  </a:lnTo>
                  <a:lnTo>
                    <a:pt x="779400" y="64262"/>
                  </a:lnTo>
                  <a:lnTo>
                    <a:pt x="792481" y="73787"/>
                  </a:lnTo>
                  <a:lnTo>
                    <a:pt x="801878" y="83186"/>
                  </a:lnTo>
                  <a:lnTo>
                    <a:pt x="807212" y="93218"/>
                  </a:lnTo>
                  <a:lnTo>
                    <a:pt x="809245" y="103252"/>
                  </a:lnTo>
                  <a:lnTo>
                    <a:pt x="807212" y="112903"/>
                  </a:lnTo>
                  <a:lnTo>
                    <a:pt x="801878" y="122683"/>
                  </a:lnTo>
                  <a:lnTo>
                    <a:pt x="792481" y="132334"/>
                  </a:lnTo>
                  <a:lnTo>
                    <a:pt x="779400" y="141605"/>
                  </a:lnTo>
                  <a:lnTo>
                    <a:pt x="762762" y="150749"/>
                  </a:lnTo>
                  <a:lnTo>
                    <a:pt x="752984" y="155449"/>
                  </a:lnTo>
                  <a:lnTo>
                    <a:pt x="742570" y="159640"/>
                  </a:lnTo>
                  <a:lnTo>
                    <a:pt x="730886" y="164084"/>
                  </a:lnTo>
                  <a:lnTo>
                    <a:pt x="718312" y="168021"/>
                  </a:lnTo>
                  <a:lnTo>
                    <a:pt x="705231" y="171831"/>
                  </a:lnTo>
                  <a:lnTo>
                    <a:pt x="690500"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1" name="Freeform 11"/>
            <p:cNvSpPr/>
            <p:nvPr/>
          </p:nvSpPr>
          <p:spPr>
            <a:xfrm>
              <a:off x="294480" y="209772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0" y="175261"/>
                  </a:moveTo>
                  <a:lnTo>
                    <a:pt x="704849" y="171450"/>
                  </a:lnTo>
                  <a:lnTo>
                    <a:pt x="716279" y="167640"/>
                  </a:lnTo>
                  <a:lnTo>
                    <a:pt x="730249" y="163831"/>
                  </a:lnTo>
                  <a:lnTo>
                    <a:pt x="741679" y="158750"/>
                  </a:lnTo>
                  <a:lnTo>
                    <a:pt x="751840" y="154940"/>
                  </a:lnTo>
                  <a:lnTo>
                    <a:pt x="761999" y="149861"/>
                  </a:lnTo>
                  <a:lnTo>
                    <a:pt x="778510" y="139700"/>
                  </a:lnTo>
                  <a:lnTo>
                    <a:pt x="792479" y="132081"/>
                  </a:lnTo>
                  <a:lnTo>
                    <a:pt x="801370" y="121921"/>
                  </a:lnTo>
                  <a:lnTo>
                    <a:pt x="806449" y="111761"/>
                  </a:lnTo>
                  <a:lnTo>
                    <a:pt x="808990" y="102871"/>
                  </a:lnTo>
                  <a:lnTo>
                    <a:pt x="806449" y="92711"/>
                  </a:lnTo>
                  <a:lnTo>
                    <a:pt x="801370" y="82550"/>
                  </a:lnTo>
                  <a:lnTo>
                    <a:pt x="792479" y="73661"/>
                  </a:lnTo>
                  <a:lnTo>
                    <a:pt x="778510" y="63500"/>
                  </a:lnTo>
                  <a:lnTo>
                    <a:pt x="761999" y="54611"/>
                  </a:lnTo>
                  <a:lnTo>
                    <a:pt x="751840" y="49531"/>
                  </a:lnTo>
                  <a:lnTo>
                    <a:pt x="741679" y="45721"/>
                  </a:lnTo>
                  <a:lnTo>
                    <a:pt x="730249" y="41911"/>
                  </a:lnTo>
                  <a:lnTo>
                    <a:pt x="716279" y="36831"/>
                  </a:lnTo>
                  <a:lnTo>
                    <a:pt x="704849"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39"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39"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2" name="Freeform 12"/>
            <p:cNvSpPr/>
            <p:nvPr/>
          </p:nvSpPr>
          <p:spPr>
            <a:xfrm>
              <a:off x="321480" y="227088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69" h="1127507">
                  <a:moveTo>
                    <a:pt x="26796" y="11303"/>
                  </a:moveTo>
                  <a:lnTo>
                    <a:pt x="45973" y="17525"/>
                  </a:lnTo>
                  <a:lnTo>
                    <a:pt x="65913" y="23368"/>
                  </a:lnTo>
                  <a:lnTo>
                    <a:pt x="87121" y="28828"/>
                  </a:lnTo>
                  <a:lnTo>
                    <a:pt x="109600" y="34162"/>
                  </a:lnTo>
                  <a:lnTo>
                    <a:pt x="132714" y="38607"/>
                  </a:lnTo>
                  <a:lnTo>
                    <a:pt x="157099" y="42799"/>
                  </a:lnTo>
                  <a:lnTo>
                    <a:pt x="181991" y="46609"/>
                  </a:lnTo>
                  <a:lnTo>
                    <a:pt x="207517" y="50037"/>
                  </a:lnTo>
                  <a:lnTo>
                    <a:pt x="233806" y="52578"/>
                  </a:lnTo>
                  <a:lnTo>
                    <a:pt x="287528" y="57277"/>
                  </a:lnTo>
                  <a:lnTo>
                    <a:pt x="342392" y="60071"/>
                  </a:lnTo>
                  <a:lnTo>
                    <a:pt x="397382" y="60832"/>
                  </a:lnTo>
                  <a:lnTo>
                    <a:pt x="452119" y="60071"/>
                  </a:lnTo>
                  <a:lnTo>
                    <a:pt x="505332" y="57022"/>
                  </a:lnTo>
                  <a:lnTo>
                    <a:pt x="531368" y="55118"/>
                  </a:lnTo>
                  <a:lnTo>
                    <a:pt x="556768" y="52578"/>
                  </a:lnTo>
                  <a:lnTo>
                    <a:pt x="581279" y="49403"/>
                  </a:lnTo>
                  <a:lnTo>
                    <a:pt x="605408" y="45847"/>
                  </a:lnTo>
                  <a:lnTo>
                    <a:pt x="628268" y="41909"/>
                  </a:lnTo>
                  <a:lnTo>
                    <a:pt x="650113" y="37591"/>
                  </a:lnTo>
                  <a:lnTo>
                    <a:pt x="670813" y="32512"/>
                  </a:lnTo>
                  <a:lnTo>
                    <a:pt x="690499" y="26924"/>
                  </a:lnTo>
                  <a:lnTo>
                    <a:pt x="708787" y="21209"/>
                  </a:lnTo>
                  <a:lnTo>
                    <a:pt x="725677" y="14731"/>
                  </a:lnTo>
                  <a:lnTo>
                    <a:pt x="741299" y="7493"/>
                  </a:lnTo>
                  <a:lnTo>
                    <a:pt x="755268" y="0"/>
                  </a:lnTo>
                  <a:lnTo>
                    <a:pt x="755268" y="1016126"/>
                  </a:lnTo>
                  <a:lnTo>
                    <a:pt x="737107" y="1030732"/>
                  </a:lnTo>
                  <a:lnTo>
                    <a:pt x="717804" y="1044447"/>
                  </a:lnTo>
                  <a:lnTo>
                    <a:pt x="697357" y="1057147"/>
                  </a:lnTo>
                  <a:lnTo>
                    <a:pt x="675766" y="1068577"/>
                  </a:lnTo>
                  <a:lnTo>
                    <a:pt x="653415" y="1078864"/>
                  </a:lnTo>
                  <a:lnTo>
                    <a:pt x="629919" y="1088263"/>
                  </a:lnTo>
                  <a:lnTo>
                    <a:pt x="605408" y="1096645"/>
                  </a:lnTo>
                  <a:lnTo>
                    <a:pt x="580516" y="1103630"/>
                  </a:lnTo>
                  <a:lnTo>
                    <a:pt x="554608" y="1109980"/>
                  </a:lnTo>
                  <a:lnTo>
                    <a:pt x="528319" y="1115059"/>
                  </a:lnTo>
                  <a:lnTo>
                    <a:pt x="501522" y="1119505"/>
                  </a:lnTo>
                  <a:lnTo>
                    <a:pt x="474344" y="1122807"/>
                  </a:lnTo>
                  <a:lnTo>
                    <a:pt x="447039" y="1125346"/>
                  </a:lnTo>
                  <a:lnTo>
                    <a:pt x="419480" y="1126744"/>
                  </a:lnTo>
                  <a:lnTo>
                    <a:pt x="364235" y="1127506"/>
                  </a:lnTo>
                  <a:lnTo>
                    <a:pt x="309371" y="1124965"/>
                  </a:lnTo>
                  <a:lnTo>
                    <a:pt x="282448" y="1122171"/>
                  </a:lnTo>
                  <a:lnTo>
                    <a:pt x="255650" y="1119251"/>
                  </a:lnTo>
                  <a:lnTo>
                    <a:pt x="229361" y="1115059"/>
                  </a:lnTo>
                  <a:lnTo>
                    <a:pt x="204088" y="1110233"/>
                  </a:lnTo>
                  <a:lnTo>
                    <a:pt x="178942" y="1105026"/>
                  </a:lnTo>
                  <a:lnTo>
                    <a:pt x="154813" y="1098931"/>
                  </a:lnTo>
                  <a:lnTo>
                    <a:pt x="131699" y="1092200"/>
                  </a:lnTo>
                  <a:lnTo>
                    <a:pt x="109220" y="1084960"/>
                  </a:lnTo>
                  <a:lnTo>
                    <a:pt x="87756" y="1077214"/>
                  </a:lnTo>
                  <a:lnTo>
                    <a:pt x="67818" y="1068577"/>
                  </a:lnTo>
                  <a:lnTo>
                    <a:pt x="48641" y="1059688"/>
                  </a:lnTo>
                  <a:lnTo>
                    <a:pt x="31241" y="1050163"/>
                  </a:lnTo>
                  <a:lnTo>
                    <a:pt x="14859" y="1040257"/>
                  </a:lnTo>
                  <a:lnTo>
                    <a:pt x="0" y="1029715"/>
                  </a:lnTo>
                  <a:lnTo>
                    <a:pt x="9143"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3" name="Freeform 13"/>
            <p:cNvSpPr/>
            <p:nvPr/>
          </p:nvSpPr>
          <p:spPr>
            <a:xfrm>
              <a:off x="1010880" y="252144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6" h="765302">
                  <a:moveTo>
                    <a:pt x="10415" y="65405"/>
                  </a:moveTo>
                  <a:lnTo>
                    <a:pt x="16638" y="54990"/>
                  </a:lnTo>
                  <a:lnTo>
                    <a:pt x="25146" y="44196"/>
                  </a:lnTo>
                  <a:lnTo>
                    <a:pt x="34671" y="34290"/>
                  </a:lnTo>
                  <a:lnTo>
                    <a:pt x="45340" y="24511"/>
                  </a:lnTo>
                  <a:lnTo>
                    <a:pt x="57024" y="15875"/>
                  </a:lnTo>
                  <a:lnTo>
                    <a:pt x="68835" y="8636"/>
                  </a:lnTo>
                  <a:lnTo>
                    <a:pt x="80772" y="3302"/>
                  </a:lnTo>
                  <a:lnTo>
                    <a:pt x="92583" y="0"/>
                  </a:lnTo>
                  <a:lnTo>
                    <a:pt x="105919" y="508"/>
                  </a:lnTo>
                  <a:lnTo>
                    <a:pt x="120396" y="1143"/>
                  </a:lnTo>
                  <a:lnTo>
                    <a:pt x="151258" y="3683"/>
                  </a:lnTo>
                  <a:lnTo>
                    <a:pt x="182627" y="8000"/>
                  </a:lnTo>
                  <a:lnTo>
                    <a:pt x="214630" y="14478"/>
                  </a:lnTo>
                  <a:lnTo>
                    <a:pt x="230124" y="18668"/>
                  </a:lnTo>
                  <a:lnTo>
                    <a:pt x="244857" y="23621"/>
                  </a:lnTo>
                  <a:lnTo>
                    <a:pt x="259335" y="29209"/>
                  </a:lnTo>
                  <a:lnTo>
                    <a:pt x="272796" y="35687"/>
                  </a:lnTo>
                  <a:lnTo>
                    <a:pt x="285243" y="42799"/>
                  </a:lnTo>
                  <a:lnTo>
                    <a:pt x="297054" y="50800"/>
                  </a:lnTo>
                  <a:lnTo>
                    <a:pt x="307086" y="60071"/>
                  </a:lnTo>
                  <a:lnTo>
                    <a:pt x="315849" y="70103"/>
                  </a:lnTo>
                  <a:lnTo>
                    <a:pt x="323469" y="84581"/>
                  </a:lnTo>
                  <a:lnTo>
                    <a:pt x="330582" y="100965"/>
                  </a:lnTo>
                  <a:lnTo>
                    <a:pt x="337440" y="118744"/>
                  </a:lnTo>
                  <a:lnTo>
                    <a:pt x="343790" y="137921"/>
                  </a:lnTo>
                  <a:lnTo>
                    <a:pt x="349505" y="158496"/>
                  </a:lnTo>
                  <a:lnTo>
                    <a:pt x="354585" y="180212"/>
                  </a:lnTo>
                  <a:lnTo>
                    <a:pt x="359538" y="203200"/>
                  </a:lnTo>
                  <a:lnTo>
                    <a:pt x="363855" y="226821"/>
                  </a:lnTo>
                  <a:lnTo>
                    <a:pt x="367666" y="251587"/>
                  </a:lnTo>
                  <a:lnTo>
                    <a:pt x="371221" y="276859"/>
                  </a:lnTo>
                  <a:lnTo>
                    <a:pt x="376429" y="329184"/>
                  </a:lnTo>
                  <a:lnTo>
                    <a:pt x="379222" y="382524"/>
                  </a:lnTo>
                  <a:lnTo>
                    <a:pt x="379985" y="436244"/>
                  </a:lnTo>
                  <a:lnTo>
                    <a:pt x="378460" y="489331"/>
                  </a:lnTo>
                  <a:lnTo>
                    <a:pt x="376810" y="515112"/>
                  </a:lnTo>
                  <a:lnTo>
                    <a:pt x="374269" y="540384"/>
                  </a:lnTo>
                  <a:lnTo>
                    <a:pt x="371221" y="565150"/>
                  </a:lnTo>
                  <a:lnTo>
                    <a:pt x="367666" y="589153"/>
                  </a:lnTo>
                  <a:lnTo>
                    <a:pt x="363347" y="612140"/>
                  </a:lnTo>
                  <a:lnTo>
                    <a:pt x="358521" y="633856"/>
                  </a:lnTo>
                  <a:lnTo>
                    <a:pt x="352680" y="654684"/>
                  </a:lnTo>
                  <a:lnTo>
                    <a:pt x="346457" y="673862"/>
                  </a:lnTo>
                  <a:lnTo>
                    <a:pt x="339344" y="692277"/>
                  </a:lnTo>
                  <a:lnTo>
                    <a:pt x="331724" y="708278"/>
                  </a:lnTo>
                  <a:lnTo>
                    <a:pt x="323216" y="723011"/>
                  </a:lnTo>
                  <a:lnTo>
                    <a:pt x="313944" y="736472"/>
                  </a:lnTo>
                  <a:lnTo>
                    <a:pt x="304166" y="747268"/>
                  </a:lnTo>
                  <a:lnTo>
                    <a:pt x="293116" y="756157"/>
                  </a:lnTo>
                  <a:lnTo>
                    <a:pt x="285750" y="758316"/>
                  </a:lnTo>
                  <a:lnTo>
                    <a:pt x="277622" y="760349"/>
                  </a:lnTo>
                  <a:lnTo>
                    <a:pt x="259843" y="763143"/>
                  </a:lnTo>
                  <a:lnTo>
                    <a:pt x="239904" y="764794"/>
                  </a:lnTo>
                  <a:lnTo>
                    <a:pt x="218694" y="765301"/>
                  </a:lnTo>
                  <a:lnTo>
                    <a:pt x="196088" y="764794"/>
                  </a:lnTo>
                  <a:lnTo>
                    <a:pt x="173355" y="763143"/>
                  </a:lnTo>
                  <a:lnTo>
                    <a:pt x="150115" y="760857"/>
                  </a:lnTo>
                  <a:lnTo>
                    <a:pt x="127508" y="758189"/>
                  </a:lnTo>
                  <a:lnTo>
                    <a:pt x="105665" y="754507"/>
                  </a:lnTo>
                  <a:lnTo>
                    <a:pt x="85218" y="750315"/>
                  </a:lnTo>
                  <a:lnTo>
                    <a:pt x="66549" y="745489"/>
                  </a:lnTo>
                  <a:lnTo>
                    <a:pt x="50293" y="741171"/>
                  </a:lnTo>
                  <a:lnTo>
                    <a:pt x="36577" y="736091"/>
                  </a:lnTo>
                  <a:lnTo>
                    <a:pt x="26163" y="730884"/>
                  </a:lnTo>
                  <a:lnTo>
                    <a:pt x="19177" y="725805"/>
                  </a:lnTo>
                  <a:lnTo>
                    <a:pt x="17146" y="723011"/>
                  </a:lnTo>
                  <a:lnTo>
                    <a:pt x="16383" y="720597"/>
                  </a:lnTo>
                  <a:lnTo>
                    <a:pt x="16383" y="669416"/>
                  </a:lnTo>
                  <a:lnTo>
                    <a:pt x="15368" y="660272"/>
                  </a:lnTo>
                  <a:lnTo>
                    <a:pt x="14733" y="651637"/>
                  </a:lnTo>
                  <a:lnTo>
                    <a:pt x="14733" y="643890"/>
                  </a:lnTo>
                  <a:lnTo>
                    <a:pt x="15621" y="636650"/>
                  </a:lnTo>
                  <a:lnTo>
                    <a:pt x="17146" y="629919"/>
                  </a:lnTo>
                  <a:lnTo>
                    <a:pt x="19177" y="623824"/>
                  </a:lnTo>
                  <a:lnTo>
                    <a:pt x="21844" y="618236"/>
                  </a:lnTo>
                  <a:lnTo>
                    <a:pt x="24893" y="613283"/>
                  </a:lnTo>
                  <a:lnTo>
                    <a:pt x="28702" y="608837"/>
                  </a:lnTo>
                  <a:lnTo>
                    <a:pt x="32766" y="604900"/>
                  </a:lnTo>
                  <a:lnTo>
                    <a:pt x="42672" y="598805"/>
                  </a:lnTo>
                  <a:lnTo>
                    <a:pt x="54102" y="594613"/>
                  </a:lnTo>
                  <a:lnTo>
                    <a:pt x="67183" y="592074"/>
                  </a:lnTo>
                  <a:lnTo>
                    <a:pt x="73788" y="592709"/>
                  </a:lnTo>
                  <a:lnTo>
                    <a:pt x="80010" y="594106"/>
                  </a:lnTo>
                  <a:lnTo>
                    <a:pt x="85471" y="596646"/>
                  </a:lnTo>
                  <a:lnTo>
                    <a:pt x="90933" y="599947"/>
                  </a:lnTo>
                  <a:lnTo>
                    <a:pt x="100458" y="608584"/>
                  </a:lnTo>
                  <a:lnTo>
                    <a:pt x="109729" y="618871"/>
                  </a:lnTo>
                  <a:lnTo>
                    <a:pt x="119635" y="629665"/>
                  </a:lnTo>
                  <a:lnTo>
                    <a:pt x="130175" y="640206"/>
                  </a:lnTo>
                  <a:lnTo>
                    <a:pt x="136525" y="644652"/>
                  </a:lnTo>
                  <a:lnTo>
                    <a:pt x="143130" y="649096"/>
                  </a:lnTo>
                  <a:lnTo>
                    <a:pt x="150496" y="652780"/>
                  </a:lnTo>
                  <a:lnTo>
                    <a:pt x="158624" y="655574"/>
                  </a:lnTo>
                  <a:lnTo>
                    <a:pt x="167386" y="657478"/>
                  </a:lnTo>
                  <a:lnTo>
                    <a:pt x="176404" y="658875"/>
                  </a:lnTo>
                  <a:lnTo>
                    <a:pt x="194946" y="658875"/>
                  </a:lnTo>
                  <a:lnTo>
                    <a:pt x="213488" y="656336"/>
                  </a:lnTo>
                  <a:lnTo>
                    <a:pt x="231521" y="651002"/>
                  </a:lnTo>
                  <a:lnTo>
                    <a:pt x="239904" y="647446"/>
                  </a:lnTo>
                  <a:lnTo>
                    <a:pt x="247650" y="643509"/>
                  </a:lnTo>
                  <a:lnTo>
                    <a:pt x="255016" y="638809"/>
                  </a:lnTo>
                  <a:lnTo>
                    <a:pt x="261874" y="633856"/>
                  </a:lnTo>
                  <a:lnTo>
                    <a:pt x="267844" y="628522"/>
                  </a:lnTo>
                  <a:lnTo>
                    <a:pt x="272796" y="622681"/>
                  </a:lnTo>
                  <a:lnTo>
                    <a:pt x="276860" y="616331"/>
                  </a:lnTo>
                  <a:lnTo>
                    <a:pt x="280163" y="609600"/>
                  </a:lnTo>
                  <a:lnTo>
                    <a:pt x="284227" y="597153"/>
                  </a:lnTo>
                  <a:lnTo>
                    <a:pt x="287783" y="582675"/>
                  </a:lnTo>
                  <a:lnTo>
                    <a:pt x="290704" y="567055"/>
                  </a:lnTo>
                  <a:lnTo>
                    <a:pt x="293116" y="550418"/>
                  </a:lnTo>
                  <a:lnTo>
                    <a:pt x="294894" y="532891"/>
                  </a:lnTo>
                  <a:lnTo>
                    <a:pt x="295910" y="514603"/>
                  </a:lnTo>
                  <a:lnTo>
                    <a:pt x="296546" y="495427"/>
                  </a:lnTo>
                  <a:lnTo>
                    <a:pt x="296546" y="475361"/>
                  </a:lnTo>
                  <a:lnTo>
                    <a:pt x="295910" y="454533"/>
                  </a:lnTo>
                  <a:lnTo>
                    <a:pt x="294513" y="433705"/>
                  </a:lnTo>
                  <a:lnTo>
                    <a:pt x="290196" y="391159"/>
                  </a:lnTo>
                  <a:lnTo>
                    <a:pt x="283338" y="348106"/>
                  </a:lnTo>
                  <a:lnTo>
                    <a:pt x="274447" y="305815"/>
                  </a:lnTo>
                  <a:lnTo>
                    <a:pt x="268860" y="285241"/>
                  </a:lnTo>
                  <a:lnTo>
                    <a:pt x="262891" y="264921"/>
                  </a:lnTo>
                  <a:lnTo>
                    <a:pt x="256286" y="245490"/>
                  </a:lnTo>
                  <a:lnTo>
                    <a:pt x="248921" y="226821"/>
                  </a:lnTo>
                  <a:lnTo>
                    <a:pt x="241300" y="208787"/>
                  </a:lnTo>
                  <a:lnTo>
                    <a:pt x="232919" y="191896"/>
                  </a:lnTo>
                  <a:lnTo>
                    <a:pt x="224155" y="176021"/>
                  </a:lnTo>
                  <a:lnTo>
                    <a:pt x="214630" y="161797"/>
                  </a:lnTo>
                  <a:lnTo>
                    <a:pt x="204216" y="148462"/>
                  </a:lnTo>
                  <a:lnTo>
                    <a:pt x="193802" y="136778"/>
                  </a:lnTo>
                  <a:lnTo>
                    <a:pt x="182372" y="126491"/>
                  </a:lnTo>
                  <a:lnTo>
                    <a:pt x="170561" y="117856"/>
                  </a:lnTo>
                  <a:lnTo>
                    <a:pt x="158116" y="111252"/>
                  </a:lnTo>
                  <a:lnTo>
                    <a:pt x="145288" y="106425"/>
                  </a:lnTo>
                  <a:lnTo>
                    <a:pt x="131827" y="103759"/>
                  </a:lnTo>
                  <a:lnTo>
                    <a:pt x="117602" y="103124"/>
                  </a:lnTo>
                  <a:lnTo>
                    <a:pt x="110236" y="102108"/>
                  </a:lnTo>
                  <a:lnTo>
                    <a:pt x="103760" y="103124"/>
                  </a:lnTo>
                  <a:lnTo>
                    <a:pt x="97536" y="105918"/>
                  </a:lnTo>
                  <a:lnTo>
                    <a:pt x="91694" y="110109"/>
                  </a:lnTo>
                  <a:lnTo>
                    <a:pt x="86360" y="115950"/>
                  </a:lnTo>
                  <a:lnTo>
                    <a:pt x="81154" y="122681"/>
                  </a:lnTo>
                  <a:lnTo>
                    <a:pt x="70740" y="137413"/>
                  </a:lnTo>
                  <a:lnTo>
                    <a:pt x="60071" y="152653"/>
                  </a:lnTo>
                  <a:lnTo>
                    <a:pt x="54102" y="160146"/>
                  </a:lnTo>
                  <a:lnTo>
                    <a:pt x="48007" y="166750"/>
                  </a:lnTo>
                  <a:lnTo>
                    <a:pt x="40894" y="172084"/>
                  </a:lnTo>
                  <a:lnTo>
                    <a:pt x="33529" y="176530"/>
                  </a:lnTo>
                  <a:lnTo>
                    <a:pt x="25400" y="179324"/>
                  </a:lnTo>
                  <a:lnTo>
                    <a:pt x="16383" y="180212"/>
                  </a:lnTo>
                  <a:lnTo>
                    <a:pt x="10669" y="165988"/>
                  </a:lnTo>
                  <a:lnTo>
                    <a:pt x="5716" y="151765"/>
                  </a:lnTo>
                  <a:lnTo>
                    <a:pt x="2413" y="137413"/>
                  </a:lnTo>
                  <a:lnTo>
                    <a:pt x="255"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4" name="Freeform 14"/>
            <p:cNvSpPr/>
            <p:nvPr/>
          </p:nvSpPr>
          <p:spPr>
            <a:xfrm>
              <a:off x="1010880" y="252036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0"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0" y="20320"/>
                  </a:lnTo>
                  <a:lnTo>
                    <a:pt x="245111" y="24129"/>
                  </a:lnTo>
                  <a:lnTo>
                    <a:pt x="260350" y="29210"/>
                  </a:lnTo>
                  <a:lnTo>
                    <a:pt x="273050" y="36829"/>
                  </a:lnTo>
                  <a:lnTo>
                    <a:pt x="285750" y="43179"/>
                  </a:lnTo>
                  <a:lnTo>
                    <a:pt x="297181" y="52070"/>
                  </a:lnTo>
                  <a:lnTo>
                    <a:pt x="307341" y="60960"/>
                  </a:lnTo>
                  <a:lnTo>
                    <a:pt x="316231" y="69850"/>
                  </a:lnTo>
                  <a:lnTo>
                    <a:pt x="323850" y="85089"/>
                  </a:lnTo>
                  <a:lnTo>
                    <a:pt x="330200" y="101600"/>
                  </a:lnTo>
                  <a:lnTo>
                    <a:pt x="337820" y="119379"/>
                  </a:lnTo>
                  <a:lnTo>
                    <a:pt x="342900" y="139700"/>
                  </a:lnTo>
                  <a:lnTo>
                    <a:pt x="349250" y="160020"/>
                  </a:lnTo>
                  <a:lnTo>
                    <a:pt x="354331" y="180339"/>
                  </a:lnTo>
                  <a:lnTo>
                    <a:pt x="359411" y="204470"/>
                  </a:lnTo>
                  <a:lnTo>
                    <a:pt x="364491" y="228600"/>
                  </a:lnTo>
                  <a:lnTo>
                    <a:pt x="368300" y="251460"/>
                  </a:lnTo>
                  <a:lnTo>
                    <a:pt x="372111" y="278129"/>
                  </a:lnTo>
                  <a:lnTo>
                    <a:pt x="375920" y="330200"/>
                  </a:lnTo>
                  <a:lnTo>
                    <a:pt x="378461" y="382270"/>
                  </a:lnTo>
                  <a:lnTo>
                    <a:pt x="379731" y="436879"/>
                  </a:lnTo>
                  <a:lnTo>
                    <a:pt x="378461" y="488950"/>
                  </a:lnTo>
                  <a:lnTo>
                    <a:pt x="375920" y="516889"/>
                  </a:lnTo>
                  <a:lnTo>
                    <a:pt x="374650" y="542289"/>
                  </a:lnTo>
                  <a:lnTo>
                    <a:pt x="372111" y="566420"/>
                  </a:lnTo>
                  <a:lnTo>
                    <a:pt x="368300" y="589279"/>
                  </a:lnTo>
                  <a:lnTo>
                    <a:pt x="364491" y="612139"/>
                  </a:lnTo>
                  <a:lnTo>
                    <a:pt x="358141" y="635000"/>
                  </a:lnTo>
                  <a:lnTo>
                    <a:pt x="353061" y="655320"/>
                  </a:lnTo>
                  <a:lnTo>
                    <a:pt x="346711" y="674370"/>
                  </a:lnTo>
                  <a:lnTo>
                    <a:pt x="339091" y="692150"/>
                  </a:lnTo>
                  <a:lnTo>
                    <a:pt x="332741" y="709929"/>
                  </a:lnTo>
                  <a:lnTo>
                    <a:pt x="323850" y="723900"/>
                  </a:lnTo>
                  <a:lnTo>
                    <a:pt x="313691" y="736600"/>
                  </a:lnTo>
                  <a:lnTo>
                    <a:pt x="303531" y="748029"/>
                  </a:lnTo>
                  <a:lnTo>
                    <a:pt x="292100" y="756920"/>
                  </a:lnTo>
                  <a:lnTo>
                    <a:pt x="285750" y="758190"/>
                  </a:lnTo>
                  <a:lnTo>
                    <a:pt x="278131" y="762000"/>
                  </a:lnTo>
                  <a:lnTo>
                    <a:pt x="260350" y="764540"/>
                  </a:lnTo>
                  <a:lnTo>
                    <a:pt x="240031" y="765809"/>
                  </a:lnTo>
                  <a:lnTo>
                    <a:pt x="218441" y="765809"/>
                  </a:lnTo>
                  <a:lnTo>
                    <a:pt x="195581" y="765809"/>
                  </a:lnTo>
                  <a:lnTo>
                    <a:pt x="172720" y="764540"/>
                  </a:lnTo>
                  <a:lnTo>
                    <a:pt x="149861" y="762000"/>
                  </a:lnTo>
                  <a:lnTo>
                    <a:pt x="127000" y="758190"/>
                  </a:lnTo>
                  <a:lnTo>
                    <a:pt x="105411" y="755650"/>
                  </a:lnTo>
                  <a:lnTo>
                    <a:pt x="85091" y="751840"/>
                  </a:lnTo>
                  <a:lnTo>
                    <a:pt x="67311" y="746759"/>
                  </a:lnTo>
                  <a:lnTo>
                    <a:pt x="50800" y="742950"/>
                  </a:lnTo>
                  <a:lnTo>
                    <a:pt x="35561" y="736600"/>
                  </a:lnTo>
                  <a:lnTo>
                    <a:pt x="25400" y="732790"/>
                  </a:lnTo>
                  <a:lnTo>
                    <a:pt x="19050" y="726439"/>
                  </a:lnTo>
                  <a:lnTo>
                    <a:pt x="17781" y="723900"/>
                  </a:lnTo>
                  <a:lnTo>
                    <a:pt x="16511" y="721360"/>
                  </a:lnTo>
                  <a:lnTo>
                    <a:pt x="16511" y="670560"/>
                  </a:lnTo>
                  <a:lnTo>
                    <a:pt x="15241" y="661670"/>
                  </a:lnTo>
                  <a:lnTo>
                    <a:pt x="13970" y="651510"/>
                  </a:lnTo>
                  <a:lnTo>
                    <a:pt x="13970" y="645160"/>
                  </a:lnTo>
                  <a:lnTo>
                    <a:pt x="15241" y="637539"/>
                  </a:lnTo>
                  <a:lnTo>
                    <a:pt x="17781" y="631189"/>
                  </a:lnTo>
                  <a:lnTo>
                    <a:pt x="19050" y="624839"/>
                  </a:lnTo>
                  <a:lnTo>
                    <a:pt x="21591" y="618489"/>
                  </a:lnTo>
                  <a:lnTo>
                    <a:pt x="25400" y="614679"/>
                  </a:lnTo>
                  <a:lnTo>
                    <a:pt x="29211" y="609600"/>
                  </a:lnTo>
                  <a:lnTo>
                    <a:pt x="31750" y="607060"/>
                  </a:lnTo>
                  <a:lnTo>
                    <a:pt x="43181" y="599439"/>
                  </a:lnTo>
                  <a:lnTo>
                    <a:pt x="54611" y="595629"/>
                  </a:lnTo>
                  <a:lnTo>
                    <a:pt x="67311" y="593089"/>
                  </a:lnTo>
                  <a:lnTo>
                    <a:pt x="73661" y="593089"/>
                  </a:lnTo>
                  <a:lnTo>
                    <a:pt x="78741" y="595629"/>
                  </a:lnTo>
                  <a:lnTo>
                    <a:pt x="86361" y="596900"/>
                  </a:lnTo>
                  <a:lnTo>
                    <a:pt x="90170" y="600710"/>
                  </a:lnTo>
                  <a:lnTo>
                    <a:pt x="101600" y="608329"/>
                  </a:lnTo>
                  <a:lnTo>
                    <a:pt x="110491" y="619760"/>
                  </a:lnTo>
                  <a:lnTo>
                    <a:pt x="119381" y="629920"/>
                  </a:lnTo>
                  <a:lnTo>
                    <a:pt x="129541" y="641350"/>
                  </a:lnTo>
                  <a:lnTo>
                    <a:pt x="137161" y="645160"/>
                  </a:lnTo>
                  <a:lnTo>
                    <a:pt x="143511" y="650239"/>
                  </a:lnTo>
                  <a:lnTo>
                    <a:pt x="151131" y="654050"/>
                  </a:lnTo>
                  <a:lnTo>
                    <a:pt x="158750" y="655320"/>
                  </a:lnTo>
                  <a:lnTo>
                    <a:pt x="166370" y="659129"/>
                  </a:lnTo>
                  <a:lnTo>
                    <a:pt x="176531" y="659129"/>
                  </a:lnTo>
                  <a:lnTo>
                    <a:pt x="194311" y="659129"/>
                  </a:lnTo>
                  <a:lnTo>
                    <a:pt x="213361" y="656589"/>
                  </a:lnTo>
                  <a:lnTo>
                    <a:pt x="231141" y="651510"/>
                  </a:lnTo>
                  <a:lnTo>
                    <a:pt x="240031" y="648970"/>
                  </a:lnTo>
                  <a:lnTo>
                    <a:pt x="247650" y="645160"/>
                  </a:lnTo>
                  <a:lnTo>
                    <a:pt x="255270" y="640079"/>
                  </a:lnTo>
                  <a:lnTo>
                    <a:pt x="261620" y="635000"/>
                  </a:lnTo>
                  <a:lnTo>
                    <a:pt x="266700" y="629920"/>
                  </a:lnTo>
                  <a:lnTo>
                    <a:pt x="273050" y="623570"/>
                  </a:lnTo>
                  <a:lnTo>
                    <a:pt x="276861" y="617220"/>
                  </a:lnTo>
                  <a:lnTo>
                    <a:pt x="280670" y="610870"/>
                  </a:lnTo>
                  <a:lnTo>
                    <a:pt x="284481" y="598170"/>
                  </a:lnTo>
                  <a:lnTo>
                    <a:pt x="288291" y="582929"/>
                  </a:lnTo>
                  <a:lnTo>
                    <a:pt x="290831" y="567689"/>
                  </a:lnTo>
                  <a:lnTo>
                    <a:pt x="292100" y="552450"/>
                  </a:lnTo>
                  <a:lnTo>
                    <a:pt x="295911" y="533400"/>
                  </a:lnTo>
                  <a:lnTo>
                    <a:pt x="295911" y="515620"/>
                  </a:lnTo>
                  <a:lnTo>
                    <a:pt x="295911" y="496570"/>
                  </a:lnTo>
                  <a:lnTo>
                    <a:pt x="295911" y="476250"/>
                  </a:lnTo>
                  <a:lnTo>
                    <a:pt x="295911" y="455929"/>
                  </a:lnTo>
                  <a:lnTo>
                    <a:pt x="294641" y="434339"/>
                  </a:lnTo>
                  <a:lnTo>
                    <a:pt x="289561" y="391160"/>
                  </a:lnTo>
                  <a:lnTo>
                    <a:pt x="283211" y="349250"/>
                  </a:lnTo>
                  <a:lnTo>
                    <a:pt x="274320" y="307339"/>
                  </a:lnTo>
                  <a:lnTo>
                    <a:pt x="269241" y="287020"/>
                  </a:lnTo>
                  <a:lnTo>
                    <a:pt x="262891" y="265429"/>
                  </a:lnTo>
                  <a:lnTo>
                    <a:pt x="256541" y="246379"/>
                  </a:lnTo>
                  <a:lnTo>
                    <a:pt x="248920" y="228600"/>
                  </a:lnTo>
                  <a:lnTo>
                    <a:pt x="241300" y="209550"/>
                  </a:lnTo>
                  <a:lnTo>
                    <a:pt x="233681" y="193039"/>
                  </a:lnTo>
                  <a:lnTo>
                    <a:pt x="223520" y="176529"/>
                  </a:lnTo>
                  <a:lnTo>
                    <a:pt x="214631" y="162560"/>
                  </a:lnTo>
                  <a:lnTo>
                    <a:pt x="204470" y="148589"/>
                  </a:lnTo>
                  <a:lnTo>
                    <a:pt x="194311" y="138429"/>
                  </a:lnTo>
                  <a:lnTo>
                    <a:pt x="182881" y="127000"/>
                  </a:lnTo>
                  <a:lnTo>
                    <a:pt x="170181" y="118110"/>
                  </a:lnTo>
                  <a:lnTo>
                    <a:pt x="157481" y="111760"/>
                  </a:lnTo>
                  <a:lnTo>
                    <a:pt x="144781" y="106679"/>
                  </a:lnTo>
                  <a:lnTo>
                    <a:pt x="132081" y="105410"/>
                  </a:lnTo>
                  <a:lnTo>
                    <a:pt x="118111" y="102870"/>
                  </a:lnTo>
                  <a:lnTo>
                    <a:pt x="110491" y="102870"/>
                  </a:lnTo>
                  <a:lnTo>
                    <a:pt x="104141" y="102870"/>
                  </a:lnTo>
                  <a:lnTo>
                    <a:pt x="97791" y="106679"/>
                  </a:lnTo>
                  <a:lnTo>
                    <a:pt x="92711" y="110489"/>
                  </a:lnTo>
                  <a:lnTo>
                    <a:pt x="86361" y="116839"/>
                  </a:lnTo>
                  <a:lnTo>
                    <a:pt x="81281" y="123189"/>
                  </a:lnTo>
                  <a:lnTo>
                    <a:pt x="71120" y="138429"/>
                  </a:lnTo>
                  <a:lnTo>
                    <a:pt x="60961" y="153670"/>
                  </a:lnTo>
                  <a:lnTo>
                    <a:pt x="54611" y="161289"/>
                  </a:lnTo>
                  <a:lnTo>
                    <a:pt x="46991" y="167639"/>
                  </a:lnTo>
                  <a:lnTo>
                    <a:pt x="40641" y="172720"/>
                  </a:lnTo>
                  <a:lnTo>
                    <a:pt x="33020" y="176529"/>
                  </a:lnTo>
                  <a:lnTo>
                    <a:pt x="25400" y="180339"/>
                  </a:lnTo>
                  <a:lnTo>
                    <a:pt x="16511" y="180339"/>
                  </a:lnTo>
                  <a:lnTo>
                    <a:pt x="10161" y="167639"/>
                  </a:lnTo>
                  <a:lnTo>
                    <a:pt x="6350" y="152400"/>
                  </a:lnTo>
                  <a:lnTo>
                    <a:pt x="2541" y="138429"/>
                  </a:lnTo>
                  <a:lnTo>
                    <a:pt x="0" y="123189"/>
                  </a:lnTo>
                  <a:lnTo>
                    <a:pt x="0" y="107950"/>
                  </a:lnTo>
                  <a:lnTo>
                    <a:pt x="2541"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5" name="Freeform 15"/>
            <p:cNvSpPr/>
            <p:nvPr/>
          </p:nvSpPr>
          <p:spPr>
            <a:xfrm>
              <a:off x="1250280" y="259812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4" h="674370">
                  <a:moveTo>
                    <a:pt x="71881" y="2285"/>
                  </a:moveTo>
                  <a:lnTo>
                    <a:pt x="80009" y="15367"/>
                  </a:lnTo>
                  <a:lnTo>
                    <a:pt x="87629" y="31114"/>
                  </a:lnTo>
                  <a:lnTo>
                    <a:pt x="94742" y="48386"/>
                  </a:lnTo>
                  <a:lnTo>
                    <a:pt x="101345" y="67563"/>
                  </a:lnTo>
                  <a:lnTo>
                    <a:pt x="107314" y="88392"/>
                  </a:lnTo>
                  <a:lnTo>
                    <a:pt x="112775" y="110363"/>
                  </a:lnTo>
                  <a:lnTo>
                    <a:pt x="117728" y="133730"/>
                  </a:lnTo>
                  <a:lnTo>
                    <a:pt x="121792" y="157988"/>
                  </a:lnTo>
                  <a:lnTo>
                    <a:pt x="125856" y="182372"/>
                  </a:lnTo>
                  <a:lnTo>
                    <a:pt x="128904" y="207645"/>
                  </a:lnTo>
                  <a:lnTo>
                    <a:pt x="133858" y="258317"/>
                  </a:lnTo>
                  <a:lnTo>
                    <a:pt x="135509" y="283336"/>
                  </a:lnTo>
                  <a:lnTo>
                    <a:pt x="136525" y="308101"/>
                  </a:lnTo>
                  <a:lnTo>
                    <a:pt x="137033" y="331723"/>
                  </a:lnTo>
                  <a:lnTo>
                    <a:pt x="137033" y="354838"/>
                  </a:lnTo>
                  <a:lnTo>
                    <a:pt x="136270" y="376428"/>
                  </a:lnTo>
                  <a:lnTo>
                    <a:pt x="135636" y="397001"/>
                  </a:lnTo>
                  <a:lnTo>
                    <a:pt x="133858" y="435101"/>
                  </a:lnTo>
                  <a:lnTo>
                    <a:pt x="130809" y="470661"/>
                  </a:lnTo>
                  <a:lnTo>
                    <a:pt x="126111" y="504570"/>
                  </a:lnTo>
                  <a:lnTo>
                    <a:pt x="119379" y="537972"/>
                  </a:lnTo>
                  <a:lnTo>
                    <a:pt x="114426" y="554863"/>
                  </a:lnTo>
                  <a:lnTo>
                    <a:pt x="108965" y="572135"/>
                  </a:lnTo>
                  <a:lnTo>
                    <a:pt x="102742" y="589914"/>
                  </a:lnTo>
                  <a:lnTo>
                    <a:pt x="94995" y="608329"/>
                  </a:lnTo>
                  <a:lnTo>
                    <a:pt x="86233" y="627379"/>
                  </a:lnTo>
                  <a:lnTo>
                    <a:pt x="76453" y="647445"/>
                  </a:lnTo>
                  <a:lnTo>
                    <a:pt x="71247" y="653287"/>
                  </a:lnTo>
                  <a:lnTo>
                    <a:pt x="65023" y="659383"/>
                  </a:lnTo>
                  <a:lnTo>
                    <a:pt x="57912" y="664972"/>
                  </a:lnTo>
                  <a:lnTo>
                    <a:pt x="50292" y="669670"/>
                  </a:lnTo>
                  <a:lnTo>
                    <a:pt x="42545" y="672973"/>
                  </a:lnTo>
                  <a:lnTo>
                    <a:pt x="35178" y="674369"/>
                  </a:lnTo>
                  <a:lnTo>
                    <a:pt x="28448" y="673862"/>
                  </a:lnTo>
                  <a:lnTo>
                    <a:pt x="25400" y="672464"/>
                  </a:lnTo>
                  <a:lnTo>
                    <a:pt x="22733" y="670179"/>
                  </a:lnTo>
                  <a:lnTo>
                    <a:pt x="21589" y="666114"/>
                  </a:lnTo>
                  <a:lnTo>
                    <a:pt x="22733" y="660018"/>
                  </a:lnTo>
                  <a:lnTo>
                    <a:pt x="26034" y="651891"/>
                  </a:lnTo>
                  <a:lnTo>
                    <a:pt x="30098" y="641985"/>
                  </a:lnTo>
                  <a:lnTo>
                    <a:pt x="35559" y="629157"/>
                  </a:lnTo>
                  <a:lnTo>
                    <a:pt x="41783" y="614172"/>
                  </a:lnTo>
                  <a:lnTo>
                    <a:pt x="48387" y="596645"/>
                  </a:lnTo>
                  <a:lnTo>
                    <a:pt x="54609" y="576072"/>
                  </a:lnTo>
                  <a:lnTo>
                    <a:pt x="61087" y="552450"/>
                  </a:lnTo>
                  <a:lnTo>
                    <a:pt x="63881" y="539369"/>
                  </a:lnTo>
                  <a:lnTo>
                    <a:pt x="66675" y="525398"/>
                  </a:lnTo>
                  <a:lnTo>
                    <a:pt x="68834" y="510667"/>
                  </a:lnTo>
                  <a:lnTo>
                    <a:pt x="70992" y="495173"/>
                  </a:lnTo>
                  <a:lnTo>
                    <a:pt x="72644" y="478663"/>
                  </a:lnTo>
                  <a:lnTo>
                    <a:pt x="74295" y="461263"/>
                  </a:lnTo>
                  <a:lnTo>
                    <a:pt x="75056" y="442848"/>
                  </a:lnTo>
                  <a:lnTo>
                    <a:pt x="75437" y="423672"/>
                  </a:lnTo>
                  <a:lnTo>
                    <a:pt x="75056"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0" y="102870"/>
                  </a:lnTo>
                  <a:lnTo>
                    <a:pt x="18669" y="89280"/>
                  </a:lnTo>
                  <a:lnTo>
                    <a:pt x="13715" y="76707"/>
                  </a:lnTo>
                  <a:lnTo>
                    <a:pt x="8762" y="65404"/>
                  </a:lnTo>
                  <a:lnTo>
                    <a:pt x="4317" y="55879"/>
                  </a:lnTo>
                  <a:lnTo>
                    <a:pt x="0" y="48132"/>
                  </a:lnTo>
                  <a:lnTo>
                    <a:pt x="4953" y="37845"/>
                  </a:lnTo>
                  <a:lnTo>
                    <a:pt x="12064" y="27813"/>
                  </a:lnTo>
                  <a:lnTo>
                    <a:pt x="20447" y="18669"/>
                  </a:lnTo>
                  <a:lnTo>
                    <a:pt x="30098" y="10795"/>
                  </a:lnTo>
                  <a:lnTo>
                    <a:pt x="40767" y="4698"/>
                  </a:lnTo>
                  <a:lnTo>
                    <a:pt x="51308" y="888"/>
                  </a:lnTo>
                  <a:lnTo>
                    <a:pt x="61975"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6" name="Freeform 16"/>
            <p:cNvSpPr/>
            <p:nvPr/>
          </p:nvSpPr>
          <p:spPr>
            <a:xfrm>
              <a:off x="1047960" y="313128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0" y="11303"/>
                  </a:lnTo>
                  <a:lnTo>
                    <a:pt x="70484" y="21971"/>
                  </a:lnTo>
                  <a:lnTo>
                    <a:pt x="82803" y="31115"/>
                  </a:lnTo>
                  <a:lnTo>
                    <a:pt x="95250" y="38862"/>
                  </a:lnTo>
                  <a:lnTo>
                    <a:pt x="107823" y="45847"/>
                  </a:lnTo>
                  <a:lnTo>
                    <a:pt x="120776" y="51307"/>
                  </a:lnTo>
                  <a:lnTo>
                    <a:pt x="133476" y="55499"/>
                  </a:lnTo>
                  <a:lnTo>
                    <a:pt x="146431" y="58293"/>
                  </a:lnTo>
                  <a:lnTo>
                    <a:pt x="159003" y="59690"/>
                  </a:lnTo>
                  <a:lnTo>
                    <a:pt x="171450" y="59690"/>
                  </a:lnTo>
                  <a:lnTo>
                    <a:pt x="183769" y="58293"/>
                  </a:lnTo>
                  <a:lnTo>
                    <a:pt x="195834" y="55244"/>
                  </a:lnTo>
                  <a:lnTo>
                    <a:pt x="207772" y="50800"/>
                  </a:lnTo>
                  <a:lnTo>
                    <a:pt x="218948" y="44703"/>
                  </a:lnTo>
                  <a:lnTo>
                    <a:pt x="229997" y="36956"/>
                  </a:lnTo>
                  <a:lnTo>
                    <a:pt x="240284" y="27431"/>
                  </a:lnTo>
                  <a:lnTo>
                    <a:pt x="237362" y="38862"/>
                  </a:lnTo>
                  <a:lnTo>
                    <a:pt x="233172" y="49149"/>
                  </a:lnTo>
                  <a:lnTo>
                    <a:pt x="228345" y="58674"/>
                  </a:lnTo>
                  <a:lnTo>
                    <a:pt x="222758" y="67437"/>
                  </a:lnTo>
                  <a:lnTo>
                    <a:pt x="211836" y="83819"/>
                  </a:lnTo>
                  <a:lnTo>
                    <a:pt x="202056" y="100584"/>
                  </a:lnTo>
                  <a:lnTo>
                    <a:pt x="194690" y="105028"/>
                  </a:lnTo>
                  <a:lnTo>
                    <a:pt x="186562" y="107822"/>
                  </a:lnTo>
                  <a:lnTo>
                    <a:pt x="178053" y="109219"/>
                  </a:lnTo>
                  <a:lnTo>
                    <a:pt x="169036" y="109474"/>
                  </a:lnTo>
                  <a:lnTo>
                    <a:pt x="150495" y="107822"/>
                  </a:lnTo>
                  <a:lnTo>
                    <a:pt x="132461" y="105282"/>
                  </a:lnTo>
                  <a:lnTo>
                    <a:pt x="100456" y="100584"/>
                  </a:lnTo>
                  <a:lnTo>
                    <a:pt x="84073" y="98044"/>
                  </a:lnTo>
                  <a:lnTo>
                    <a:pt x="68325" y="94106"/>
                  </a:lnTo>
                  <a:lnTo>
                    <a:pt x="52959" y="89153"/>
                  </a:lnTo>
                  <a:lnTo>
                    <a:pt x="38226" y="82803"/>
                  </a:lnTo>
                  <a:lnTo>
                    <a:pt x="25145" y="74422"/>
                  </a:lnTo>
                  <a:lnTo>
                    <a:pt x="19176" y="69722"/>
                  </a:lnTo>
                  <a:lnTo>
                    <a:pt x="13461" y="63881"/>
                  </a:lnTo>
                  <a:lnTo>
                    <a:pt x="6858" y="54990"/>
                  </a:lnTo>
                  <a:lnTo>
                    <a:pt x="2031" y="44450"/>
                  </a:lnTo>
                  <a:lnTo>
                    <a:pt x="0" y="33019"/>
                  </a:lnTo>
                  <a:lnTo>
                    <a:pt x="634" y="28066"/>
                  </a:lnTo>
                  <a:lnTo>
                    <a:pt x="2159" y="22987"/>
                  </a:lnTo>
                  <a:lnTo>
                    <a:pt x="5587" y="18034"/>
                  </a:lnTo>
                  <a:lnTo>
                    <a:pt x="9651" y="13843"/>
                  </a:lnTo>
                  <a:lnTo>
                    <a:pt x="15367" y="10287"/>
                  </a:lnTo>
                  <a:lnTo>
                    <a:pt x="21589" y="7112"/>
                  </a:lnTo>
                  <a:lnTo>
                    <a:pt x="35051"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7" name="Freeform 17"/>
            <p:cNvSpPr/>
            <p:nvPr/>
          </p:nvSpPr>
          <p:spPr>
            <a:xfrm>
              <a:off x="1022760" y="259380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3" h="97919">
                  <a:moveTo>
                    <a:pt x="0" y="83186"/>
                  </a:moveTo>
                  <a:lnTo>
                    <a:pt x="761" y="77343"/>
                  </a:lnTo>
                  <a:lnTo>
                    <a:pt x="2413" y="71502"/>
                  </a:lnTo>
                  <a:lnTo>
                    <a:pt x="5080" y="65405"/>
                  </a:lnTo>
                  <a:lnTo>
                    <a:pt x="13080" y="53468"/>
                  </a:lnTo>
                  <a:lnTo>
                    <a:pt x="23241" y="41784"/>
                  </a:lnTo>
                  <a:lnTo>
                    <a:pt x="35178" y="30608"/>
                  </a:lnTo>
                  <a:lnTo>
                    <a:pt x="47497" y="20955"/>
                  </a:lnTo>
                  <a:lnTo>
                    <a:pt x="59436" y="12827"/>
                  </a:lnTo>
                  <a:lnTo>
                    <a:pt x="70103" y="6477"/>
                  </a:lnTo>
                  <a:lnTo>
                    <a:pt x="76961" y="3430"/>
                  </a:lnTo>
                  <a:lnTo>
                    <a:pt x="84328" y="1397"/>
                  </a:lnTo>
                  <a:lnTo>
                    <a:pt x="92583" y="381"/>
                  </a:lnTo>
                  <a:lnTo>
                    <a:pt x="101219" y="0"/>
                  </a:lnTo>
                  <a:lnTo>
                    <a:pt x="109981" y="636"/>
                  </a:lnTo>
                  <a:lnTo>
                    <a:pt x="119253" y="2287"/>
                  </a:lnTo>
                  <a:lnTo>
                    <a:pt x="137541" y="6986"/>
                  </a:lnTo>
                  <a:lnTo>
                    <a:pt x="146558" y="10668"/>
                  </a:lnTo>
                  <a:lnTo>
                    <a:pt x="154939" y="14859"/>
                  </a:lnTo>
                  <a:lnTo>
                    <a:pt x="162941" y="19812"/>
                  </a:lnTo>
                  <a:lnTo>
                    <a:pt x="170561" y="25020"/>
                  </a:lnTo>
                  <a:lnTo>
                    <a:pt x="177419" y="31243"/>
                  </a:lnTo>
                  <a:lnTo>
                    <a:pt x="183133" y="37593"/>
                  </a:lnTo>
                  <a:lnTo>
                    <a:pt x="188086" y="44831"/>
                  </a:lnTo>
                  <a:lnTo>
                    <a:pt x="191642" y="52324"/>
                  </a:lnTo>
                  <a:lnTo>
                    <a:pt x="177672" y="47371"/>
                  </a:lnTo>
                  <a:lnTo>
                    <a:pt x="165734" y="42037"/>
                  </a:lnTo>
                  <a:lnTo>
                    <a:pt x="154431" y="36196"/>
                  </a:lnTo>
                  <a:lnTo>
                    <a:pt x="144399" y="30353"/>
                  </a:lnTo>
                  <a:lnTo>
                    <a:pt x="134874" y="25020"/>
                  </a:lnTo>
                  <a:lnTo>
                    <a:pt x="126111" y="20574"/>
                  </a:lnTo>
                  <a:lnTo>
                    <a:pt x="117347" y="17018"/>
                  </a:lnTo>
                  <a:lnTo>
                    <a:pt x="108966" y="14987"/>
                  </a:lnTo>
                  <a:lnTo>
                    <a:pt x="100330" y="14859"/>
                  </a:lnTo>
                  <a:lnTo>
                    <a:pt x="91694" y="17272"/>
                  </a:lnTo>
                  <a:lnTo>
                    <a:pt x="82677" y="21971"/>
                  </a:lnTo>
                  <a:lnTo>
                    <a:pt x="72897" y="29846"/>
                  </a:lnTo>
                  <a:lnTo>
                    <a:pt x="67436" y="34799"/>
                  </a:lnTo>
                  <a:lnTo>
                    <a:pt x="62230" y="40640"/>
                  </a:lnTo>
                  <a:lnTo>
                    <a:pt x="56514" y="47880"/>
                  </a:lnTo>
                  <a:lnTo>
                    <a:pt x="50419" y="55627"/>
                  </a:lnTo>
                  <a:lnTo>
                    <a:pt x="44195" y="64517"/>
                  </a:lnTo>
                  <a:lnTo>
                    <a:pt x="37338" y="74549"/>
                  </a:lnTo>
                  <a:lnTo>
                    <a:pt x="30225" y="85599"/>
                  </a:lnTo>
                  <a:lnTo>
                    <a:pt x="22859" y="97918"/>
                  </a:lnTo>
                  <a:lnTo>
                    <a:pt x="16255" y="97409"/>
                  </a:lnTo>
                  <a:lnTo>
                    <a:pt x="9270" y="96267"/>
                  </a:lnTo>
                  <a:lnTo>
                    <a:pt x="3555" y="93472"/>
                  </a:lnTo>
                  <a:lnTo>
                    <a:pt x="1524" y="91568"/>
                  </a:lnTo>
                  <a:lnTo>
                    <a:pt x="508"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8" name="Freeform 18"/>
            <p:cNvSpPr/>
            <p:nvPr/>
          </p:nvSpPr>
          <p:spPr>
            <a:xfrm>
              <a:off x="315720" y="213264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0" h="167260">
                  <a:moveTo>
                    <a:pt x="622045" y="148718"/>
                  </a:moveTo>
                  <a:lnTo>
                    <a:pt x="591184" y="153671"/>
                  </a:lnTo>
                  <a:lnTo>
                    <a:pt x="558673" y="157862"/>
                  </a:lnTo>
                  <a:lnTo>
                    <a:pt x="524890" y="161163"/>
                  </a:lnTo>
                  <a:lnTo>
                    <a:pt x="489966" y="163958"/>
                  </a:lnTo>
                  <a:lnTo>
                    <a:pt x="454152" y="165990"/>
                  </a:lnTo>
                  <a:lnTo>
                    <a:pt x="417830" y="167133"/>
                  </a:lnTo>
                  <a:lnTo>
                    <a:pt x="381507" y="167259"/>
                  </a:lnTo>
                  <a:lnTo>
                    <a:pt x="344677" y="167133"/>
                  </a:lnTo>
                  <a:lnTo>
                    <a:pt x="308609" y="165990"/>
                  </a:lnTo>
                  <a:lnTo>
                    <a:pt x="272669" y="163958"/>
                  </a:lnTo>
                  <a:lnTo>
                    <a:pt x="237744" y="161163"/>
                  </a:lnTo>
                  <a:lnTo>
                    <a:pt x="203834" y="157862"/>
                  </a:lnTo>
                  <a:lnTo>
                    <a:pt x="171323" y="153671"/>
                  </a:lnTo>
                  <a:lnTo>
                    <a:pt x="140842" y="148718"/>
                  </a:lnTo>
                  <a:lnTo>
                    <a:pt x="111506" y="142875"/>
                  </a:lnTo>
                  <a:lnTo>
                    <a:pt x="85598" y="136525"/>
                  </a:lnTo>
                  <a:lnTo>
                    <a:pt x="62737" y="129540"/>
                  </a:lnTo>
                  <a:lnTo>
                    <a:pt x="43560" y="122556"/>
                  </a:lnTo>
                  <a:lnTo>
                    <a:pt x="27812" y="115316"/>
                  </a:lnTo>
                  <a:lnTo>
                    <a:pt x="15494" y="107569"/>
                  </a:lnTo>
                  <a:lnTo>
                    <a:pt x="6985" y="99441"/>
                  </a:lnTo>
                  <a:lnTo>
                    <a:pt x="1523" y="91694"/>
                  </a:lnTo>
                  <a:lnTo>
                    <a:pt x="0" y="83693"/>
                  </a:lnTo>
                  <a:lnTo>
                    <a:pt x="1523" y="75565"/>
                  </a:lnTo>
                  <a:lnTo>
                    <a:pt x="6985" y="67818"/>
                  </a:lnTo>
                  <a:lnTo>
                    <a:pt x="15494" y="59818"/>
                  </a:lnTo>
                  <a:lnTo>
                    <a:pt x="27812" y="51943"/>
                  </a:lnTo>
                  <a:lnTo>
                    <a:pt x="43560" y="44450"/>
                  </a:lnTo>
                  <a:lnTo>
                    <a:pt x="62737" y="37465"/>
                  </a:lnTo>
                  <a:lnTo>
                    <a:pt x="85598" y="30862"/>
                  </a:lnTo>
                  <a:lnTo>
                    <a:pt x="111506" y="24512"/>
                  </a:lnTo>
                  <a:lnTo>
                    <a:pt x="140842" y="18543"/>
                  </a:lnTo>
                  <a:lnTo>
                    <a:pt x="171323" y="13590"/>
                  </a:lnTo>
                  <a:lnTo>
                    <a:pt x="203834" y="9399"/>
                  </a:lnTo>
                  <a:lnTo>
                    <a:pt x="237744" y="6096"/>
                  </a:lnTo>
                  <a:lnTo>
                    <a:pt x="272669" y="3303"/>
                  </a:lnTo>
                  <a:lnTo>
                    <a:pt x="308609" y="1397"/>
                  </a:lnTo>
                  <a:lnTo>
                    <a:pt x="344677" y="255"/>
                  </a:lnTo>
                  <a:lnTo>
                    <a:pt x="381507" y="0"/>
                  </a:lnTo>
                  <a:lnTo>
                    <a:pt x="417830" y="255"/>
                  </a:lnTo>
                  <a:lnTo>
                    <a:pt x="454152" y="1397"/>
                  </a:lnTo>
                  <a:lnTo>
                    <a:pt x="489966" y="3303"/>
                  </a:lnTo>
                  <a:lnTo>
                    <a:pt x="524890" y="6096"/>
                  </a:lnTo>
                  <a:lnTo>
                    <a:pt x="558673" y="9399"/>
                  </a:lnTo>
                  <a:lnTo>
                    <a:pt x="591184" y="13590"/>
                  </a:lnTo>
                  <a:lnTo>
                    <a:pt x="622045" y="18543"/>
                  </a:lnTo>
                  <a:lnTo>
                    <a:pt x="651001" y="24512"/>
                  </a:lnTo>
                  <a:lnTo>
                    <a:pt x="677290" y="30862"/>
                  </a:lnTo>
                  <a:lnTo>
                    <a:pt x="700151" y="37465"/>
                  </a:lnTo>
                  <a:lnTo>
                    <a:pt x="718947" y="44450"/>
                  </a:lnTo>
                  <a:lnTo>
                    <a:pt x="734822" y="51943"/>
                  </a:lnTo>
                  <a:lnTo>
                    <a:pt x="747140" y="59818"/>
                  </a:lnTo>
                  <a:lnTo>
                    <a:pt x="755776" y="67818"/>
                  </a:lnTo>
                  <a:lnTo>
                    <a:pt x="760984" y="75565"/>
                  </a:lnTo>
                  <a:lnTo>
                    <a:pt x="762889" y="83693"/>
                  </a:lnTo>
                  <a:lnTo>
                    <a:pt x="760984" y="91694"/>
                  </a:lnTo>
                  <a:lnTo>
                    <a:pt x="755776" y="99441"/>
                  </a:lnTo>
                  <a:lnTo>
                    <a:pt x="747140" y="107569"/>
                  </a:lnTo>
                  <a:lnTo>
                    <a:pt x="734822" y="115316"/>
                  </a:lnTo>
                  <a:lnTo>
                    <a:pt x="718947" y="122556"/>
                  </a:lnTo>
                  <a:lnTo>
                    <a:pt x="700151" y="129540"/>
                  </a:lnTo>
                  <a:lnTo>
                    <a:pt x="677290" y="136525"/>
                  </a:lnTo>
                  <a:lnTo>
                    <a:pt x="651001"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9" name="Freeform 19"/>
            <p:cNvSpPr/>
            <p:nvPr/>
          </p:nvSpPr>
          <p:spPr>
            <a:xfrm>
              <a:off x="1143000" y="259020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7" y="15239"/>
                  </a:lnTo>
                  <a:lnTo>
                    <a:pt x="-32517" y="10160"/>
                  </a:lnTo>
                  <a:lnTo>
                    <a:pt x="24130" y="5079"/>
                  </a:lnTo>
                  <a:lnTo>
                    <a:pt x="15239"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10" name="Freeform 20"/>
            <p:cNvSpPr/>
            <p:nvPr/>
          </p:nvSpPr>
          <p:spPr>
            <a:xfrm>
              <a:off x="1128960" y="322776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7" y="12700"/>
                  </a:lnTo>
                  <a:lnTo>
                    <a:pt x="-28706" y="11431"/>
                  </a:lnTo>
                  <a:lnTo>
                    <a:pt x="29209" y="11431"/>
                  </a:lnTo>
                  <a:lnTo>
                    <a:pt x="22859" y="7621"/>
                  </a:lnTo>
                  <a:lnTo>
                    <a:pt x="11430"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11" name="Freeform 21"/>
            <p:cNvSpPr/>
            <p:nvPr/>
          </p:nvSpPr>
          <p:spPr>
            <a:xfrm>
              <a:off x="577800" y="231588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12" name="Group 37"/>
          <p:cNvGrpSpPr/>
          <p:nvPr/>
        </p:nvGrpSpPr>
        <p:grpSpPr>
          <a:xfrm>
            <a:off x="1398600" y="2122560"/>
            <a:ext cx="1096920" cy="1344600"/>
            <a:chOff x="1398600" y="2122560"/>
            <a:chExt cx="1096920" cy="1344600"/>
          </a:xfrm>
        </p:grpSpPr>
        <p:sp>
          <p:nvSpPr>
            <p:cNvPr id="513" name="Freeform 23"/>
            <p:cNvSpPr/>
            <p:nvPr/>
          </p:nvSpPr>
          <p:spPr>
            <a:xfrm>
              <a:off x="1398600" y="222552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6" h="1242060">
                  <a:moveTo>
                    <a:pt x="809245" y="0"/>
                  </a:moveTo>
                  <a:lnTo>
                    <a:pt x="809245" y="1093851"/>
                  </a:lnTo>
                  <a:lnTo>
                    <a:pt x="808355" y="1105534"/>
                  </a:lnTo>
                  <a:lnTo>
                    <a:pt x="807593" y="1110741"/>
                  </a:lnTo>
                  <a:lnTo>
                    <a:pt x="805943" y="1116329"/>
                  </a:lnTo>
                  <a:lnTo>
                    <a:pt x="802640" y="1122171"/>
                  </a:lnTo>
                  <a:lnTo>
                    <a:pt x="798323" y="1128903"/>
                  </a:lnTo>
                  <a:lnTo>
                    <a:pt x="791973" y="1136396"/>
                  </a:lnTo>
                  <a:lnTo>
                    <a:pt x="783845" y="1145540"/>
                  </a:lnTo>
                  <a:lnTo>
                    <a:pt x="770764" y="1157223"/>
                  </a:lnTo>
                  <a:lnTo>
                    <a:pt x="755396" y="1168019"/>
                  </a:lnTo>
                  <a:lnTo>
                    <a:pt x="738252" y="1178052"/>
                  </a:lnTo>
                  <a:lnTo>
                    <a:pt x="719074" y="1187830"/>
                  </a:lnTo>
                  <a:lnTo>
                    <a:pt x="697865" y="1196466"/>
                  </a:lnTo>
                  <a:lnTo>
                    <a:pt x="675768" y="1204214"/>
                  </a:lnTo>
                  <a:lnTo>
                    <a:pt x="651383" y="1211453"/>
                  </a:lnTo>
                  <a:lnTo>
                    <a:pt x="625983" y="1217803"/>
                  </a:lnTo>
                  <a:lnTo>
                    <a:pt x="599568" y="1223390"/>
                  </a:lnTo>
                  <a:lnTo>
                    <a:pt x="572262" y="1228471"/>
                  </a:lnTo>
                  <a:lnTo>
                    <a:pt x="543815" y="1232534"/>
                  </a:lnTo>
                  <a:lnTo>
                    <a:pt x="514858" y="1235964"/>
                  </a:lnTo>
                  <a:lnTo>
                    <a:pt x="485395" y="1238377"/>
                  </a:lnTo>
                  <a:lnTo>
                    <a:pt x="455423" y="1240282"/>
                  </a:lnTo>
                  <a:lnTo>
                    <a:pt x="395098" y="1242059"/>
                  </a:lnTo>
                  <a:lnTo>
                    <a:pt x="335027" y="1240282"/>
                  </a:lnTo>
                  <a:lnTo>
                    <a:pt x="305436" y="1238377"/>
                  </a:lnTo>
                  <a:lnTo>
                    <a:pt x="276606" y="1235964"/>
                  </a:lnTo>
                  <a:lnTo>
                    <a:pt x="248158" y="1232534"/>
                  </a:lnTo>
                  <a:lnTo>
                    <a:pt x="220600" y="1228471"/>
                  </a:lnTo>
                  <a:lnTo>
                    <a:pt x="194056" y="1223390"/>
                  </a:lnTo>
                  <a:lnTo>
                    <a:pt x="168784" y="1217803"/>
                  </a:lnTo>
                  <a:lnTo>
                    <a:pt x="144653" y="1211453"/>
                  </a:lnTo>
                  <a:lnTo>
                    <a:pt x="122048" y="1204214"/>
                  </a:lnTo>
                  <a:lnTo>
                    <a:pt x="101092" y="1196466"/>
                  </a:lnTo>
                  <a:lnTo>
                    <a:pt x="81915" y="1187830"/>
                  </a:lnTo>
                  <a:lnTo>
                    <a:pt x="64770" y="1178052"/>
                  </a:lnTo>
                  <a:lnTo>
                    <a:pt x="49150" y="1168019"/>
                  </a:lnTo>
                  <a:lnTo>
                    <a:pt x="36069" y="1157223"/>
                  </a:lnTo>
                  <a:lnTo>
                    <a:pt x="25400" y="1145540"/>
                  </a:lnTo>
                  <a:lnTo>
                    <a:pt x="21083" y="1140840"/>
                  </a:lnTo>
                  <a:lnTo>
                    <a:pt x="17273" y="1136903"/>
                  </a:lnTo>
                  <a:lnTo>
                    <a:pt x="10669" y="1130172"/>
                  </a:lnTo>
                  <a:lnTo>
                    <a:pt x="6350" y="1124711"/>
                  </a:lnTo>
                  <a:lnTo>
                    <a:pt x="3303" y="1119759"/>
                  </a:lnTo>
                  <a:lnTo>
                    <a:pt x="1651"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4" name="Freeform 24"/>
            <p:cNvSpPr/>
            <p:nvPr/>
          </p:nvSpPr>
          <p:spPr>
            <a:xfrm>
              <a:off x="1399320" y="222588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71" y="1115060"/>
                  </a:lnTo>
                  <a:lnTo>
                    <a:pt x="3811" y="1118869"/>
                  </a:lnTo>
                  <a:lnTo>
                    <a:pt x="5080" y="1123949"/>
                  </a:lnTo>
                  <a:lnTo>
                    <a:pt x="10161" y="1130299"/>
                  </a:lnTo>
                  <a:lnTo>
                    <a:pt x="16511" y="1136649"/>
                  </a:lnTo>
                  <a:lnTo>
                    <a:pt x="20321" y="1140460"/>
                  </a:lnTo>
                  <a:lnTo>
                    <a:pt x="25400" y="1145540"/>
                  </a:lnTo>
                  <a:lnTo>
                    <a:pt x="35561" y="1155699"/>
                  </a:lnTo>
                  <a:lnTo>
                    <a:pt x="48261" y="1167130"/>
                  </a:lnTo>
                  <a:lnTo>
                    <a:pt x="64771" y="1178560"/>
                  </a:lnTo>
                  <a:lnTo>
                    <a:pt x="80011" y="1187449"/>
                  </a:lnTo>
                  <a:lnTo>
                    <a:pt x="100330" y="1196340"/>
                  </a:lnTo>
                  <a:lnTo>
                    <a:pt x="120650" y="1203960"/>
                  </a:lnTo>
                  <a:lnTo>
                    <a:pt x="143511" y="1211580"/>
                  </a:lnTo>
                  <a:lnTo>
                    <a:pt x="167641" y="1217930"/>
                  </a:lnTo>
                  <a:lnTo>
                    <a:pt x="193041" y="1221740"/>
                  </a:lnTo>
                  <a:lnTo>
                    <a:pt x="219711" y="1228090"/>
                  </a:lnTo>
                  <a:lnTo>
                    <a:pt x="247650" y="1231899"/>
                  </a:lnTo>
                  <a:lnTo>
                    <a:pt x="275590" y="1235710"/>
                  </a:lnTo>
                  <a:lnTo>
                    <a:pt x="304800" y="1238249"/>
                  </a:lnTo>
                  <a:lnTo>
                    <a:pt x="334011" y="1239519"/>
                  </a:lnTo>
                  <a:lnTo>
                    <a:pt x="394971" y="1240790"/>
                  </a:lnTo>
                  <a:lnTo>
                    <a:pt x="454661" y="1239519"/>
                  </a:lnTo>
                  <a:lnTo>
                    <a:pt x="485140" y="1238249"/>
                  </a:lnTo>
                  <a:lnTo>
                    <a:pt x="514350" y="1235710"/>
                  </a:lnTo>
                  <a:lnTo>
                    <a:pt x="542290" y="1231899"/>
                  </a:lnTo>
                  <a:lnTo>
                    <a:pt x="571500" y="1228090"/>
                  </a:lnTo>
                  <a:lnTo>
                    <a:pt x="599440" y="1221740"/>
                  </a:lnTo>
                  <a:lnTo>
                    <a:pt x="626111" y="1217930"/>
                  </a:lnTo>
                  <a:lnTo>
                    <a:pt x="651511" y="1211580"/>
                  </a:lnTo>
                  <a:lnTo>
                    <a:pt x="674371" y="1203960"/>
                  </a:lnTo>
                  <a:lnTo>
                    <a:pt x="697231" y="1196340"/>
                  </a:lnTo>
                  <a:lnTo>
                    <a:pt x="718821" y="1187449"/>
                  </a:lnTo>
                  <a:lnTo>
                    <a:pt x="737871" y="1178560"/>
                  </a:lnTo>
                  <a:lnTo>
                    <a:pt x="755650" y="1167130"/>
                  </a:lnTo>
                  <a:lnTo>
                    <a:pt x="770890" y="1155699"/>
                  </a:lnTo>
                  <a:lnTo>
                    <a:pt x="783590" y="1145540"/>
                  </a:lnTo>
                  <a:lnTo>
                    <a:pt x="792481" y="1136649"/>
                  </a:lnTo>
                  <a:lnTo>
                    <a:pt x="797561" y="1129030"/>
                  </a:lnTo>
                  <a:lnTo>
                    <a:pt x="802640" y="1122680"/>
                  </a:lnTo>
                  <a:lnTo>
                    <a:pt x="805181" y="1115060"/>
                  </a:lnTo>
                  <a:lnTo>
                    <a:pt x="806450" y="1109980"/>
                  </a:lnTo>
                  <a:lnTo>
                    <a:pt x="807721"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5" name="Freeform 25"/>
            <p:cNvSpPr/>
            <p:nvPr/>
          </p:nvSpPr>
          <p:spPr>
            <a:xfrm>
              <a:off x="1398600" y="212256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6" h="206122">
                  <a:moveTo>
                    <a:pt x="659893" y="183008"/>
                  </a:moveTo>
                  <a:lnTo>
                    <a:pt x="627380" y="189103"/>
                  </a:lnTo>
                  <a:lnTo>
                    <a:pt x="592709" y="194183"/>
                  </a:lnTo>
                  <a:lnTo>
                    <a:pt x="556896" y="198248"/>
                  </a:lnTo>
                  <a:lnTo>
                    <a:pt x="519812" y="201677"/>
                  </a:lnTo>
                  <a:lnTo>
                    <a:pt x="481839" y="204217"/>
                  </a:lnTo>
                  <a:lnTo>
                    <a:pt x="443358" y="205487"/>
                  </a:lnTo>
                  <a:lnTo>
                    <a:pt x="404623" y="206121"/>
                  </a:lnTo>
                  <a:lnTo>
                    <a:pt x="365887" y="205487"/>
                  </a:lnTo>
                  <a:lnTo>
                    <a:pt x="327406" y="204217"/>
                  </a:lnTo>
                  <a:lnTo>
                    <a:pt x="289433" y="201677"/>
                  </a:lnTo>
                  <a:lnTo>
                    <a:pt x="252603" y="198248"/>
                  </a:lnTo>
                  <a:lnTo>
                    <a:pt x="216536" y="194183"/>
                  </a:lnTo>
                  <a:lnTo>
                    <a:pt x="182119" y="189103"/>
                  </a:lnTo>
                  <a:lnTo>
                    <a:pt x="149353" y="183008"/>
                  </a:lnTo>
                  <a:lnTo>
                    <a:pt x="118745" y="175768"/>
                  </a:lnTo>
                  <a:lnTo>
                    <a:pt x="104267" y="171831"/>
                  </a:lnTo>
                  <a:lnTo>
                    <a:pt x="90933" y="168021"/>
                  </a:lnTo>
                  <a:lnTo>
                    <a:pt x="78359" y="164084"/>
                  </a:lnTo>
                  <a:lnTo>
                    <a:pt x="66930" y="159640"/>
                  </a:lnTo>
                  <a:lnTo>
                    <a:pt x="56261" y="155449"/>
                  </a:lnTo>
                  <a:lnTo>
                    <a:pt x="46483" y="150749"/>
                  </a:lnTo>
                  <a:lnTo>
                    <a:pt x="29845" y="141605"/>
                  </a:lnTo>
                  <a:lnTo>
                    <a:pt x="17019" y="132334"/>
                  </a:lnTo>
                  <a:lnTo>
                    <a:pt x="7748" y="122683"/>
                  </a:lnTo>
                  <a:lnTo>
                    <a:pt x="2033" y="112903"/>
                  </a:lnTo>
                  <a:lnTo>
                    <a:pt x="0" y="103252"/>
                  </a:lnTo>
                  <a:lnTo>
                    <a:pt x="2033" y="93218"/>
                  </a:lnTo>
                  <a:lnTo>
                    <a:pt x="7748" y="83186"/>
                  </a:lnTo>
                  <a:lnTo>
                    <a:pt x="17019" y="73787"/>
                  </a:lnTo>
                  <a:lnTo>
                    <a:pt x="29845" y="64262"/>
                  </a:lnTo>
                  <a:lnTo>
                    <a:pt x="46483" y="55118"/>
                  </a:lnTo>
                  <a:lnTo>
                    <a:pt x="56261" y="50674"/>
                  </a:lnTo>
                  <a:lnTo>
                    <a:pt x="66930" y="46483"/>
                  </a:lnTo>
                  <a:lnTo>
                    <a:pt x="78359" y="42292"/>
                  </a:lnTo>
                  <a:lnTo>
                    <a:pt x="90933" y="38100"/>
                  </a:lnTo>
                  <a:lnTo>
                    <a:pt x="104267" y="34037"/>
                  </a:lnTo>
                  <a:lnTo>
                    <a:pt x="118745" y="30099"/>
                  </a:lnTo>
                  <a:lnTo>
                    <a:pt x="149353" y="23115"/>
                  </a:lnTo>
                  <a:lnTo>
                    <a:pt x="182119" y="17018"/>
                  </a:lnTo>
                  <a:lnTo>
                    <a:pt x="216536" y="12065"/>
                  </a:lnTo>
                  <a:lnTo>
                    <a:pt x="252603" y="7621"/>
                  </a:lnTo>
                  <a:lnTo>
                    <a:pt x="289433" y="4192"/>
                  </a:lnTo>
                  <a:lnTo>
                    <a:pt x="327406" y="2033"/>
                  </a:lnTo>
                  <a:lnTo>
                    <a:pt x="365887" y="636"/>
                  </a:lnTo>
                  <a:lnTo>
                    <a:pt x="404623" y="0"/>
                  </a:lnTo>
                  <a:lnTo>
                    <a:pt x="443358" y="636"/>
                  </a:lnTo>
                  <a:lnTo>
                    <a:pt x="481839" y="2033"/>
                  </a:lnTo>
                  <a:lnTo>
                    <a:pt x="519812" y="4192"/>
                  </a:lnTo>
                  <a:lnTo>
                    <a:pt x="556896" y="7621"/>
                  </a:lnTo>
                  <a:lnTo>
                    <a:pt x="592709" y="12065"/>
                  </a:lnTo>
                  <a:lnTo>
                    <a:pt x="627380" y="17018"/>
                  </a:lnTo>
                  <a:lnTo>
                    <a:pt x="659893" y="23115"/>
                  </a:lnTo>
                  <a:lnTo>
                    <a:pt x="690499" y="30099"/>
                  </a:lnTo>
                  <a:lnTo>
                    <a:pt x="705231" y="34037"/>
                  </a:lnTo>
                  <a:lnTo>
                    <a:pt x="718312" y="38100"/>
                  </a:lnTo>
                  <a:lnTo>
                    <a:pt x="730886" y="42292"/>
                  </a:lnTo>
                  <a:lnTo>
                    <a:pt x="742570" y="46483"/>
                  </a:lnTo>
                  <a:lnTo>
                    <a:pt x="752983" y="50674"/>
                  </a:lnTo>
                  <a:lnTo>
                    <a:pt x="762762" y="55118"/>
                  </a:lnTo>
                  <a:lnTo>
                    <a:pt x="779399" y="64262"/>
                  </a:lnTo>
                  <a:lnTo>
                    <a:pt x="792480" y="73787"/>
                  </a:lnTo>
                  <a:lnTo>
                    <a:pt x="801878" y="83186"/>
                  </a:lnTo>
                  <a:lnTo>
                    <a:pt x="807212" y="93218"/>
                  </a:lnTo>
                  <a:lnTo>
                    <a:pt x="809245" y="103252"/>
                  </a:lnTo>
                  <a:lnTo>
                    <a:pt x="807212" y="112903"/>
                  </a:lnTo>
                  <a:lnTo>
                    <a:pt x="801878" y="122683"/>
                  </a:lnTo>
                  <a:lnTo>
                    <a:pt x="792480" y="132334"/>
                  </a:lnTo>
                  <a:lnTo>
                    <a:pt x="779399" y="141605"/>
                  </a:lnTo>
                  <a:lnTo>
                    <a:pt x="762762" y="150749"/>
                  </a:lnTo>
                  <a:lnTo>
                    <a:pt x="752983" y="155449"/>
                  </a:lnTo>
                  <a:lnTo>
                    <a:pt x="742570" y="159640"/>
                  </a:lnTo>
                  <a:lnTo>
                    <a:pt x="730886" y="164084"/>
                  </a:lnTo>
                  <a:lnTo>
                    <a:pt x="718312"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6" name="Freeform 26"/>
            <p:cNvSpPr/>
            <p:nvPr/>
          </p:nvSpPr>
          <p:spPr>
            <a:xfrm>
              <a:off x="1399320" y="212328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1" y="175261"/>
                  </a:moveTo>
                  <a:lnTo>
                    <a:pt x="704850" y="171450"/>
                  </a:lnTo>
                  <a:lnTo>
                    <a:pt x="716281" y="167640"/>
                  </a:lnTo>
                  <a:lnTo>
                    <a:pt x="730250" y="163831"/>
                  </a:lnTo>
                  <a:lnTo>
                    <a:pt x="741681" y="158750"/>
                  </a:lnTo>
                  <a:lnTo>
                    <a:pt x="751840" y="154940"/>
                  </a:lnTo>
                  <a:lnTo>
                    <a:pt x="762000" y="149861"/>
                  </a:lnTo>
                  <a:lnTo>
                    <a:pt x="778511" y="139700"/>
                  </a:lnTo>
                  <a:lnTo>
                    <a:pt x="792481" y="132081"/>
                  </a:lnTo>
                  <a:lnTo>
                    <a:pt x="801371" y="121921"/>
                  </a:lnTo>
                  <a:lnTo>
                    <a:pt x="806450" y="111761"/>
                  </a:lnTo>
                  <a:lnTo>
                    <a:pt x="808990" y="102871"/>
                  </a:lnTo>
                  <a:lnTo>
                    <a:pt x="806450" y="92711"/>
                  </a:lnTo>
                  <a:lnTo>
                    <a:pt x="801371" y="82550"/>
                  </a:lnTo>
                  <a:lnTo>
                    <a:pt x="792481" y="73661"/>
                  </a:lnTo>
                  <a:lnTo>
                    <a:pt x="778511" y="63500"/>
                  </a:lnTo>
                  <a:lnTo>
                    <a:pt x="762000" y="54611"/>
                  </a:lnTo>
                  <a:lnTo>
                    <a:pt x="751840" y="49531"/>
                  </a:lnTo>
                  <a:lnTo>
                    <a:pt x="741681" y="45721"/>
                  </a:lnTo>
                  <a:lnTo>
                    <a:pt x="730250" y="41911"/>
                  </a:lnTo>
                  <a:lnTo>
                    <a:pt x="716281" y="36831"/>
                  </a:lnTo>
                  <a:lnTo>
                    <a:pt x="704850" y="33021"/>
                  </a:lnTo>
                  <a:lnTo>
                    <a:pt x="689611" y="29211"/>
                  </a:lnTo>
                  <a:lnTo>
                    <a:pt x="657861" y="22861"/>
                  </a:lnTo>
                  <a:lnTo>
                    <a:pt x="626111" y="16511"/>
                  </a:lnTo>
                  <a:lnTo>
                    <a:pt x="593090" y="10161"/>
                  </a:lnTo>
                  <a:lnTo>
                    <a:pt x="556261" y="7621"/>
                  </a:lnTo>
                  <a:lnTo>
                    <a:pt x="519431" y="3811"/>
                  </a:lnTo>
                  <a:lnTo>
                    <a:pt x="481331" y="1271"/>
                  </a:lnTo>
                  <a:lnTo>
                    <a:pt x="441961" y="0"/>
                  </a:lnTo>
                  <a:lnTo>
                    <a:pt x="403861" y="0"/>
                  </a:lnTo>
                  <a:lnTo>
                    <a:pt x="365761" y="0"/>
                  </a:lnTo>
                  <a:lnTo>
                    <a:pt x="326390" y="1271"/>
                  </a:lnTo>
                  <a:lnTo>
                    <a:pt x="289561" y="3811"/>
                  </a:lnTo>
                  <a:lnTo>
                    <a:pt x="252731" y="7621"/>
                  </a:lnTo>
                  <a:lnTo>
                    <a:pt x="215900" y="10161"/>
                  </a:lnTo>
                  <a:lnTo>
                    <a:pt x="181611" y="16511"/>
                  </a:lnTo>
                  <a:lnTo>
                    <a:pt x="148591" y="22861"/>
                  </a:lnTo>
                  <a:lnTo>
                    <a:pt x="116841" y="29211"/>
                  </a:lnTo>
                  <a:lnTo>
                    <a:pt x="102871" y="33021"/>
                  </a:lnTo>
                  <a:lnTo>
                    <a:pt x="90171" y="36831"/>
                  </a:lnTo>
                  <a:lnTo>
                    <a:pt x="77471" y="41911"/>
                  </a:lnTo>
                  <a:lnTo>
                    <a:pt x="66041" y="45721"/>
                  </a:lnTo>
                  <a:lnTo>
                    <a:pt x="54611" y="49531"/>
                  </a:lnTo>
                  <a:lnTo>
                    <a:pt x="45721" y="54611"/>
                  </a:lnTo>
                  <a:lnTo>
                    <a:pt x="29211" y="63500"/>
                  </a:lnTo>
                  <a:lnTo>
                    <a:pt x="16511" y="73661"/>
                  </a:lnTo>
                  <a:lnTo>
                    <a:pt x="7621" y="82550"/>
                  </a:lnTo>
                  <a:lnTo>
                    <a:pt x="1271" y="92711"/>
                  </a:lnTo>
                  <a:lnTo>
                    <a:pt x="0" y="102871"/>
                  </a:lnTo>
                  <a:lnTo>
                    <a:pt x="1271" y="111761"/>
                  </a:lnTo>
                  <a:lnTo>
                    <a:pt x="7621" y="121921"/>
                  </a:lnTo>
                  <a:lnTo>
                    <a:pt x="16511" y="132081"/>
                  </a:lnTo>
                  <a:lnTo>
                    <a:pt x="29211" y="139700"/>
                  </a:lnTo>
                  <a:lnTo>
                    <a:pt x="45721" y="149861"/>
                  </a:lnTo>
                  <a:lnTo>
                    <a:pt x="54611" y="154940"/>
                  </a:lnTo>
                  <a:lnTo>
                    <a:pt x="66041" y="158750"/>
                  </a:lnTo>
                  <a:lnTo>
                    <a:pt x="77471" y="163831"/>
                  </a:lnTo>
                  <a:lnTo>
                    <a:pt x="90171" y="167640"/>
                  </a:lnTo>
                  <a:lnTo>
                    <a:pt x="102871" y="171450"/>
                  </a:lnTo>
                  <a:lnTo>
                    <a:pt x="116841" y="175261"/>
                  </a:lnTo>
                  <a:lnTo>
                    <a:pt x="148591" y="181611"/>
                  </a:lnTo>
                  <a:lnTo>
                    <a:pt x="181611" y="187961"/>
                  </a:lnTo>
                  <a:lnTo>
                    <a:pt x="215900" y="193040"/>
                  </a:lnTo>
                  <a:lnTo>
                    <a:pt x="252731" y="198121"/>
                  </a:lnTo>
                  <a:lnTo>
                    <a:pt x="289561" y="200661"/>
                  </a:lnTo>
                  <a:lnTo>
                    <a:pt x="326390" y="204471"/>
                  </a:lnTo>
                  <a:lnTo>
                    <a:pt x="365761" y="204471"/>
                  </a:lnTo>
                  <a:lnTo>
                    <a:pt x="403861" y="205740"/>
                  </a:lnTo>
                  <a:lnTo>
                    <a:pt x="441961" y="204471"/>
                  </a:lnTo>
                  <a:lnTo>
                    <a:pt x="481331" y="204471"/>
                  </a:lnTo>
                  <a:lnTo>
                    <a:pt x="519431" y="200661"/>
                  </a:lnTo>
                  <a:lnTo>
                    <a:pt x="556261" y="198121"/>
                  </a:lnTo>
                  <a:lnTo>
                    <a:pt x="593090" y="193040"/>
                  </a:lnTo>
                  <a:lnTo>
                    <a:pt x="626111" y="187961"/>
                  </a:lnTo>
                  <a:lnTo>
                    <a:pt x="657861"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Freeform 27"/>
            <p:cNvSpPr/>
            <p:nvPr/>
          </p:nvSpPr>
          <p:spPr>
            <a:xfrm>
              <a:off x="1426320" y="229644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7">
                  <a:moveTo>
                    <a:pt x="26797" y="11303"/>
                  </a:moveTo>
                  <a:lnTo>
                    <a:pt x="45975" y="17525"/>
                  </a:lnTo>
                  <a:lnTo>
                    <a:pt x="65914" y="23368"/>
                  </a:lnTo>
                  <a:lnTo>
                    <a:pt x="87122" y="28828"/>
                  </a:lnTo>
                  <a:lnTo>
                    <a:pt x="109602" y="34162"/>
                  </a:lnTo>
                  <a:lnTo>
                    <a:pt x="132716" y="38607"/>
                  </a:lnTo>
                  <a:lnTo>
                    <a:pt x="157100" y="42799"/>
                  </a:lnTo>
                  <a:lnTo>
                    <a:pt x="181992" y="46609"/>
                  </a:lnTo>
                  <a:lnTo>
                    <a:pt x="207519" y="50037"/>
                  </a:lnTo>
                  <a:lnTo>
                    <a:pt x="233807" y="52578"/>
                  </a:lnTo>
                  <a:lnTo>
                    <a:pt x="287529" y="57277"/>
                  </a:lnTo>
                  <a:lnTo>
                    <a:pt x="342392" y="60071"/>
                  </a:lnTo>
                  <a:lnTo>
                    <a:pt x="397383" y="60832"/>
                  </a:lnTo>
                  <a:lnTo>
                    <a:pt x="452120" y="60071"/>
                  </a:lnTo>
                  <a:lnTo>
                    <a:pt x="505333" y="57022"/>
                  </a:lnTo>
                  <a:lnTo>
                    <a:pt x="531369" y="55118"/>
                  </a:lnTo>
                  <a:lnTo>
                    <a:pt x="556769" y="52578"/>
                  </a:lnTo>
                  <a:lnTo>
                    <a:pt x="581279" y="49403"/>
                  </a:lnTo>
                  <a:lnTo>
                    <a:pt x="605410" y="45847"/>
                  </a:lnTo>
                  <a:lnTo>
                    <a:pt x="628270" y="41909"/>
                  </a:lnTo>
                  <a:lnTo>
                    <a:pt x="650113" y="37591"/>
                  </a:lnTo>
                  <a:lnTo>
                    <a:pt x="670814" y="32512"/>
                  </a:lnTo>
                  <a:lnTo>
                    <a:pt x="690500" y="26924"/>
                  </a:lnTo>
                  <a:lnTo>
                    <a:pt x="708788" y="21209"/>
                  </a:lnTo>
                  <a:lnTo>
                    <a:pt x="725679" y="14731"/>
                  </a:lnTo>
                  <a:lnTo>
                    <a:pt x="741300" y="7493"/>
                  </a:lnTo>
                  <a:lnTo>
                    <a:pt x="755270" y="0"/>
                  </a:lnTo>
                  <a:lnTo>
                    <a:pt x="755270" y="1016126"/>
                  </a:lnTo>
                  <a:lnTo>
                    <a:pt x="737108" y="1030732"/>
                  </a:lnTo>
                  <a:lnTo>
                    <a:pt x="717804" y="1044447"/>
                  </a:lnTo>
                  <a:lnTo>
                    <a:pt x="697357" y="1057147"/>
                  </a:lnTo>
                  <a:lnTo>
                    <a:pt x="675767" y="1068577"/>
                  </a:lnTo>
                  <a:lnTo>
                    <a:pt x="653416" y="1078864"/>
                  </a:lnTo>
                  <a:lnTo>
                    <a:pt x="629920" y="1088263"/>
                  </a:lnTo>
                  <a:lnTo>
                    <a:pt x="605410" y="1096645"/>
                  </a:lnTo>
                  <a:lnTo>
                    <a:pt x="580517" y="1103630"/>
                  </a:lnTo>
                  <a:lnTo>
                    <a:pt x="554610" y="1109980"/>
                  </a:lnTo>
                  <a:lnTo>
                    <a:pt x="528320" y="1115059"/>
                  </a:lnTo>
                  <a:lnTo>
                    <a:pt x="501523" y="1119505"/>
                  </a:lnTo>
                  <a:lnTo>
                    <a:pt x="474345" y="1122807"/>
                  </a:lnTo>
                  <a:lnTo>
                    <a:pt x="447041" y="1125346"/>
                  </a:lnTo>
                  <a:lnTo>
                    <a:pt x="419482" y="1126744"/>
                  </a:lnTo>
                  <a:lnTo>
                    <a:pt x="364236" y="1127506"/>
                  </a:lnTo>
                  <a:lnTo>
                    <a:pt x="309373" y="1124965"/>
                  </a:lnTo>
                  <a:lnTo>
                    <a:pt x="282448" y="1122171"/>
                  </a:lnTo>
                  <a:lnTo>
                    <a:pt x="255651" y="1119251"/>
                  </a:lnTo>
                  <a:lnTo>
                    <a:pt x="229363" y="1115059"/>
                  </a:lnTo>
                  <a:lnTo>
                    <a:pt x="204089" y="1110233"/>
                  </a:lnTo>
                  <a:lnTo>
                    <a:pt x="178944" y="1105026"/>
                  </a:lnTo>
                  <a:lnTo>
                    <a:pt x="154814" y="1098931"/>
                  </a:lnTo>
                  <a:lnTo>
                    <a:pt x="131700" y="1092200"/>
                  </a:lnTo>
                  <a:lnTo>
                    <a:pt x="109220" y="1084960"/>
                  </a:lnTo>
                  <a:lnTo>
                    <a:pt x="87758" y="1077214"/>
                  </a:lnTo>
                  <a:lnTo>
                    <a:pt x="67819" y="1068577"/>
                  </a:lnTo>
                  <a:lnTo>
                    <a:pt x="48642" y="1059688"/>
                  </a:lnTo>
                  <a:lnTo>
                    <a:pt x="31242" y="1050163"/>
                  </a:lnTo>
                  <a:lnTo>
                    <a:pt x="14859"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8" name="Freeform 28"/>
            <p:cNvSpPr/>
            <p:nvPr/>
          </p:nvSpPr>
          <p:spPr>
            <a:xfrm>
              <a:off x="2115720" y="254700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2">
                  <a:moveTo>
                    <a:pt x="10415" y="65405"/>
                  </a:moveTo>
                  <a:lnTo>
                    <a:pt x="16637" y="54990"/>
                  </a:lnTo>
                  <a:lnTo>
                    <a:pt x="25147" y="44196"/>
                  </a:lnTo>
                  <a:lnTo>
                    <a:pt x="34672" y="34290"/>
                  </a:lnTo>
                  <a:lnTo>
                    <a:pt x="45340" y="24511"/>
                  </a:lnTo>
                  <a:lnTo>
                    <a:pt x="57024" y="15875"/>
                  </a:lnTo>
                  <a:lnTo>
                    <a:pt x="68834" y="8636"/>
                  </a:lnTo>
                  <a:lnTo>
                    <a:pt x="80772" y="3302"/>
                  </a:lnTo>
                  <a:lnTo>
                    <a:pt x="92584" y="0"/>
                  </a:lnTo>
                  <a:lnTo>
                    <a:pt x="105918" y="508"/>
                  </a:lnTo>
                  <a:lnTo>
                    <a:pt x="120397" y="1143"/>
                  </a:lnTo>
                  <a:lnTo>
                    <a:pt x="151258" y="3683"/>
                  </a:lnTo>
                  <a:lnTo>
                    <a:pt x="182627" y="8000"/>
                  </a:lnTo>
                  <a:lnTo>
                    <a:pt x="214631" y="14478"/>
                  </a:lnTo>
                  <a:lnTo>
                    <a:pt x="230125" y="18668"/>
                  </a:lnTo>
                  <a:lnTo>
                    <a:pt x="244856" y="23621"/>
                  </a:lnTo>
                  <a:lnTo>
                    <a:pt x="259334" y="29209"/>
                  </a:lnTo>
                  <a:lnTo>
                    <a:pt x="272797" y="35687"/>
                  </a:lnTo>
                  <a:lnTo>
                    <a:pt x="285243" y="42799"/>
                  </a:lnTo>
                  <a:lnTo>
                    <a:pt x="297053" y="50800"/>
                  </a:lnTo>
                  <a:lnTo>
                    <a:pt x="307087" y="60071"/>
                  </a:lnTo>
                  <a:lnTo>
                    <a:pt x="315850" y="70103"/>
                  </a:lnTo>
                  <a:lnTo>
                    <a:pt x="323469" y="84581"/>
                  </a:lnTo>
                  <a:lnTo>
                    <a:pt x="330581" y="100965"/>
                  </a:lnTo>
                  <a:lnTo>
                    <a:pt x="337440" y="118744"/>
                  </a:lnTo>
                  <a:lnTo>
                    <a:pt x="343790" y="137921"/>
                  </a:lnTo>
                  <a:lnTo>
                    <a:pt x="349505" y="158496"/>
                  </a:lnTo>
                  <a:lnTo>
                    <a:pt x="354584" y="180212"/>
                  </a:lnTo>
                  <a:lnTo>
                    <a:pt x="359537" y="203200"/>
                  </a:lnTo>
                  <a:lnTo>
                    <a:pt x="363856" y="226821"/>
                  </a:lnTo>
                  <a:lnTo>
                    <a:pt x="367665" y="251587"/>
                  </a:lnTo>
                  <a:lnTo>
                    <a:pt x="371222" y="276859"/>
                  </a:lnTo>
                  <a:lnTo>
                    <a:pt x="376428" y="329184"/>
                  </a:lnTo>
                  <a:lnTo>
                    <a:pt x="379222" y="382524"/>
                  </a:lnTo>
                  <a:lnTo>
                    <a:pt x="379984" y="436244"/>
                  </a:lnTo>
                  <a:lnTo>
                    <a:pt x="378460" y="489331"/>
                  </a:lnTo>
                  <a:lnTo>
                    <a:pt x="376809" y="515112"/>
                  </a:lnTo>
                  <a:lnTo>
                    <a:pt x="374269" y="540384"/>
                  </a:lnTo>
                  <a:lnTo>
                    <a:pt x="371222" y="565150"/>
                  </a:lnTo>
                  <a:lnTo>
                    <a:pt x="367665" y="589153"/>
                  </a:lnTo>
                  <a:lnTo>
                    <a:pt x="363347" y="612140"/>
                  </a:lnTo>
                  <a:lnTo>
                    <a:pt x="358522" y="633856"/>
                  </a:lnTo>
                  <a:lnTo>
                    <a:pt x="352680" y="654684"/>
                  </a:lnTo>
                  <a:lnTo>
                    <a:pt x="346456" y="673862"/>
                  </a:lnTo>
                  <a:lnTo>
                    <a:pt x="339344" y="692277"/>
                  </a:lnTo>
                  <a:lnTo>
                    <a:pt x="331725" y="708278"/>
                  </a:lnTo>
                  <a:lnTo>
                    <a:pt x="323215" y="723011"/>
                  </a:lnTo>
                  <a:lnTo>
                    <a:pt x="313944" y="736472"/>
                  </a:lnTo>
                  <a:lnTo>
                    <a:pt x="304165" y="747268"/>
                  </a:lnTo>
                  <a:lnTo>
                    <a:pt x="293116" y="756157"/>
                  </a:lnTo>
                  <a:lnTo>
                    <a:pt x="285750" y="758316"/>
                  </a:lnTo>
                  <a:lnTo>
                    <a:pt x="277622" y="760349"/>
                  </a:lnTo>
                  <a:lnTo>
                    <a:pt x="259843" y="763143"/>
                  </a:lnTo>
                  <a:lnTo>
                    <a:pt x="239903" y="764794"/>
                  </a:lnTo>
                  <a:lnTo>
                    <a:pt x="218694" y="765301"/>
                  </a:lnTo>
                  <a:lnTo>
                    <a:pt x="196088" y="764794"/>
                  </a:lnTo>
                  <a:lnTo>
                    <a:pt x="173356" y="763143"/>
                  </a:lnTo>
                  <a:lnTo>
                    <a:pt x="150115" y="760857"/>
                  </a:lnTo>
                  <a:lnTo>
                    <a:pt x="127509" y="758189"/>
                  </a:lnTo>
                  <a:lnTo>
                    <a:pt x="105665" y="754507"/>
                  </a:lnTo>
                  <a:lnTo>
                    <a:pt x="85218" y="750315"/>
                  </a:lnTo>
                  <a:lnTo>
                    <a:pt x="66549" y="745489"/>
                  </a:lnTo>
                  <a:lnTo>
                    <a:pt x="50293" y="741171"/>
                  </a:lnTo>
                  <a:lnTo>
                    <a:pt x="36577" y="736091"/>
                  </a:lnTo>
                  <a:lnTo>
                    <a:pt x="26162" y="730884"/>
                  </a:lnTo>
                  <a:lnTo>
                    <a:pt x="19178" y="725805"/>
                  </a:lnTo>
                  <a:lnTo>
                    <a:pt x="17146" y="723011"/>
                  </a:lnTo>
                  <a:lnTo>
                    <a:pt x="16384" y="720597"/>
                  </a:lnTo>
                  <a:lnTo>
                    <a:pt x="16384" y="669416"/>
                  </a:lnTo>
                  <a:lnTo>
                    <a:pt x="15368" y="660272"/>
                  </a:lnTo>
                  <a:lnTo>
                    <a:pt x="14733" y="651637"/>
                  </a:lnTo>
                  <a:lnTo>
                    <a:pt x="14733" y="643890"/>
                  </a:lnTo>
                  <a:lnTo>
                    <a:pt x="15622" y="636650"/>
                  </a:lnTo>
                  <a:lnTo>
                    <a:pt x="17146" y="629919"/>
                  </a:lnTo>
                  <a:lnTo>
                    <a:pt x="19178" y="623824"/>
                  </a:lnTo>
                  <a:lnTo>
                    <a:pt x="21844" y="618236"/>
                  </a:lnTo>
                  <a:lnTo>
                    <a:pt x="24893" y="613283"/>
                  </a:lnTo>
                  <a:lnTo>
                    <a:pt x="28703" y="608837"/>
                  </a:lnTo>
                  <a:lnTo>
                    <a:pt x="32766" y="604900"/>
                  </a:lnTo>
                  <a:lnTo>
                    <a:pt x="42672" y="598805"/>
                  </a:lnTo>
                  <a:lnTo>
                    <a:pt x="54103" y="594613"/>
                  </a:lnTo>
                  <a:lnTo>
                    <a:pt x="67184" y="592074"/>
                  </a:lnTo>
                  <a:lnTo>
                    <a:pt x="73787" y="592709"/>
                  </a:lnTo>
                  <a:lnTo>
                    <a:pt x="80010" y="594106"/>
                  </a:lnTo>
                  <a:lnTo>
                    <a:pt x="85472" y="596646"/>
                  </a:lnTo>
                  <a:lnTo>
                    <a:pt x="90933" y="599947"/>
                  </a:lnTo>
                  <a:lnTo>
                    <a:pt x="100458" y="608584"/>
                  </a:lnTo>
                  <a:lnTo>
                    <a:pt x="109728" y="618871"/>
                  </a:lnTo>
                  <a:lnTo>
                    <a:pt x="119634" y="629665"/>
                  </a:lnTo>
                  <a:lnTo>
                    <a:pt x="130175" y="640206"/>
                  </a:lnTo>
                  <a:lnTo>
                    <a:pt x="136525" y="644652"/>
                  </a:lnTo>
                  <a:lnTo>
                    <a:pt x="143130" y="649096"/>
                  </a:lnTo>
                  <a:lnTo>
                    <a:pt x="150496" y="652780"/>
                  </a:lnTo>
                  <a:lnTo>
                    <a:pt x="158624" y="655574"/>
                  </a:lnTo>
                  <a:lnTo>
                    <a:pt x="167387" y="657478"/>
                  </a:lnTo>
                  <a:lnTo>
                    <a:pt x="176403" y="658875"/>
                  </a:lnTo>
                  <a:lnTo>
                    <a:pt x="194946" y="658875"/>
                  </a:lnTo>
                  <a:lnTo>
                    <a:pt x="213487" y="656336"/>
                  </a:lnTo>
                  <a:lnTo>
                    <a:pt x="231522" y="651002"/>
                  </a:lnTo>
                  <a:lnTo>
                    <a:pt x="239903" y="647446"/>
                  </a:lnTo>
                  <a:lnTo>
                    <a:pt x="247650" y="643509"/>
                  </a:lnTo>
                  <a:lnTo>
                    <a:pt x="255016" y="638809"/>
                  </a:lnTo>
                  <a:lnTo>
                    <a:pt x="261875" y="633856"/>
                  </a:lnTo>
                  <a:lnTo>
                    <a:pt x="267843" y="628522"/>
                  </a:lnTo>
                  <a:lnTo>
                    <a:pt x="272797" y="622681"/>
                  </a:lnTo>
                  <a:lnTo>
                    <a:pt x="276860" y="616331"/>
                  </a:lnTo>
                  <a:lnTo>
                    <a:pt x="280162" y="609600"/>
                  </a:lnTo>
                  <a:lnTo>
                    <a:pt x="284227" y="597153"/>
                  </a:lnTo>
                  <a:lnTo>
                    <a:pt x="287783" y="582675"/>
                  </a:lnTo>
                  <a:lnTo>
                    <a:pt x="290703" y="567055"/>
                  </a:lnTo>
                  <a:lnTo>
                    <a:pt x="293116" y="550418"/>
                  </a:lnTo>
                  <a:lnTo>
                    <a:pt x="294894" y="532891"/>
                  </a:lnTo>
                  <a:lnTo>
                    <a:pt x="295910" y="514603"/>
                  </a:lnTo>
                  <a:lnTo>
                    <a:pt x="296546" y="495427"/>
                  </a:lnTo>
                  <a:lnTo>
                    <a:pt x="296546" y="475361"/>
                  </a:lnTo>
                  <a:lnTo>
                    <a:pt x="295910" y="454533"/>
                  </a:lnTo>
                  <a:lnTo>
                    <a:pt x="294513" y="433705"/>
                  </a:lnTo>
                  <a:lnTo>
                    <a:pt x="290196" y="391159"/>
                  </a:lnTo>
                  <a:lnTo>
                    <a:pt x="283337" y="348106"/>
                  </a:lnTo>
                  <a:lnTo>
                    <a:pt x="274447" y="305815"/>
                  </a:lnTo>
                  <a:lnTo>
                    <a:pt x="268859" y="285241"/>
                  </a:lnTo>
                  <a:lnTo>
                    <a:pt x="262890" y="264921"/>
                  </a:lnTo>
                  <a:lnTo>
                    <a:pt x="256287" y="245490"/>
                  </a:lnTo>
                  <a:lnTo>
                    <a:pt x="248921" y="226821"/>
                  </a:lnTo>
                  <a:lnTo>
                    <a:pt x="241300" y="208787"/>
                  </a:lnTo>
                  <a:lnTo>
                    <a:pt x="232918" y="191896"/>
                  </a:lnTo>
                  <a:lnTo>
                    <a:pt x="224156" y="176021"/>
                  </a:lnTo>
                  <a:lnTo>
                    <a:pt x="214631" y="161797"/>
                  </a:lnTo>
                  <a:lnTo>
                    <a:pt x="204216" y="148462"/>
                  </a:lnTo>
                  <a:lnTo>
                    <a:pt x="193803" y="136778"/>
                  </a:lnTo>
                  <a:lnTo>
                    <a:pt x="182372" y="126491"/>
                  </a:lnTo>
                  <a:lnTo>
                    <a:pt x="170562" y="117856"/>
                  </a:lnTo>
                  <a:lnTo>
                    <a:pt x="158115" y="111252"/>
                  </a:lnTo>
                  <a:lnTo>
                    <a:pt x="145288" y="106425"/>
                  </a:lnTo>
                  <a:lnTo>
                    <a:pt x="131827" y="103759"/>
                  </a:lnTo>
                  <a:lnTo>
                    <a:pt x="117603" y="103124"/>
                  </a:lnTo>
                  <a:lnTo>
                    <a:pt x="110237" y="102108"/>
                  </a:lnTo>
                  <a:lnTo>
                    <a:pt x="103759" y="103124"/>
                  </a:lnTo>
                  <a:lnTo>
                    <a:pt x="97537" y="105918"/>
                  </a:lnTo>
                  <a:lnTo>
                    <a:pt x="91694" y="110109"/>
                  </a:lnTo>
                  <a:lnTo>
                    <a:pt x="86360" y="115950"/>
                  </a:lnTo>
                  <a:lnTo>
                    <a:pt x="81153" y="122681"/>
                  </a:lnTo>
                  <a:lnTo>
                    <a:pt x="70740" y="137413"/>
                  </a:lnTo>
                  <a:lnTo>
                    <a:pt x="60072" y="152653"/>
                  </a:lnTo>
                  <a:lnTo>
                    <a:pt x="54103" y="160146"/>
                  </a:lnTo>
                  <a:lnTo>
                    <a:pt x="48006" y="166750"/>
                  </a:lnTo>
                  <a:lnTo>
                    <a:pt x="40894" y="172084"/>
                  </a:lnTo>
                  <a:lnTo>
                    <a:pt x="33528" y="176530"/>
                  </a:lnTo>
                  <a:lnTo>
                    <a:pt x="25400" y="179324"/>
                  </a:lnTo>
                  <a:lnTo>
                    <a:pt x="16384" y="180212"/>
                  </a:lnTo>
                  <a:lnTo>
                    <a:pt x="10668" y="165988"/>
                  </a:lnTo>
                  <a:lnTo>
                    <a:pt x="5715" y="151765"/>
                  </a:lnTo>
                  <a:lnTo>
                    <a:pt x="2413" y="137413"/>
                  </a:lnTo>
                  <a:lnTo>
                    <a:pt x="255" y="122681"/>
                  </a:lnTo>
                  <a:lnTo>
                    <a:pt x="0" y="107822"/>
                  </a:lnTo>
                  <a:lnTo>
                    <a:pt x="1652" y="93471"/>
                  </a:lnTo>
                  <a:lnTo>
                    <a:pt x="4953"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9" name="Freeform 29"/>
            <p:cNvSpPr/>
            <p:nvPr/>
          </p:nvSpPr>
          <p:spPr>
            <a:xfrm>
              <a:off x="2115720" y="254592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19"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69" y="20320"/>
                  </a:lnTo>
                  <a:lnTo>
                    <a:pt x="245109" y="24129"/>
                  </a:lnTo>
                  <a:lnTo>
                    <a:pt x="260350" y="29210"/>
                  </a:lnTo>
                  <a:lnTo>
                    <a:pt x="273050" y="36829"/>
                  </a:lnTo>
                  <a:lnTo>
                    <a:pt x="285750" y="43179"/>
                  </a:lnTo>
                  <a:lnTo>
                    <a:pt x="297180" y="52070"/>
                  </a:lnTo>
                  <a:lnTo>
                    <a:pt x="307340" y="60960"/>
                  </a:lnTo>
                  <a:lnTo>
                    <a:pt x="316230" y="69850"/>
                  </a:lnTo>
                  <a:lnTo>
                    <a:pt x="323850" y="85089"/>
                  </a:lnTo>
                  <a:lnTo>
                    <a:pt x="330200" y="101600"/>
                  </a:lnTo>
                  <a:lnTo>
                    <a:pt x="337819" y="119379"/>
                  </a:lnTo>
                  <a:lnTo>
                    <a:pt x="342900" y="139700"/>
                  </a:lnTo>
                  <a:lnTo>
                    <a:pt x="349250" y="160020"/>
                  </a:lnTo>
                  <a:lnTo>
                    <a:pt x="354330" y="180339"/>
                  </a:lnTo>
                  <a:lnTo>
                    <a:pt x="359409" y="204470"/>
                  </a:lnTo>
                  <a:lnTo>
                    <a:pt x="364490" y="228600"/>
                  </a:lnTo>
                  <a:lnTo>
                    <a:pt x="368300" y="251460"/>
                  </a:lnTo>
                  <a:lnTo>
                    <a:pt x="372109" y="278129"/>
                  </a:lnTo>
                  <a:lnTo>
                    <a:pt x="375919" y="330200"/>
                  </a:lnTo>
                  <a:lnTo>
                    <a:pt x="378459" y="382270"/>
                  </a:lnTo>
                  <a:lnTo>
                    <a:pt x="379730" y="436879"/>
                  </a:lnTo>
                  <a:lnTo>
                    <a:pt x="378459" y="488950"/>
                  </a:lnTo>
                  <a:lnTo>
                    <a:pt x="375919" y="516889"/>
                  </a:lnTo>
                  <a:lnTo>
                    <a:pt x="374650" y="542289"/>
                  </a:lnTo>
                  <a:lnTo>
                    <a:pt x="372109" y="566420"/>
                  </a:lnTo>
                  <a:lnTo>
                    <a:pt x="368300" y="589279"/>
                  </a:lnTo>
                  <a:lnTo>
                    <a:pt x="364490" y="612139"/>
                  </a:lnTo>
                  <a:lnTo>
                    <a:pt x="358140" y="635000"/>
                  </a:lnTo>
                  <a:lnTo>
                    <a:pt x="353059" y="655320"/>
                  </a:lnTo>
                  <a:lnTo>
                    <a:pt x="346709" y="674370"/>
                  </a:lnTo>
                  <a:lnTo>
                    <a:pt x="339090" y="692150"/>
                  </a:lnTo>
                  <a:lnTo>
                    <a:pt x="332740" y="709929"/>
                  </a:lnTo>
                  <a:lnTo>
                    <a:pt x="323850" y="723900"/>
                  </a:lnTo>
                  <a:lnTo>
                    <a:pt x="313690" y="736600"/>
                  </a:lnTo>
                  <a:lnTo>
                    <a:pt x="303530" y="748029"/>
                  </a:lnTo>
                  <a:lnTo>
                    <a:pt x="292100" y="756920"/>
                  </a:lnTo>
                  <a:lnTo>
                    <a:pt x="285750" y="758190"/>
                  </a:lnTo>
                  <a:lnTo>
                    <a:pt x="278130" y="762000"/>
                  </a:lnTo>
                  <a:lnTo>
                    <a:pt x="260350" y="764540"/>
                  </a:lnTo>
                  <a:lnTo>
                    <a:pt x="240030" y="765809"/>
                  </a:lnTo>
                  <a:lnTo>
                    <a:pt x="218440" y="765809"/>
                  </a:lnTo>
                  <a:lnTo>
                    <a:pt x="195580" y="765809"/>
                  </a:lnTo>
                  <a:lnTo>
                    <a:pt x="172719" y="764540"/>
                  </a:lnTo>
                  <a:lnTo>
                    <a:pt x="149859" y="762000"/>
                  </a:lnTo>
                  <a:lnTo>
                    <a:pt x="127000" y="758190"/>
                  </a:lnTo>
                  <a:lnTo>
                    <a:pt x="105409" y="755650"/>
                  </a:lnTo>
                  <a:lnTo>
                    <a:pt x="85090" y="751840"/>
                  </a:lnTo>
                  <a:lnTo>
                    <a:pt x="67309" y="746759"/>
                  </a:lnTo>
                  <a:lnTo>
                    <a:pt x="50800" y="742950"/>
                  </a:lnTo>
                  <a:lnTo>
                    <a:pt x="35559" y="736600"/>
                  </a:lnTo>
                  <a:lnTo>
                    <a:pt x="25400" y="732790"/>
                  </a:lnTo>
                  <a:lnTo>
                    <a:pt x="19050" y="726440"/>
                  </a:lnTo>
                  <a:lnTo>
                    <a:pt x="17780" y="723900"/>
                  </a:lnTo>
                  <a:lnTo>
                    <a:pt x="16509" y="721359"/>
                  </a:lnTo>
                  <a:lnTo>
                    <a:pt x="16509" y="670560"/>
                  </a:lnTo>
                  <a:lnTo>
                    <a:pt x="15240" y="661670"/>
                  </a:lnTo>
                  <a:lnTo>
                    <a:pt x="13969" y="651510"/>
                  </a:lnTo>
                  <a:lnTo>
                    <a:pt x="13969" y="645160"/>
                  </a:lnTo>
                  <a:lnTo>
                    <a:pt x="15240" y="637539"/>
                  </a:lnTo>
                  <a:lnTo>
                    <a:pt x="17780" y="631189"/>
                  </a:lnTo>
                  <a:lnTo>
                    <a:pt x="19050" y="624839"/>
                  </a:lnTo>
                  <a:lnTo>
                    <a:pt x="21590" y="618489"/>
                  </a:lnTo>
                  <a:lnTo>
                    <a:pt x="25400" y="614679"/>
                  </a:lnTo>
                  <a:lnTo>
                    <a:pt x="29209" y="609600"/>
                  </a:lnTo>
                  <a:lnTo>
                    <a:pt x="31750" y="607060"/>
                  </a:lnTo>
                  <a:lnTo>
                    <a:pt x="43180" y="599439"/>
                  </a:lnTo>
                  <a:lnTo>
                    <a:pt x="54609" y="595629"/>
                  </a:lnTo>
                  <a:lnTo>
                    <a:pt x="67309" y="593089"/>
                  </a:lnTo>
                  <a:lnTo>
                    <a:pt x="73659" y="593089"/>
                  </a:lnTo>
                  <a:lnTo>
                    <a:pt x="78740" y="595629"/>
                  </a:lnTo>
                  <a:lnTo>
                    <a:pt x="86359" y="596900"/>
                  </a:lnTo>
                  <a:lnTo>
                    <a:pt x="90169" y="600710"/>
                  </a:lnTo>
                  <a:lnTo>
                    <a:pt x="101600" y="608329"/>
                  </a:lnTo>
                  <a:lnTo>
                    <a:pt x="110490" y="619760"/>
                  </a:lnTo>
                  <a:lnTo>
                    <a:pt x="119380" y="629920"/>
                  </a:lnTo>
                  <a:lnTo>
                    <a:pt x="129540" y="641350"/>
                  </a:lnTo>
                  <a:lnTo>
                    <a:pt x="137159" y="645160"/>
                  </a:lnTo>
                  <a:lnTo>
                    <a:pt x="143509" y="650239"/>
                  </a:lnTo>
                  <a:lnTo>
                    <a:pt x="151130" y="654050"/>
                  </a:lnTo>
                  <a:lnTo>
                    <a:pt x="158750" y="655320"/>
                  </a:lnTo>
                  <a:lnTo>
                    <a:pt x="166369" y="659129"/>
                  </a:lnTo>
                  <a:lnTo>
                    <a:pt x="176530" y="659129"/>
                  </a:lnTo>
                  <a:lnTo>
                    <a:pt x="194309" y="659129"/>
                  </a:lnTo>
                  <a:lnTo>
                    <a:pt x="213359" y="656589"/>
                  </a:lnTo>
                  <a:lnTo>
                    <a:pt x="231140" y="651510"/>
                  </a:lnTo>
                  <a:lnTo>
                    <a:pt x="240030" y="648970"/>
                  </a:lnTo>
                  <a:lnTo>
                    <a:pt x="247650" y="645160"/>
                  </a:lnTo>
                  <a:lnTo>
                    <a:pt x="255269" y="640079"/>
                  </a:lnTo>
                  <a:lnTo>
                    <a:pt x="261619" y="635000"/>
                  </a:lnTo>
                  <a:lnTo>
                    <a:pt x="266700" y="629920"/>
                  </a:lnTo>
                  <a:lnTo>
                    <a:pt x="273050" y="623570"/>
                  </a:lnTo>
                  <a:lnTo>
                    <a:pt x="276859" y="617220"/>
                  </a:lnTo>
                  <a:lnTo>
                    <a:pt x="280669" y="610870"/>
                  </a:lnTo>
                  <a:lnTo>
                    <a:pt x="284480" y="598170"/>
                  </a:lnTo>
                  <a:lnTo>
                    <a:pt x="288290" y="582929"/>
                  </a:lnTo>
                  <a:lnTo>
                    <a:pt x="290830" y="567689"/>
                  </a:lnTo>
                  <a:lnTo>
                    <a:pt x="292100" y="552450"/>
                  </a:lnTo>
                  <a:lnTo>
                    <a:pt x="295909" y="533400"/>
                  </a:lnTo>
                  <a:lnTo>
                    <a:pt x="295909" y="515620"/>
                  </a:lnTo>
                  <a:lnTo>
                    <a:pt x="295909" y="496570"/>
                  </a:lnTo>
                  <a:lnTo>
                    <a:pt x="295909" y="476250"/>
                  </a:lnTo>
                  <a:lnTo>
                    <a:pt x="295909" y="455929"/>
                  </a:lnTo>
                  <a:lnTo>
                    <a:pt x="294640" y="434339"/>
                  </a:lnTo>
                  <a:lnTo>
                    <a:pt x="289559" y="391160"/>
                  </a:lnTo>
                  <a:lnTo>
                    <a:pt x="283209" y="349250"/>
                  </a:lnTo>
                  <a:lnTo>
                    <a:pt x="274319" y="307339"/>
                  </a:lnTo>
                  <a:lnTo>
                    <a:pt x="269240" y="287020"/>
                  </a:lnTo>
                  <a:lnTo>
                    <a:pt x="262890" y="265429"/>
                  </a:lnTo>
                  <a:lnTo>
                    <a:pt x="256540" y="246379"/>
                  </a:lnTo>
                  <a:lnTo>
                    <a:pt x="248919" y="228600"/>
                  </a:lnTo>
                  <a:lnTo>
                    <a:pt x="241300" y="209550"/>
                  </a:lnTo>
                  <a:lnTo>
                    <a:pt x="233680" y="193039"/>
                  </a:lnTo>
                  <a:lnTo>
                    <a:pt x="223519" y="176529"/>
                  </a:lnTo>
                  <a:lnTo>
                    <a:pt x="214630" y="162560"/>
                  </a:lnTo>
                  <a:lnTo>
                    <a:pt x="204469" y="148589"/>
                  </a:lnTo>
                  <a:lnTo>
                    <a:pt x="194309" y="138429"/>
                  </a:lnTo>
                  <a:lnTo>
                    <a:pt x="182880" y="127000"/>
                  </a:lnTo>
                  <a:lnTo>
                    <a:pt x="170180" y="118110"/>
                  </a:lnTo>
                  <a:lnTo>
                    <a:pt x="157480" y="111760"/>
                  </a:lnTo>
                  <a:lnTo>
                    <a:pt x="144780" y="106679"/>
                  </a:lnTo>
                  <a:lnTo>
                    <a:pt x="132080" y="105410"/>
                  </a:lnTo>
                  <a:lnTo>
                    <a:pt x="118109" y="102870"/>
                  </a:lnTo>
                  <a:lnTo>
                    <a:pt x="110490" y="102870"/>
                  </a:lnTo>
                  <a:lnTo>
                    <a:pt x="104140" y="102870"/>
                  </a:lnTo>
                  <a:lnTo>
                    <a:pt x="97790" y="106679"/>
                  </a:lnTo>
                  <a:lnTo>
                    <a:pt x="92709" y="110489"/>
                  </a:lnTo>
                  <a:lnTo>
                    <a:pt x="86359" y="116839"/>
                  </a:lnTo>
                  <a:lnTo>
                    <a:pt x="81280" y="123189"/>
                  </a:lnTo>
                  <a:lnTo>
                    <a:pt x="71119" y="138429"/>
                  </a:lnTo>
                  <a:lnTo>
                    <a:pt x="60959" y="153670"/>
                  </a:lnTo>
                  <a:lnTo>
                    <a:pt x="54609" y="161289"/>
                  </a:lnTo>
                  <a:lnTo>
                    <a:pt x="46990" y="167639"/>
                  </a:lnTo>
                  <a:lnTo>
                    <a:pt x="40640" y="172720"/>
                  </a:lnTo>
                  <a:lnTo>
                    <a:pt x="33019" y="176529"/>
                  </a:lnTo>
                  <a:lnTo>
                    <a:pt x="25400" y="180339"/>
                  </a:lnTo>
                  <a:lnTo>
                    <a:pt x="16509" y="180339"/>
                  </a:lnTo>
                  <a:lnTo>
                    <a:pt x="10159" y="167639"/>
                  </a:lnTo>
                  <a:lnTo>
                    <a:pt x="6350" y="152400"/>
                  </a:lnTo>
                  <a:lnTo>
                    <a:pt x="2540" y="138429"/>
                  </a:lnTo>
                  <a:lnTo>
                    <a:pt x="0" y="123189"/>
                  </a:lnTo>
                  <a:lnTo>
                    <a:pt x="0" y="107950"/>
                  </a:lnTo>
                  <a:lnTo>
                    <a:pt x="2540"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0" name="Freeform 30"/>
            <p:cNvSpPr/>
            <p:nvPr/>
          </p:nvSpPr>
          <p:spPr>
            <a:xfrm>
              <a:off x="2355120" y="262368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2" y="2285"/>
                  </a:moveTo>
                  <a:lnTo>
                    <a:pt x="80010" y="15367"/>
                  </a:lnTo>
                  <a:lnTo>
                    <a:pt x="87629" y="31114"/>
                  </a:lnTo>
                  <a:lnTo>
                    <a:pt x="94741" y="48386"/>
                  </a:lnTo>
                  <a:lnTo>
                    <a:pt x="101345" y="67563"/>
                  </a:lnTo>
                  <a:lnTo>
                    <a:pt x="107314" y="88392"/>
                  </a:lnTo>
                  <a:lnTo>
                    <a:pt x="112776" y="110363"/>
                  </a:lnTo>
                  <a:lnTo>
                    <a:pt x="117729" y="133730"/>
                  </a:lnTo>
                  <a:lnTo>
                    <a:pt x="121792" y="157988"/>
                  </a:lnTo>
                  <a:lnTo>
                    <a:pt x="125857" y="182372"/>
                  </a:lnTo>
                  <a:lnTo>
                    <a:pt x="128904" y="207645"/>
                  </a:lnTo>
                  <a:lnTo>
                    <a:pt x="133857" y="258317"/>
                  </a:lnTo>
                  <a:lnTo>
                    <a:pt x="135509" y="283336"/>
                  </a:lnTo>
                  <a:lnTo>
                    <a:pt x="136525" y="308101"/>
                  </a:lnTo>
                  <a:lnTo>
                    <a:pt x="137032" y="331723"/>
                  </a:lnTo>
                  <a:lnTo>
                    <a:pt x="137032" y="354838"/>
                  </a:lnTo>
                  <a:lnTo>
                    <a:pt x="136270" y="376428"/>
                  </a:lnTo>
                  <a:lnTo>
                    <a:pt x="135635" y="397001"/>
                  </a:lnTo>
                  <a:lnTo>
                    <a:pt x="133857" y="435101"/>
                  </a:lnTo>
                  <a:lnTo>
                    <a:pt x="130810" y="470661"/>
                  </a:lnTo>
                  <a:lnTo>
                    <a:pt x="126110" y="504570"/>
                  </a:lnTo>
                  <a:lnTo>
                    <a:pt x="119379" y="537972"/>
                  </a:lnTo>
                  <a:lnTo>
                    <a:pt x="114426" y="554863"/>
                  </a:lnTo>
                  <a:lnTo>
                    <a:pt x="108966" y="572135"/>
                  </a:lnTo>
                  <a:lnTo>
                    <a:pt x="102742" y="589914"/>
                  </a:lnTo>
                  <a:lnTo>
                    <a:pt x="94995" y="608329"/>
                  </a:lnTo>
                  <a:lnTo>
                    <a:pt x="86232" y="627380"/>
                  </a:lnTo>
                  <a:lnTo>
                    <a:pt x="76454" y="647445"/>
                  </a:lnTo>
                  <a:lnTo>
                    <a:pt x="71247" y="653287"/>
                  </a:lnTo>
                  <a:lnTo>
                    <a:pt x="65023" y="659383"/>
                  </a:lnTo>
                  <a:lnTo>
                    <a:pt x="57912" y="664972"/>
                  </a:lnTo>
                  <a:lnTo>
                    <a:pt x="50291" y="669670"/>
                  </a:lnTo>
                  <a:lnTo>
                    <a:pt x="42544" y="672973"/>
                  </a:lnTo>
                  <a:lnTo>
                    <a:pt x="35179" y="674369"/>
                  </a:lnTo>
                  <a:lnTo>
                    <a:pt x="28447" y="673862"/>
                  </a:lnTo>
                  <a:lnTo>
                    <a:pt x="25400" y="672464"/>
                  </a:lnTo>
                  <a:lnTo>
                    <a:pt x="22732" y="670179"/>
                  </a:lnTo>
                  <a:lnTo>
                    <a:pt x="21589" y="666114"/>
                  </a:lnTo>
                  <a:lnTo>
                    <a:pt x="22732" y="660018"/>
                  </a:lnTo>
                  <a:lnTo>
                    <a:pt x="26035" y="651891"/>
                  </a:lnTo>
                  <a:lnTo>
                    <a:pt x="30098" y="641985"/>
                  </a:lnTo>
                  <a:lnTo>
                    <a:pt x="35560" y="629157"/>
                  </a:lnTo>
                  <a:lnTo>
                    <a:pt x="41782" y="614172"/>
                  </a:lnTo>
                  <a:lnTo>
                    <a:pt x="48387" y="596645"/>
                  </a:lnTo>
                  <a:lnTo>
                    <a:pt x="54610" y="576072"/>
                  </a:lnTo>
                  <a:lnTo>
                    <a:pt x="61087" y="552450"/>
                  </a:lnTo>
                  <a:lnTo>
                    <a:pt x="63881" y="539369"/>
                  </a:lnTo>
                  <a:lnTo>
                    <a:pt x="66675" y="525398"/>
                  </a:lnTo>
                  <a:lnTo>
                    <a:pt x="68834" y="510667"/>
                  </a:lnTo>
                  <a:lnTo>
                    <a:pt x="70992" y="495173"/>
                  </a:lnTo>
                  <a:lnTo>
                    <a:pt x="72644" y="478663"/>
                  </a:lnTo>
                  <a:lnTo>
                    <a:pt x="74294" y="461263"/>
                  </a:lnTo>
                  <a:lnTo>
                    <a:pt x="75057" y="442848"/>
                  </a:lnTo>
                  <a:lnTo>
                    <a:pt x="75438" y="423672"/>
                  </a:lnTo>
                  <a:lnTo>
                    <a:pt x="75057"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1" y="102870"/>
                  </a:lnTo>
                  <a:lnTo>
                    <a:pt x="18669" y="89280"/>
                  </a:lnTo>
                  <a:lnTo>
                    <a:pt x="13716" y="76707"/>
                  </a:lnTo>
                  <a:lnTo>
                    <a:pt x="8763" y="65404"/>
                  </a:lnTo>
                  <a:lnTo>
                    <a:pt x="4317" y="55879"/>
                  </a:lnTo>
                  <a:lnTo>
                    <a:pt x="0" y="48132"/>
                  </a:lnTo>
                  <a:lnTo>
                    <a:pt x="4953" y="37845"/>
                  </a:lnTo>
                  <a:lnTo>
                    <a:pt x="12064" y="27813"/>
                  </a:lnTo>
                  <a:lnTo>
                    <a:pt x="20447" y="18669"/>
                  </a:lnTo>
                  <a:lnTo>
                    <a:pt x="30098" y="10795"/>
                  </a:lnTo>
                  <a:lnTo>
                    <a:pt x="40766"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Freeform 31"/>
            <p:cNvSpPr/>
            <p:nvPr/>
          </p:nvSpPr>
          <p:spPr>
            <a:xfrm>
              <a:off x="2152800" y="315684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1" y="11303"/>
                  </a:lnTo>
                  <a:lnTo>
                    <a:pt x="70485" y="21971"/>
                  </a:lnTo>
                  <a:lnTo>
                    <a:pt x="82804" y="31115"/>
                  </a:lnTo>
                  <a:lnTo>
                    <a:pt x="95250" y="38862"/>
                  </a:lnTo>
                  <a:lnTo>
                    <a:pt x="107824" y="45847"/>
                  </a:lnTo>
                  <a:lnTo>
                    <a:pt x="120778" y="51307"/>
                  </a:lnTo>
                  <a:lnTo>
                    <a:pt x="133478" y="55499"/>
                  </a:lnTo>
                  <a:lnTo>
                    <a:pt x="146431" y="58293"/>
                  </a:lnTo>
                  <a:lnTo>
                    <a:pt x="159004" y="59690"/>
                  </a:lnTo>
                  <a:lnTo>
                    <a:pt x="171450" y="59690"/>
                  </a:lnTo>
                  <a:lnTo>
                    <a:pt x="183769" y="58293"/>
                  </a:lnTo>
                  <a:lnTo>
                    <a:pt x="195834" y="55244"/>
                  </a:lnTo>
                  <a:lnTo>
                    <a:pt x="207772" y="50800"/>
                  </a:lnTo>
                  <a:lnTo>
                    <a:pt x="218949" y="44703"/>
                  </a:lnTo>
                  <a:lnTo>
                    <a:pt x="229997" y="36956"/>
                  </a:lnTo>
                  <a:lnTo>
                    <a:pt x="240284" y="27431"/>
                  </a:lnTo>
                  <a:lnTo>
                    <a:pt x="237363" y="38862"/>
                  </a:lnTo>
                  <a:lnTo>
                    <a:pt x="233172" y="49149"/>
                  </a:lnTo>
                  <a:lnTo>
                    <a:pt x="228347" y="58674"/>
                  </a:lnTo>
                  <a:lnTo>
                    <a:pt x="222759" y="67437"/>
                  </a:lnTo>
                  <a:lnTo>
                    <a:pt x="211837" y="83819"/>
                  </a:lnTo>
                  <a:lnTo>
                    <a:pt x="202057" y="100583"/>
                  </a:lnTo>
                  <a:lnTo>
                    <a:pt x="194691" y="105028"/>
                  </a:lnTo>
                  <a:lnTo>
                    <a:pt x="186563" y="107822"/>
                  </a:lnTo>
                  <a:lnTo>
                    <a:pt x="178054" y="109220"/>
                  </a:lnTo>
                  <a:lnTo>
                    <a:pt x="169038" y="109474"/>
                  </a:lnTo>
                  <a:lnTo>
                    <a:pt x="150496" y="107822"/>
                  </a:lnTo>
                  <a:lnTo>
                    <a:pt x="132462" y="105283"/>
                  </a:lnTo>
                  <a:lnTo>
                    <a:pt x="100457" y="100583"/>
                  </a:lnTo>
                  <a:lnTo>
                    <a:pt x="84075" y="98044"/>
                  </a:lnTo>
                  <a:lnTo>
                    <a:pt x="68326" y="94107"/>
                  </a:lnTo>
                  <a:lnTo>
                    <a:pt x="52959" y="89153"/>
                  </a:lnTo>
                  <a:lnTo>
                    <a:pt x="38228" y="82803"/>
                  </a:lnTo>
                  <a:lnTo>
                    <a:pt x="25147" y="74422"/>
                  </a:lnTo>
                  <a:lnTo>
                    <a:pt x="19178" y="69722"/>
                  </a:lnTo>
                  <a:lnTo>
                    <a:pt x="13463" y="63881"/>
                  </a:lnTo>
                  <a:lnTo>
                    <a:pt x="6859" y="54990"/>
                  </a:lnTo>
                  <a:lnTo>
                    <a:pt x="2032" y="44450"/>
                  </a:lnTo>
                  <a:lnTo>
                    <a:pt x="0" y="33019"/>
                  </a:lnTo>
                  <a:lnTo>
                    <a:pt x="635" y="28066"/>
                  </a:lnTo>
                  <a:lnTo>
                    <a:pt x="2159" y="22987"/>
                  </a:lnTo>
                  <a:lnTo>
                    <a:pt x="5588" y="18034"/>
                  </a:lnTo>
                  <a:lnTo>
                    <a:pt x="9653" y="13843"/>
                  </a:lnTo>
                  <a:lnTo>
                    <a:pt x="15368" y="10287"/>
                  </a:lnTo>
                  <a:lnTo>
                    <a:pt x="21591" y="7112"/>
                  </a:lnTo>
                  <a:lnTo>
                    <a:pt x="35053"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Freeform 32"/>
            <p:cNvSpPr/>
            <p:nvPr/>
          </p:nvSpPr>
          <p:spPr>
            <a:xfrm>
              <a:off x="2127600" y="261936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3" y="77343"/>
                  </a:lnTo>
                  <a:lnTo>
                    <a:pt x="2413" y="71502"/>
                  </a:lnTo>
                  <a:lnTo>
                    <a:pt x="5081" y="65405"/>
                  </a:lnTo>
                  <a:lnTo>
                    <a:pt x="13082" y="53468"/>
                  </a:lnTo>
                  <a:lnTo>
                    <a:pt x="23241" y="41784"/>
                  </a:lnTo>
                  <a:lnTo>
                    <a:pt x="35179" y="30608"/>
                  </a:lnTo>
                  <a:lnTo>
                    <a:pt x="47498" y="20955"/>
                  </a:lnTo>
                  <a:lnTo>
                    <a:pt x="59437" y="12827"/>
                  </a:lnTo>
                  <a:lnTo>
                    <a:pt x="70104" y="6477"/>
                  </a:lnTo>
                  <a:lnTo>
                    <a:pt x="76963" y="3430"/>
                  </a:lnTo>
                  <a:lnTo>
                    <a:pt x="84328" y="1397"/>
                  </a:lnTo>
                  <a:lnTo>
                    <a:pt x="92584" y="381"/>
                  </a:lnTo>
                  <a:lnTo>
                    <a:pt x="101219" y="0"/>
                  </a:lnTo>
                  <a:lnTo>
                    <a:pt x="109982" y="636"/>
                  </a:lnTo>
                  <a:lnTo>
                    <a:pt x="119253" y="2287"/>
                  </a:lnTo>
                  <a:lnTo>
                    <a:pt x="137541" y="6986"/>
                  </a:lnTo>
                  <a:lnTo>
                    <a:pt x="146559" y="10668"/>
                  </a:lnTo>
                  <a:lnTo>
                    <a:pt x="154941" y="14859"/>
                  </a:lnTo>
                  <a:lnTo>
                    <a:pt x="162941" y="19812"/>
                  </a:lnTo>
                  <a:lnTo>
                    <a:pt x="170562" y="25020"/>
                  </a:lnTo>
                  <a:lnTo>
                    <a:pt x="177419" y="31243"/>
                  </a:lnTo>
                  <a:lnTo>
                    <a:pt x="183135" y="37593"/>
                  </a:lnTo>
                  <a:lnTo>
                    <a:pt x="188088" y="44831"/>
                  </a:lnTo>
                  <a:lnTo>
                    <a:pt x="191644" y="52324"/>
                  </a:lnTo>
                  <a:lnTo>
                    <a:pt x="177673" y="47371"/>
                  </a:lnTo>
                  <a:lnTo>
                    <a:pt x="165735" y="42037"/>
                  </a:lnTo>
                  <a:lnTo>
                    <a:pt x="154432" y="36196"/>
                  </a:lnTo>
                  <a:lnTo>
                    <a:pt x="144400" y="30353"/>
                  </a:lnTo>
                  <a:lnTo>
                    <a:pt x="134875" y="25020"/>
                  </a:lnTo>
                  <a:lnTo>
                    <a:pt x="126112" y="20574"/>
                  </a:lnTo>
                  <a:lnTo>
                    <a:pt x="117348" y="17018"/>
                  </a:lnTo>
                  <a:lnTo>
                    <a:pt x="108966" y="14987"/>
                  </a:lnTo>
                  <a:lnTo>
                    <a:pt x="100331" y="14859"/>
                  </a:lnTo>
                  <a:lnTo>
                    <a:pt x="91694" y="17272"/>
                  </a:lnTo>
                  <a:lnTo>
                    <a:pt x="82678" y="21971"/>
                  </a:lnTo>
                  <a:lnTo>
                    <a:pt x="72898" y="29846"/>
                  </a:lnTo>
                  <a:lnTo>
                    <a:pt x="67438" y="34799"/>
                  </a:lnTo>
                  <a:lnTo>
                    <a:pt x="62231" y="40640"/>
                  </a:lnTo>
                  <a:lnTo>
                    <a:pt x="56516" y="47880"/>
                  </a:lnTo>
                  <a:lnTo>
                    <a:pt x="50419" y="55627"/>
                  </a:lnTo>
                  <a:lnTo>
                    <a:pt x="44197" y="64517"/>
                  </a:lnTo>
                  <a:lnTo>
                    <a:pt x="37338" y="74549"/>
                  </a:lnTo>
                  <a:lnTo>
                    <a:pt x="30226" y="85599"/>
                  </a:lnTo>
                  <a:lnTo>
                    <a:pt x="22860" y="97918"/>
                  </a:lnTo>
                  <a:lnTo>
                    <a:pt x="16257" y="97409"/>
                  </a:lnTo>
                  <a:lnTo>
                    <a:pt x="9272" y="96267"/>
                  </a:lnTo>
                  <a:lnTo>
                    <a:pt x="3557" y="93472"/>
                  </a:lnTo>
                  <a:lnTo>
                    <a:pt x="1525"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Freeform 33"/>
            <p:cNvSpPr/>
            <p:nvPr/>
          </p:nvSpPr>
          <p:spPr>
            <a:xfrm>
              <a:off x="1420560" y="215820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0" h="167260">
                  <a:moveTo>
                    <a:pt x="622046" y="148718"/>
                  </a:moveTo>
                  <a:lnTo>
                    <a:pt x="591184" y="153671"/>
                  </a:lnTo>
                  <a:lnTo>
                    <a:pt x="558673" y="157862"/>
                  </a:lnTo>
                  <a:lnTo>
                    <a:pt x="524890" y="161163"/>
                  </a:lnTo>
                  <a:lnTo>
                    <a:pt x="489965" y="163958"/>
                  </a:lnTo>
                  <a:lnTo>
                    <a:pt x="454152" y="165990"/>
                  </a:lnTo>
                  <a:lnTo>
                    <a:pt x="417830" y="167133"/>
                  </a:lnTo>
                  <a:lnTo>
                    <a:pt x="381508" y="167259"/>
                  </a:lnTo>
                  <a:lnTo>
                    <a:pt x="344677" y="167133"/>
                  </a:lnTo>
                  <a:lnTo>
                    <a:pt x="308609" y="165990"/>
                  </a:lnTo>
                  <a:lnTo>
                    <a:pt x="272668" y="163958"/>
                  </a:lnTo>
                  <a:lnTo>
                    <a:pt x="237743" y="161163"/>
                  </a:lnTo>
                  <a:lnTo>
                    <a:pt x="203834" y="157862"/>
                  </a:lnTo>
                  <a:lnTo>
                    <a:pt x="171323" y="153671"/>
                  </a:lnTo>
                  <a:lnTo>
                    <a:pt x="140842" y="148718"/>
                  </a:lnTo>
                  <a:lnTo>
                    <a:pt x="111506" y="142875"/>
                  </a:lnTo>
                  <a:lnTo>
                    <a:pt x="85598" y="136525"/>
                  </a:lnTo>
                  <a:lnTo>
                    <a:pt x="62737" y="129540"/>
                  </a:lnTo>
                  <a:lnTo>
                    <a:pt x="43561" y="122556"/>
                  </a:lnTo>
                  <a:lnTo>
                    <a:pt x="27812" y="115316"/>
                  </a:lnTo>
                  <a:lnTo>
                    <a:pt x="15493" y="107569"/>
                  </a:lnTo>
                  <a:lnTo>
                    <a:pt x="6984" y="99441"/>
                  </a:lnTo>
                  <a:lnTo>
                    <a:pt x="1523" y="91694"/>
                  </a:lnTo>
                  <a:lnTo>
                    <a:pt x="0" y="83693"/>
                  </a:lnTo>
                  <a:lnTo>
                    <a:pt x="1523" y="75565"/>
                  </a:lnTo>
                  <a:lnTo>
                    <a:pt x="6984" y="67818"/>
                  </a:lnTo>
                  <a:lnTo>
                    <a:pt x="15493" y="59818"/>
                  </a:lnTo>
                  <a:lnTo>
                    <a:pt x="27812" y="51943"/>
                  </a:lnTo>
                  <a:lnTo>
                    <a:pt x="43561" y="44450"/>
                  </a:lnTo>
                  <a:lnTo>
                    <a:pt x="62737" y="37465"/>
                  </a:lnTo>
                  <a:lnTo>
                    <a:pt x="85598" y="30862"/>
                  </a:lnTo>
                  <a:lnTo>
                    <a:pt x="111506" y="24512"/>
                  </a:lnTo>
                  <a:lnTo>
                    <a:pt x="140842" y="18543"/>
                  </a:lnTo>
                  <a:lnTo>
                    <a:pt x="171323" y="13590"/>
                  </a:lnTo>
                  <a:lnTo>
                    <a:pt x="203834" y="9399"/>
                  </a:lnTo>
                  <a:lnTo>
                    <a:pt x="237743" y="6096"/>
                  </a:lnTo>
                  <a:lnTo>
                    <a:pt x="272668" y="3303"/>
                  </a:lnTo>
                  <a:lnTo>
                    <a:pt x="308609" y="1397"/>
                  </a:lnTo>
                  <a:lnTo>
                    <a:pt x="344677" y="255"/>
                  </a:lnTo>
                  <a:lnTo>
                    <a:pt x="381508" y="0"/>
                  </a:lnTo>
                  <a:lnTo>
                    <a:pt x="417830" y="255"/>
                  </a:lnTo>
                  <a:lnTo>
                    <a:pt x="454152" y="1397"/>
                  </a:lnTo>
                  <a:lnTo>
                    <a:pt x="489965" y="3303"/>
                  </a:lnTo>
                  <a:lnTo>
                    <a:pt x="524890" y="6096"/>
                  </a:lnTo>
                  <a:lnTo>
                    <a:pt x="558673" y="9399"/>
                  </a:lnTo>
                  <a:lnTo>
                    <a:pt x="591184" y="13590"/>
                  </a:lnTo>
                  <a:lnTo>
                    <a:pt x="622046" y="18543"/>
                  </a:lnTo>
                  <a:lnTo>
                    <a:pt x="651002" y="24512"/>
                  </a:lnTo>
                  <a:lnTo>
                    <a:pt x="677290" y="30862"/>
                  </a:lnTo>
                  <a:lnTo>
                    <a:pt x="700151" y="37465"/>
                  </a:lnTo>
                  <a:lnTo>
                    <a:pt x="718946" y="44450"/>
                  </a:lnTo>
                  <a:lnTo>
                    <a:pt x="734821" y="51943"/>
                  </a:lnTo>
                  <a:lnTo>
                    <a:pt x="747140" y="59818"/>
                  </a:lnTo>
                  <a:lnTo>
                    <a:pt x="755777" y="67818"/>
                  </a:lnTo>
                  <a:lnTo>
                    <a:pt x="760983" y="75565"/>
                  </a:lnTo>
                  <a:lnTo>
                    <a:pt x="762889" y="83693"/>
                  </a:lnTo>
                  <a:lnTo>
                    <a:pt x="760983" y="91694"/>
                  </a:lnTo>
                  <a:lnTo>
                    <a:pt x="755777" y="99441"/>
                  </a:lnTo>
                  <a:lnTo>
                    <a:pt x="747140" y="107569"/>
                  </a:lnTo>
                  <a:lnTo>
                    <a:pt x="734821" y="115316"/>
                  </a:lnTo>
                  <a:lnTo>
                    <a:pt x="718946" y="122556"/>
                  </a:lnTo>
                  <a:lnTo>
                    <a:pt x="700151" y="129540"/>
                  </a:lnTo>
                  <a:lnTo>
                    <a:pt x="677290" y="136525"/>
                  </a:lnTo>
                  <a:lnTo>
                    <a:pt x="651002"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Freeform 34"/>
            <p:cNvSpPr/>
            <p:nvPr/>
          </p:nvSpPr>
          <p:spPr>
            <a:xfrm>
              <a:off x="2247840" y="261576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7" y="15239"/>
                  </a:lnTo>
                  <a:lnTo>
                    <a:pt x="-32516" y="10160"/>
                  </a:lnTo>
                  <a:lnTo>
                    <a:pt x="24129" y="5079"/>
                  </a:lnTo>
                  <a:lnTo>
                    <a:pt x="15239"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25" name="Freeform 35"/>
            <p:cNvSpPr/>
            <p:nvPr/>
          </p:nvSpPr>
          <p:spPr>
            <a:xfrm>
              <a:off x="2233800" y="325332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2" h="12701">
                  <a:moveTo>
                    <a:pt x="-9655" y="12700"/>
                  </a:moveTo>
                  <a:lnTo>
                    <a:pt x="-18545" y="12700"/>
                  </a:lnTo>
                  <a:lnTo>
                    <a:pt x="-28705" y="11430"/>
                  </a:lnTo>
                  <a:lnTo>
                    <a:pt x="29210" y="11430"/>
                  </a:lnTo>
                  <a:lnTo>
                    <a:pt x="22860" y="7619"/>
                  </a:lnTo>
                  <a:lnTo>
                    <a:pt x="11431"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26" name="Freeform 36"/>
            <p:cNvSpPr/>
            <p:nvPr/>
          </p:nvSpPr>
          <p:spPr>
            <a:xfrm>
              <a:off x="1682640" y="234144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39" y="7621"/>
                  </a:lnTo>
                  <a:lnTo>
                    <a:pt x="92710" y="7621"/>
                  </a:lnTo>
                  <a:lnTo>
                    <a:pt x="68579" y="7621"/>
                  </a:lnTo>
                  <a:lnTo>
                    <a:pt x="43179"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27" name="Group 52"/>
          <p:cNvGrpSpPr/>
          <p:nvPr/>
        </p:nvGrpSpPr>
        <p:grpSpPr>
          <a:xfrm>
            <a:off x="2541600" y="2147760"/>
            <a:ext cx="1096920" cy="1344600"/>
            <a:chOff x="2541600" y="2147760"/>
            <a:chExt cx="1096920" cy="1344600"/>
          </a:xfrm>
        </p:grpSpPr>
        <p:sp>
          <p:nvSpPr>
            <p:cNvPr id="528" name="Freeform 38"/>
            <p:cNvSpPr/>
            <p:nvPr/>
          </p:nvSpPr>
          <p:spPr>
            <a:xfrm>
              <a:off x="2541600" y="225072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5" h="1242060">
                  <a:moveTo>
                    <a:pt x="809244" y="0"/>
                  </a:moveTo>
                  <a:lnTo>
                    <a:pt x="809244" y="1093851"/>
                  </a:lnTo>
                  <a:lnTo>
                    <a:pt x="808356" y="1105534"/>
                  </a:lnTo>
                  <a:lnTo>
                    <a:pt x="807594" y="1110741"/>
                  </a:lnTo>
                  <a:lnTo>
                    <a:pt x="805943" y="1116329"/>
                  </a:lnTo>
                  <a:lnTo>
                    <a:pt x="802640" y="1122171"/>
                  </a:lnTo>
                  <a:lnTo>
                    <a:pt x="798323" y="1128903"/>
                  </a:lnTo>
                  <a:lnTo>
                    <a:pt x="791973" y="1136396"/>
                  </a:lnTo>
                  <a:lnTo>
                    <a:pt x="783844" y="1145540"/>
                  </a:lnTo>
                  <a:lnTo>
                    <a:pt x="770763" y="1157223"/>
                  </a:lnTo>
                  <a:lnTo>
                    <a:pt x="755396" y="1168019"/>
                  </a:lnTo>
                  <a:lnTo>
                    <a:pt x="738251" y="1178052"/>
                  </a:lnTo>
                  <a:lnTo>
                    <a:pt x="719075" y="1187830"/>
                  </a:lnTo>
                  <a:lnTo>
                    <a:pt x="697865" y="1196466"/>
                  </a:lnTo>
                  <a:lnTo>
                    <a:pt x="675768" y="1204214"/>
                  </a:lnTo>
                  <a:lnTo>
                    <a:pt x="651383" y="1211453"/>
                  </a:lnTo>
                  <a:lnTo>
                    <a:pt x="625983" y="1217803"/>
                  </a:lnTo>
                  <a:lnTo>
                    <a:pt x="599568" y="1223390"/>
                  </a:lnTo>
                  <a:lnTo>
                    <a:pt x="572262" y="1228471"/>
                  </a:lnTo>
                  <a:lnTo>
                    <a:pt x="543815" y="1232534"/>
                  </a:lnTo>
                  <a:lnTo>
                    <a:pt x="514858" y="1235964"/>
                  </a:lnTo>
                  <a:lnTo>
                    <a:pt x="485395" y="1238377"/>
                  </a:lnTo>
                  <a:lnTo>
                    <a:pt x="455423" y="1240282"/>
                  </a:lnTo>
                  <a:lnTo>
                    <a:pt x="395098" y="1242059"/>
                  </a:lnTo>
                  <a:lnTo>
                    <a:pt x="335027" y="1240282"/>
                  </a:lnTo>
                  <a:lnTo>
                    <a:pt x="305436" y="1238377"/>
                  </a:lnTo>
                  <a:lnTo>
                    <a:pt x="276606" y="1235964"/>
                  </a:lnTo>
                  <a:lnTo>
                    <a:pt x="248158" y="1232534"/>
                  </a:lnTo>
                  <a:lnTo>
                    <a:pt x="220599" y="1228471"/>
                  </a:lnTo>
                  <a:lnTo>
                    <a:pt x="194056" y="1223390"/>
                  </a:lnTo>
                  <a:lnTo>
                    <a:pt x="168783" y="1217803"/>
                  </a:lnTo>
                  <a:lnTo>
                    <a:pt x="144653" y="1211453"/>
                  </a:lnTo>
                  <a:lnTo>
                    <a:pt x="122048" y="1204214"/>
                  </a:lnTo>
                  <a:lnTo>
                    <a:pt x="101093" y="1196466"/>
                  </a:lnTo>
                  <a:lnTo>
                    <a:pt x="81915" y="1187830"/>
                  </a:lnTo>
                  <a:lnTo>
                    <a:pt x="64771" y="1178052"/>
                  </a:lnTo>
                  <a:lnTo>
                    <a:pt x="49149" y="1168019"/>
                  </a:lnTo>
                  <a:lnTo>
                    <a:pt x="36068" y="1157223"/>
                  </a:lnTo>
                  <a:lnTo>
                    <a:pt x="25400" y="1145540"/>
                  </a:lnTo>
                  <a:lnTo>
                    <a:pt x="21083" y="1140840"/>
                  </a:lnTo>
                  <a:lnTo>
                    <a:pt x="17273" y="1136903"/>
                  </a:lnTo>
                  <a:lnTo>
                    <a:pt x="10668" y="1130172"/>
                  </a:lnTo>
                  <a:lnTo>
                    <a:pt x="6350" y="1124711"/>
                  </a:lnTo>
                  <a:lnTo>
                    <a:pt x="3302" y="1119759"/>
                  </a:lnTo>
                  <a:lnTo>
                    <a:pt x="1652"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9" name="Freeform 39"/>
            <p:cNvSpPr/>
            <p:nvPr/>
          </p:nvSpPr>
          <p:spPr>
            <a:xfrm>
              <a:off x="2542320" y="225108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71" y="1115060"/>
                  </a:lnTo>
                  <a:lnTo>
                    <a:pt x="3811" y="1118869"/>
                  </a:lnTo>
                  <a:lnTo>
                    <a:pt x="5081" y="1123949"/>
                  </a:lnTo>
                  <a:lnTo>
                    <a:pt x="10161" y="1130299"/>
                  </a:lnTo>
                  <a:lnTo>
                    <a:pt x="16511" y="1136649"/>
                  </a:lnTo>
                  <a:lnTo>
                    <a:pt x="20321" y="1140460"/>
                  </a:lnTo>
                  <a:lnTo>
                    <a:pt x="25400" y="1145540"/>
                  </a:lnTo>
                  <a:lnTo>
                    <a:pt x="35561" y="1155699"/>
                  </a:lnTo>
                  <a:lnTo>
                    <a:pt x="48261" y="1167130"/>
                  </a:lnTo>
                  <a:lnTo>
                    <a:pt x="64771" y="1178560"/>
                  </a:lnTo>
                  <a:lnTo>
                    <a:pt x="80011" y="1187449"/>
                  </a:lnTo>
                  <a:lnTo>
                    <a:pt x="100331" y="1196340"/>
                  </a:lnTo>
                  <a:lnTo>
                    <a:pt x="120650" y="1203960"/>
                  </a:lnTo>
                  <a:lnTo>
                    <a:pt x="143511" y="1211580"/>
                  </a:lnTo>
                  <a:lnTo>
                    <a:pt x="167640" y="1217930"/>
                  </a:lnTo>
                  <a:lnTo>
                    <a:pt x="193040" y="1221740"/>
                  </a:lnTo>
                  <a:lnTo>
                    <a:pt x="219711" y="1228090"/>
                  </a:lnTo>
                  <a:lnTo>
                    <a:pt x="247650" y="1231899"/>
                  </a:lnTo>
                  <a:lnTo>
                    <a:pt x="275590" y="1235710"/>
                  </a:lnTo>
                  <a:lnTo>
                    <a:pt x="304800" y="1238249"/>
                  </a:lnTo>
                  <a:lnTo>
                    <a:pt x="334011" y="1239519"/>
                  </a:lnTo>
                  <a:lnTo>
                    <a:pt x="394971" y="1240790"/>
                  </a:lnTo>
                  <a:lnTo>
                    <a:pt x="454661" y="1239519"/>
                  </a:lnTo>
                  <a:lnTo>
                    <a:pt x="485140" y="1238249"/>
                  </a:lnTo>
                  <a:lnTo>
                    <a:pt x="514350" y="1235710"/>
                  </a:lnTo>
                  <a:lnTo>
                    <a:pt x="542290" y="1231899"/>
                  </a:lnTo>
                  <a:lnTo>
                    <a:pt x="571500" y="1228090"/>
                  </a:lnTo>
                  <a:lnTo>
                    <a:pt x="599440" y="1221740"/>
                  </a:lnTo>
                  <a:lnTo>
                    <a:pt x="626111" y="1217930"/>
                  </a:lnTo>
                  <a:lnTo>
                    <a:pt x="651511" y="1211580"/>
                  </a:lnTo>
                  <a:lnTo>
                    <a:pt x="674371" y="1203960"/>
                  </a:lnTo>
                  <a:lnTo>
                    <a:pt x="697231" y="1196340"/>
                  </a:lnTo>
                  <a:lnTo>
                    <a:pt x="718820" y="1187449"/>
                  </a:lnTo>
                  <a:lnTo>
                    <a:pt x="737870" y="1178560"/>
                  </a:lnTo>
                  <a:lnTo>
                    <a:pt x="755651" y="1167130"/>
                  </a:lnTo>
                  <a:lnTo>
                    <a:pt x="770890" y="1155699"/>
                  </a:lnTo>
                  <a:lnTo>
                    <a:pt x="783590" y="1145540"/>
                  </a:lnTo>
                  <a:lnTo>
                    <a:pt x="792481" y="1136649"/>
                  </a:lnTo>
                  <a:lnTo>
                    <a:pt x="797561" y="1129030"/>
                  </a:lnTo>
                  <a:lnTo>
                    <a:pt x="802640" y="1122680"/>
                  </a:lnTo>
                  <a:lnTo>
                    <a:pt x="805181" y="1115060"/>
                  </a:lnTo>
                  <a:lnTo>
                    <a:pt x="806451" y="1109980"/>
                  </a:lnTo>
                  <a:lnTo>
                    <a:pt x="807720"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0" name="Freeform 40"/>
            <p:cNvSpPr/>
            <p:nvPr/>
          </p:nvSpPr>
          <p:spPr>
            <a:xfrm>
              <a:off x="2541600" y="214776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5" h="206122">
                  <a:moveTo>
                    <a:pt x="659893" y="183008"/>
                  </a:moveTo>
                  <a:lnTo>
                    <a:pt x="627380" y="189103"/>
                  </a:lnTo>
                  <a:lnTo>
                    <a:pt x="592709" y="194183"/>
                  </a:lnTo>
                  <a:lnTo>
                    <a:pt x="556896" y="198248"/>
                  </a:lnTo>
                  <a:lnTo>
                    <a:pt x="519812" y="201677"/>
                  </a:lnTo>
                  <a:lnTo>
                    <a:pt x="481839" y="204217"/>
                  </a:lnTo>
                  <a:lnTo>
                    <a:pt x="443358" y="205487"/>
                  </a:lnTo>
                  <a:lnTo>
                    <a:pt x="404623" y="206121"/>
                  </a:lnTo>
                  <a:lnTo>
                    <a:pt x="365887" y="205487"/>
                  </a:lnTo>
                  <a:lnTo>
                    <a:pt x="327406" y="204217"/>
                  </a:lnTo>
                  <a:lnTo>
                    <a:pt x="289433" y="201677"/>
                  </a:lnTo>
                  <a:lnTo>
                    <a:pt x="252603" y="198248"/>
                  </a:lnTo>
                  <a:lnTo>
                    <a:pt x="216536" y="194183"/>
                  </a:lnTo>
                  <a:lnTo>
                    <a:pt x="182118" y="189103"/>
                  </a:lnTo>
                  <a:lnTo>
                    <a:pt x="149352" y="183008"/>
                  </a:lnTo>
                  <a:lnTo>
                    <a:pt x="118746" y="175768"/>
                  </a:lnTo>
                  <a:lnTo>
                    <a:pt x="104268" y="171831"/>
                  </a:lnTo>
                  <a:lnTo>
                    <a:pt x="90933" y="168021"/>
                  </a:lnTo>
                  <a:lnTo>
                    <a:pt x="78359" y="164084"/>
                  </a:lnTo>
                  <a:lnTo>
                    <a:pt x="66930" y="159640"/>
                  </a:lnTo>
                  <a:lnTo>
                    <a:pt x="56262" y="155449"/>
                  </a:lnTo>
                  <a:lnTo>
                    <a:pt x="46483" y="150749"/>
                  </a:lnTo>
                  <a:lnTo>
                    <a:pt x="29846" y="141605"/>
                  </a:lnTo>
                  <a:lnTo>
                    <a:pt x="17018" y="132334"/>
                  </a:lnTo>
                  <a:lnTo>
                    <a:pt x="7748" y="122683"/>
                  </a:lnTo>
                  <a:lnTo>
                    <a:pt x="2033" y="112903"/>
                  </a:lnTo>
                  <a:lnTo>
                    <a:pt x="0" y="103252"/>
                  </a:lnTo>
                  <a:lnTo>
                    <a:pt x="2033" y="93218"/>
                  </a:lnTo>
                  <a:lnTo>
                    <a:pt x="7748" y="83186"/>
                  </a:lnTo>
                  <a:lnTo>
                    <a:pt x="17018" y="73787"/>
                  </a:lnTo>
                  <a:lnTo>
                    <a:pt x="29846" y="64262"/>
                  </a:lnTo>
                  <a:lnTo>
                    <a:pt x="46483" y="55118"/>
                  </a:lnTo>
                  <a:lnTo>
                    <a:pt x="56262" y="50674"/>
                  </a:lnTo>
                  <a:lnTo>
                    <a:pt x="66930" y="46483"/>
                  </a:lnTo>
                  <a:lnTo>
                    <a:pt x="78359" y="42292"/>
                  </a:lnTo>
                  <a:lnTo>
                    <a:pt x="90933" y="38100"/>
                  </a:lnTo>
                  <a:lnTo>
                    <a:pt x="104268" y="34037"/>
                  </a:lnTo>
                  <a:lnTo>
                    <a:pt x="118746" y="30099"/>
                  </a:lnTo>
                  <a:lnTo>
                    <a:pt x="149352" y="23115"/>
                  </a:lnTo>
                  <a:lnTo>
                    <a:pt x="182118" y="17018"/>
                  </a:lnTo>
                  <a:lnTo>
                    <a:pt x="216536" y="12065"/>
                  </a:lnTo>
                  <a:lnTo>
                    <a:pt x="252603" y="7621"/>
                  </a:lnTo>
                  <a:lnTo>
                    <a:pt x="289433" y="4192"/>
                  </a:lnTo>
                  <a:lnTo>
                    <a:pt x="327406" y="2033"/>
                  </a:lnTo>
                  <a:lnTo>
                    <a:pt x="365887" y="636"/>
                  </a:lnTo>
                  <a:lnTo>
                    <a:pt x="404623" y="0"/>
                  </a:lnTo>
                  <a:lnTo>
                    <a:pt x="443358" y="636"/>
                  </a:lnTo>
                  <a:lnTo>
                    <a:pt x="481839" y="2033"/>
                  </a:lnTo>
                  <a:lnTo>
                    <a:pt x="519812" y="4192"/>
                  </a:lnTo>
                  <a:lnTo>
                    <a:pt x="556896" y="7621"/>
                  </a:lnTo>
                  <a:lnTo>
                    <a:pt x="592709" y="12065"/>
                  </a:lnTo>
                  <a:lnTo>
                    <a:pt x="627380" y="17018"/>
                  </a:lnTo>
                  <a:lnTo>
                    <a:pt x="659893" y="23115"/>
                  </a:lnTo>
                  <a:lnTo>
                    <a:pt x="690499" y="30099"/>
                  </a:lnTo>
                  <a:lnTo>
                    <a:pt x="705231" y="34037"/>
                  </a:lnTo>
                  <a:lnTo>
                    <a:pt x="718313" y="38100"/>
                  </a:lnTo>
                  <a:lnTo>
                    <a:pt x="730886" y="42292"/>
                  </a:lnTo>
                  <a:lnTo>
                    <a:pt x="742569" y="46483"/>
                  </a:lnTo>
                  <a:lnTo>
                    <a:pt x="752983" y="50674"/>
                  </a:lnTo>
                  <a:lnTo>
                    <a:pt x="762763" y="55118"/>
                  </a:lnTo>
                  <a:lnTo>
                    <a:pt x="779400" y="64262"/>
                  </a:lnTo>
                  <a:lnTo>
                    <a:pt x="792481" y="73787"/>
                  </a:lnTo>
                  <a:lnTo>
                    <a:pt x="801878" y="83186"/>
                  </a:lnTo>
                  <a:lnTo>
                    <a:pt x="807213" y="93218"/>
                  </a:lnTo>
                  <a:lnTo>
                    <a:pt x="809244" y="103252"/>
                  </a:lnTo>
                  <a:lnTo>
                    <a:pt x="807213" y="112903"/>
                  </a:lnTo>
                  <a:lnTo>
                    <a:pt x="801878" y="122683"/>
                  </a:lnTo>
                  <a:lnTo>
                    <a:pt x="792481" y="132334"/>
                  </a:lnTo>
                  <a:lnTo>
                    <a:pt x="779400" y="141605"/>
                  </a:lnTo>
                  <a:lnTo>
                    <a:pt x="762763" y="150749"/>
                  </a:lnTo>
                  <a:lnTo>
                    <a:pt x="752983" y="155449"/>
                  </a:lnTo>
                  <a:lnTo>
                    <a:pt x="742569" y="159640"/>
                  </a:lnTo>
                  <a:lnTo>
                    <a:pt x="730886" y="164084"/>
                  </a:lnTo>
                  <a:lnTo>
                    <a:pt x="718313"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1" name="Freeform 41"/>
            <p:cNvSpPr/>
            <p:nvPr/>
          </p:nvSpPr>
          <p:spPr>
            <a:xfrm>
              <a:off x="2542320" y="214848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1" y="175261"/>
                  </a:moveTo>
                  <a:lnTo>
                    <a:pt x="704850" y="171450"/>
                  </a:lnTo>
                  <a:lnTo>
                    <a:pt x="716281" y="167640"/>
                  </a:lnTo>
                  <a:lnTo>
                    <a:pt x="730251" y="163831"/>
                  </a:lnTo>
                  <a:lnTo>
                    <a:pt x="741681" y="158750"/>
                  </a:lnTo>
                  <a:lnTo>
                    <a:pt x="751840" y="154940"/>
                  </a:lnTo>
                  <a:lnTo>
                    <a:pt x="762001" y="149861"/>
                  </a:lnTo>
                  <a:lnTo>
                    <a:pt x="778511" y="139700"/>
                  </a:lnTo>
                  <a:lnTo>
                    <a:pt x="792481" y="132081"/>
                  </a:lnTo>
                  <a:lnTo>
                    <a:pt x="801370" y="121921"/>
                  </a:lnTo>
                  <a:lnTo>
                    <a:pt x="806451" y="111761"/>
                  </a:lnTo>
                  <a:lnTo>
                    <a:pt x="808990" y="102871"/>
                  </a:lnTo>
                  <a:lnTo>
                    <a:pt x="806451" y="92711"/>
                  </a:lnTo>
                  <a:lnTo>
                    <a:pt x="801370" y="82550"/>
                  </a:lnTo>
                  <a:lnTo>
                    <a:pt x="792481" y="73661"/>
                  </a:lnTo>
                  <a:lnTo>
                    <a:pt x="778511" y="63500"/>
                  </a:lnTo>
                  <a:lnTo>
                    <a:pt x="762001" y="54611"/>
                  </a:lnTo>
                  <a:lnTo>
                    <a:pt x="751840" y="49531"/>
                  </a:lnTo>
                  <a:lnTo>
                    <a:pt x="741681" y="45721"/>
                  </a:lnTo>
                  <a:lnTo>
                    <a:pt x="730251" y="41911"/>
                  </a:lnTo>
                  <a:lnTo>
                    <a:pt x="716281" y="36831"/>
                  </a:lnTo>
                  <a:lnTo>
                    <a:pt x="704850" y="33021"/>
                  </a:lnTo>
                  <a:lnTo>
                    <a:pt x="689611" y="29211"/>
                  </a:lnTo>
                  <a:lnTo>
                    <a:pt x="657861" y="22861"/>
                  </a:lnTo>
                  <a:lnTo>
                    <a:pt x="626111" y="16511"/>
                  </a:lnTo>
                  <a:lnTo>
                    <a:pt x="593090" y="10161"/>
                  </a:lnTo>
                  <a:lnTo>
                    <a:pt x="556261" y="7621"/>
                  </a:lnTo>
                  <a:lnTo>
                    <a:pt x="519431" y="3811"/>
                  </a:lnTo>
                  <a:lnTo>
                    <a:pt x="481331" y="1271"/>
                  </a:lnTo>
                  <a:lnTo>
                    <a:pt x="441961" y="0"/>
                  </a:lnTo>
                  <a:lnTo>
                    <a:pt x="403861" y="0"/>
                  </a:lnTo>
                  <a:lnTo>
                    <a:pt x="365761" y="0"/>
                  </a:lnTo>
                  <a:lnTo>
                    <a:pt x="326390" y="1271"/>
                  </a:lnTo>
                  <a:lnTo>
                    <a:pt x="289561" y="3811"/>
                  </a:lnTo>
                  <a:lnTo>
                    <a:pt x="252731" y="7621"/>
                  </a:lnTo>
                  <a:lnTo>
                    <a:pt x="215900" y="10161"/>
                  </a:lnTo>
                  <a:lnTo>
                    <a:pt x="181611" y="16511"/>
                  </a:lnTo>
                  <a:lnTo>
                    <a:pt x="148590" y="22861"/>
                  </a:lnTo>
                  <a:lnTo>
                    <a:pt x="116840" y="29211"/>
                  </a:lnTo>
                  <a:lnTo>
                    <a:pt x="102871" y="33021"/>
                  </a:lnTo>
                  <a:lnTo>
                    <a:pt x="90171" y="36831"/>
                  </a:lnTo>
                  <a:lnTo>
                    <a:pt x="77471" y="41911"/>
                  </a:lnTo>
                  <a:lnTo>
                    <a:pt x="66040" y="45721"/>
                  </a:lnTo>
                  <a:lnTo>
                    <a:pt x="54611" y="49531"/>
                  </a:lnTo>
                  <a:lnTo>
                    <a:pt x="45721" y="54611"/>
                  </a:lnTo>
                  <a:lnTo>
                    <a:pt x="29211" y="63500"/>
                  </a:lnTo>
                  <a:lnTo>
                    <a:pt x="16511" y="73661"/>
                  </a:lnTo>
                  <a:lnTo>
                    <a:pt x="7621" y="82550"/>
                  </a:lnTo>
                  <a:lnTo>
                    <a:pt x="1271" y="92711"/>
                  </a:lnTo>
                  <a:lnTo>
                    <a:pt x="0" y="102871"/>
                  </a:lnTo>
                  <a:lnTo>
                    <a:pt x="1271" y="111761"/>
                  </a:lnTo>
                  <a:lnTo>
                    <a:pt x="7621" y="121921"/>
                  </a:lnTo>
                  <a:lnTo>
                    <a:pt x="16511" y="132081"/>
                  </a:lnTo>
                  <a:lnTo>
                    <a:pt x="29211" y="139700"/>
                  </a:lnTo>
                  <a:lnTo>
                    <a:pt x="45721" y="149861"/>
                  </a:lnTo>
                  <a:lnTo>
                    <a:pt x="54611" y="154940"/>
                  </a:lnTo>
                  <a:lnTo>
                    <a:pt x="66040" y="158750"/>
                  </a:lnTo>
                  <a:lnTo>
                    <a:pt x="77471" y="163831"/>
                  </a:lnTo>
                  <a:lnTo>
                    <a:pt x="90171" y="167640"/>
                  </a:lnTo>
                  <a:lnTo>
                    <a:pt x="102871" y="171450"/>
                  </a:lnTo>
                  <a:lnTo>
                    <a:pt x="116840" y="175261"/>
                  </a:lnTo>
                  <a:lnTo>
                    <a:pt x="148590" y="181611"/>
                  </a:lnTo>
                  <a:lnTo>
                    <a:pt x="181611" y="187961"/>
                  </a:lnTo>
                  <a:lnTo>
                    <a:pt x="215900" y="193040"/>
                  </a:lnTo>
                  <a:lnTo>
                    <a:pt x="252731" y="198121"/>
                  </a:lnTo>
                  <a:lnTo>
                    <a:pt x="289561" y="200661"/>
                  </a:lnTo>
                  <a:lnTo>
                    <a:pt x="326390" y="204471"/>
                  </a:lnTo>
                  <a:lnTo>
                    <a:pt x="365761" y="204471"/>
                  </a:lnTo>
                  <a:lnTo>
                    <a:pt x="403861" y="205740"/>
                  </a:lnTo>
                  <a:lnTo>
                    <a:pt x="441961" y="204471"/>
                  </a:lnTo>
                  <a:lnTo>
                    <a:pt x="481331" y="204471"/>
                  </a:lnTo>
                  <a:lnTo>
                    <a:pt x="519431" y="200661"/>
                  </a:lnTo>
                  <a:lnTo>
                    <a:pt x="556261" y="198121"/>
                  </a:lnTo>
                  <a:lnTo>
                    <a:pt x="593090" y="193040"/>
                  </a:lnTo>
                  <a:lnTo>
                    <a:pt x="626111" y="187961"/>
                  </a:lnTo>
                  <a:lnTo>
                    <a:pt x="657861"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2" name="Freeform 42"/>
            <p:cNvSpPr/>
            <p:nvPr/>
          </p:nvSpPr>
          <p:spPr>
            <a:xfrm>
              <a:off x="2569320" y="232164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0" h="1127507">
                  <a:moveTo>
                    <a:pt x="26797" y="11303"/>
                  </a:moveTo>
                  <a:lnTo>
                    <a:pt x="45974" y="17525"/>
                  </a:lnTo>
                  <a:lnTo>
                    <a:pt x="65912" y="23368"/>
                  </a:lnTo>
                  <a:lnTo>
                    <a:pt x="87122" y="28828"/>
                  </a:lnTo>
                  <a:lnTo>
                    <a:pt x="109600" y="34162"/>
                  </a:lnTo>
                  <a:lnTo>
                    <a:pt x="132715" y="38607"/>
                  </a:lnTo>
                  <a:lnTo>
                    <a:pt x="157099" y="42799"/>
                  </a:lnTo>
                  <a:lnTo>
                    <a:pt x="181990" y="46609"/>
                  </a:lnTo>
                  <a:lnTo>
                    <a:pt x="207518" y="50037"/>
                  </a:lnTo>
                  <a:lnTo>
                    <a:pt x="233806" y="52578"/>
                  </a:lnTo>
                  <a:lnTo>
                    <a:pt x="287528" y="57277"/>
                  </a:lnTo>
                  <a:lnTo>
                    <a:pt x="342391" y="60071"/>
                  </a:lnTo>
                  <a:lnTo>
                    <a:pt x="397382" y="60832"/>
                  </a:lnTo>
                  <a:lnTo>
                    <a:pt x="452119" y="60071"/>
                  </a:lnTo>
                  <a:lnTo>
                    <a:pt x="505332" y="57022"/>
                  </a:lnTo>
                  <a:lnTo>
                    <a:pt x="531368" y="55118"/>
                  </a:lnTo>
                  <a:lnTo>
                    <a:pt x="556768" y="52578"/>
                  </a:lnTo>
                  <a:lnTo>
                    <a:pt x="581278" y="49403"/>
                  </a:lnTo>
                  <a:lnTo>
                    <a:pt x="605409" y="45847"/>
                  </a:lnTo>
                  <a:lnTo>
                    <a:pt x="628269" y="41909"/>
                  </a:lnTo>
                  <a:lnTo>
                    <a:pt x="650112" y="37591"/>
                  </a:lnTo>
                  <a:lnTo>
                    <a:pt x="670813" y="32512"/>
                  </a:lnTo>
                  <a:lnTo>
                    <a:pt x="690499" y="26924"/>
                  </a:lnTo>
                  <a:lnTo>
                    <a:pt x="708787" y="21209"/>
                  </a:lnTo>
                  <a:lnTo>
                    <a:pt x="725677" y="14731"/>
                  </a:lnTo>
                  <a:lnTo>
                    <a:pt x="741299" y="7493"/>
                  </a:lnTo>
                  <a:lnTo>
                    <a:pt x="755269" y="0"/>
                  </a:lnTo>
                  <a:lnTo>
                    <a:pt x="755269" y="1016126"/>
                  </a:lnTo>
                  <a:lnTo>
                    <a:pt x="737108" y="1030732"/>
                  </a:lnTo>
                  <a:lnTo>
                    <a:pt x="717803" y="1044447"/>
                  </a:lnTo>
                  <a:lnTo>
                    <a:pt x="697357" y="1057147"/>
                  </a:lnTo>
                  <a:lnTo>
                    <a:pt x="675766" y="1068577"/>
                  </a:lnTo>
                  <a:lnTo>
                    <a:pt x="653415" y="1078864"/>
                  </a:lnTo>
                  <a:lnTo>
                    <a:pt x="629919" y="1088263"/>
                  </a:lnTo>
                  <a:lnTo>
                    <a:pt x="605409" y="1096645"/>
                  </a:lnTo>
                  <a:lnTo>
                    <a:pt x="580516" y="1103630"/>
                  </a:lnTo>
                  <a:lnTo>
                    <a:pt x="554609" y="1109980"/>
                  </a:lnTo>
                  <a:lnTo>
                    <a:pt x="528319" y="1115059"/>
                  </a:lnTo>
                  <a:lnTo>
                    <a:pt x="501522" y="1119505"/>
                  </a:lnTo>
                  <a:lnTo>
                    <a:pt x="474344" y="1122807"/>
                  </a:lnTo>
                  <a:lnTo>
                    <a:pt x="447040" y="1125346"/>
                  </a:lnTo>
                  <a:lnTo>
                    <a:pt x="419481" y="1126744"/>
                  </a:lnTo>
                  <a:lnTo>
                    <a:pt x="364235" y="1127506"/>
                  </a:lnTo>
                  <a:lnTo>
                    <a:pt x="309372" y="1124965"/>
                  </a:lnTo>
                  <a:lnTo>
                    <a:pt x="282447" y="1122171"/>
                  </a:lnTo>
                  <a:lnTo>
                    <a:pt x="255650" y="1119251"/>
                  </a:lnTo>
                  <a:lnTo>
                    <a:pt x="229362" y="1115059"/>
                  </a:lnTo>
                  <a:lnTo>
                    <a:pt x="204088" y="1110233"/>
                  </a:lnTo>
                  <a:lnTo>
                    <a:pt x="178943" y="1105026"/>
                  </a:lnTo>
                  <a:lnTo>
                    <a:pt x="154812" y="1098931"/>
                  </a:lnTo>
                  <a:lnTo>
                    <a:pt x="131699" y="1092200"/>
                  </a:lnTo>
                  <a:lnTo>
                    <a:pt x="109219" y="1084960"/>
                  </a:lnTo>
                  <a:lnTo>
                    <a:pt x="87756" y="1077214"/>
                  </a:lnTo>
                  <a:lnTo>
                    <a:pt x="67818" y="1068577"/>
                  </a:lnTo>
                  <a:lnTo>
                    <a:pt x="48640" y="1059688"/>
                  </a:lnTo>
                  <a:lnTo>
                    <a:pt x="31241" y="1050163"/>
                  </a:lnTo>
                  <a:lnTo>
                    <a:pt x="14859"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3" name="Freeform 43"/>
            <p:cNvSpPr/>
            <p:nvPr/>
          </p:nvSpPr>
          <p:spPr>
            <a:xfrm>
              <a:off x="3258720" y="257220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6" h="765302">
                  <a:moveTo>
                    <a:pt x="10415" y="65405"/>
                  </a:moveTo>
                  <a:lnTo>
                    <a:pt x="16637" y="54990"/>
                  </a:lnTo>
                  <a:lnTo>
                    <a:pt x="25147" y="44196"/>
                  </a:lnTo>
                  <a:lnTo>
                    <a:pt x="34672" y="34290"/>
                  </a:lnTo>
                  <a:lnTo>
                    <a:pt x="45340" y="24511"/>
                  </a:lnTo>
                  <a:lnTo>
                    <a:pt x="57023" y="15875"/>
                  </a:lnTo>
                  <a:lnTo>
                    <a:pt x="68835" y="8636"/>
                  </a:lnTo>
                  <a:lnTo>
                    <a:pt x="80773" y="3302"/>
                  </a:lnTo>
                  <a:lnTo>
                    <a:pt x="92584" y="0"/>
                  </a:lnTo>
                  <a:lnTo>
                    <a:pt x="105918" y="508"/>
                  </a:lnTo>
                  <a:lnTo>
                    <a:pt x="120397" y="1143"/>
                  </a:lnTo>
                  <a:lnTo>
                    <a:pt x="151258" y="3683"/>
                  </a:lnTo>
                  <a:lnTo>
                    <a:pt x="182627" y="8000"/>
                  </a:lnTo>
                  <a:lnTo>
                    <a:pt x="214630" y="14478"/>
                  </a:lnTo>
                  <a:lnTo>
                    <a:pt x="230124" y="18668"/>
                  </a:lnTo>
                  <a:lnTo>
                    <a:pt x="244856" y="23621"/>
                  </a:lnTo>
                  <a:lnTo>
                    <a:pt x="259335" y="29209"/>
                  </a:lnTo>
                  <a:lnTo>
                    <a:pt x="272797" y="35687"/>
                  </a:lnTo>
                  <a:lnTo>
                    <a:pt x="285242" y="42799"/>
                  </a:lnTo>
                  <a:lnTo>
                    <a:pt x="297054" y="50800"/>
                  </a:lnTo>
                  <a:lnTo>
                    <a:pt x="307086" y="60071"/>
                  </a:lnTo>
                  <a:lnTo>
                    <a:pt x="315849" y="70103"/>
                  </a:lnTo>
                  <a:lnTo>
                    <a:pt x="323469" y="84581"/>
                  </a:lnTo>
                  <a:lnTo>
                    <a:pt x="330581" y="100965"/>
                  </a:lnTo>
                  <a:lnTo>
                    <a:pt x="337440" y="118744"/>
                  </a:lnTo>
                  <a:lnTo>
                    <a:pt x="343790" y="137921"/>
                  </a:lnTo>
                  <a:lnTo>
                    <a:pt x="349504" y="158496"/>
                  </a:lnTo>
                  <a:lnTo>
                    <a:pt x="354585" y="180212"/>
                  </a:lnTo>
                  <a:lnTo>
                    <a:pt x="359537" y="203200"/>
                  </a:lnTo>
                  <a:lnTo>
                    <a:pt x="363855" y="226821"/>
                  </a:lnTo>
                  <a:lnTo>
                    <a:pt x="367666" y="251587"/>
                  </a:lnTo>
                  <a:lnTo>
                    <a:pt x="371222" y="276859"/>
                  </a:lnTo>
                  <a:lnTo>
                    <a:pt x="376429" y="329184"/>
                  </a:lnTo>
                  <a:lnTo>
                    <a:pt x="379223" y="382524"/>
                  </a:lnTo>
                  <a:lnTo>
                    <a:pt x="379985" y="436244"/>
                  </a:lnTo>
                  <a:lnTo>
                    <a:pt x="378461" y="489331"/>
                  </a:lnTo>
                  <a:lnTo>
                    <a:pt x="376810" y="515112"/>
                  </a:lnTo>
                  <a:lnTo>
                    <a:pt x="374269" y="540384"/>
                  </a:lnTo>
                  <a:lnTo>
                    <a:pt x="371222" y="565150"/>
                  </a:lnTo>
                  <a:lnTo>
                    <a:pt x="367666" y="589153"/>
                  </a:lnTo>
                  <a:lnTo>
                    <a:pt x="363348" y="612140"/>
                  </a:lnTo>
                  <a:lnTo>
                    <a:pt x="358522" y="633856"/>
                  </a:lnTo>
                  <a:lnTo>
                    <a:pt x="352679" y="654684"/>
                  </a:lnTo>
                  <a:lnTo>
                    <a:pt x="346456" y="673862"/>
                  </a:lnTo>
                  <a:lnTo>
                    <a:pt x="339344" y="692276"/>
                  </a:lnTo>
                  <a:lnTo>
                    <a:pt x="331724" y="708278"/>
                  </a:lnTo>
                  <a:lnTo>
                    <a:pt x="323216" y="723011"/>
                  </a:lnTo>
                  <a:lnTo>
                    <a:pt x="313944" y="736472"/>
                  </a:lnTo>
                  <a:lnTo>
                    <a:pt x="304166" y="747268"/>
                  </a:lnTo>
                  <a:lnTo>
                    <a:pt x="293117" y="756157"/>
                  </a:lnTo>
                  <a:lnTo>
                    <a:pt x="285750" y="758316"/>
                  </a:lnTo>
                  <a:lnTo>
                    <a:pt x="277623" y="760349"/>
                  </a:lnTo>
                  <a:lnTo>
                    <a:pt x="259842" y="763143"/>
                  </a:lnTo>
                  <a:lnTo>
                    <a:pt x="239904" y="764794"/>
                  </a:lnTo>
                  <a:lnTo>
                    <a:pt x="218694" y="765301"/>
                  </a:lnTo>
                  <a:lnTo>
                    <a:pt x="196088" y="764794"/>
                  </a:lnTo>
                  <a:lnTo>
                    <a:pt x="173355" y="763143"/>
                  </a:lnTo>
                  <a:lnTo>
                    <a:pt x="150115" y="760857"/>
                  </a:lnTo>
                  <a:lnTo>
                    <a:pt x="127509" y="758189"/>
                  </a:lnTo>
                  <a:lnTo>
                    <a:pt x="105665" y="754507"/>
                  </a:lnTo>
                  <a:lnTo>
                    <a:pt x="85217" y="750315"/>
                  </a:lnTo>
                  <a:lnTo>
                    <a:pt x="66548" y="745489"/>
                  </a:lnTo>
                  <a:lnTo>
                    <a:pt x="50292" y="741171"/>
                  </a:lnTo>
                  <a:lnTo>
                    <a:pt x="36577" y="736091"/>
                  </a:lnTo>
                  <a:lnTo>
                    <a:pt x="26162" y="730884"/>
                  </a:lnTo>
                  <a:lnTo>
                    <a:pt x="19178" y="725805"/>
                  </a:lnTo>
                  <a:lnTo>
                    <a:pt x="17146" y="723011"/>
                  </a:lnTo>
                  <a:lnTo>
                    <a:pt x="16384" y="720597"/>
                  </a:lnTo>
                  <a:lnTo>
                    <a:pt x="16384" y="669416"/>
                  </a:lnTo>
                  <a:lnTo>
                    <a:pt x="15367" y="660272"/>
                  </a:lnTo>
                  <a:lnTo>
                    <a:pt x="14733" y="651637"/>
                  </a:lnTo>
                  <a:lnTo>
                    <a:pt x="14733" y="643890"/>
                  </a:lnTo>
                  <a:lnTo>
                    <a:pt x="15622" y="636650"/>
                  </a:lnTo>
                  <a:lnTo>
                    <a:pt x="17146" y="629919"/>
                  </a:lnTo>
                  <a:lnTo>
                    <a:pt x="19178" y="623824"/>
                  </a:lnTo>
                  <a:lnTo>
                    <a:pt x="21844" y="618236"/>
                  </a:lnTo>
                  <a:lnTo>
                    <a:pt x="24892" y="613283"/>
                  </a:lnTo>
                  <a:lnTo>
                    <a:pt x="28703" y="608837"/>
                  </a:lnTo>
                  <a:lnTo>
                    <a:pt x="32767" y="604900"/>
                  </a:lnTo>
                  <a:lnTo>
                    <a:pt x="42673" y="598805"/>
                  </a:lnTo>
                  <a:lnTo>
                    <a:pt x="54103" y="594613"/>
                  </a:lnTo>
                  <a:lnTo>
                    <a:pt x="67184" y="592074"/>
                  </a:lnTo>
                  <a:lnTo>
                    <a:pt x="73787" y="592709"/>
                  </a:lnTo>
                  <a:lnTo>
                    <a:pt x="80011" y="594106"/>
                  </a:lnTo>
                  <a:lnTo>
                    <a:pt x="85472" y="596646"/>
                  </a:lnTo>
                  <a:lnTo>
                    <a:pt x="90933" y="599947"/>
                  </a:lnTo>
                  <a:lnTo>
                    <a:pt x="100458" y="608584"/>
                  </a:lnTo>
                  <a:lnTo>
                    <a:pt x="109729" y="618871"/>
                  </a:lnTo>
                  <a:lnTo>
                    <a:pt x="119635" y="629665"/>
                  </a:lnTo>
                  <a:lnTo>
                    <a:pt x="130175" y="640206"/>
                  </a:lnTo>
                  <a:lnTo>
                    <a:pt x="136525" y="644652"/>
                  </a:lnTo>
                  <a:lnTo>
                    <a:pt x="143129" y="649096"/>
                  </a:lnTo>
                  <a:lnTo>
                    <a:pt x="150496" y="652780"/>
                  </a:lnTo>
                  <a:lnTo>
                    <a:pt x="158623" y="655574"/>
                  </a:lnTo>
                  <a:lnTo>
                    <a:pt x="167386" y="657478"/>
                  </a:lnTo>
                  <a:lnTo>
                    <a:pt x="176404" y="658875"/>
                  </a:lnTo>
                  <a:lnTo>
                    <a:pt x="194946" y="658875"/>
                  </a:lnTo>
                  <a:lnTo>
                    <a:pt x="213487" y="656336"/>
                  </a:lnTo>
                  <a:lnTo>
                    <a:pt x="231522" y="651002"/>
                  </a:lnTo>
                  <a:lnTo>
                    <a:pt x="239904" y="647446"/>
                  </a:lnTo>
                  <a:lnTo>
                    <a:pt x="247650" y="643509"/>
                  </a:lnTo>
                  <a:lnTo>
                    <a:pt x="255017" y="638809"/>
                  </a:lnTo>
                  <a:lnTo>
                    <a:pt x="261874" y="633856"/>
                  </a:lnTo>
                  <a:lnTo>
                    <a:pt x="267843" y="628522"/>
                  </a:lnTo>
                  <a:lnTo>
                    <a:pt x="272797" y="622681"/>
                  </a:lnTo>
                  <a:lnTo>
                    <a:pt x="276861" y="616331"/>
                  </a:lnTo>
                  <a:lnTo>
                    <a:pt x="280162" y="609600"/>
                  </a:lnTo>
                  <a:lnTo>
                    <a:pt x="284227" y="597153"/>
                  </a:lnTo>
                  <a:lnTo>
                    <a:pt x="287783" y="582675"/>
                  </a:lnTo>
                  <a:lnTo>
                    <a:pt x="290704" y="567055"/>
                  </a:lnTo>
                  <a:lnTo>
                    <a:pt x="293117" y="550418"/>
                  </a:lnTo>
                  <a:lnTo>
                    <a:pt x="294894" y="532891"/>
                  </a:lnTo>
                  <a:lnTo>
                    <a:pt x="295911" y="514603"/>
                  </a:lnTo>
                  <a:lnTo>
                    <a:pt x="296546" y="495427"/>
                  </a:lnTo>
                  <a:lnTo>
                    <a:pt x="296546" y="475361"/>
                  </a:lnTo>
                  <a:lnTo>
                    <a:pt x="295911" y="454533"/>
                  </a:lnTo>
                  <a:lnTo>
                    <a:pt x="294513" y="433705"/>
                  </a:lnTo>
                  <a:lnTo>
                    <a:pt x="290196" y="391159"/>
                  </a:lnTo>
                  <a:lnTo>
                    <a:pt x="283337" y="348106"/>
                  </a:lnTo>
                  <a:lnTo>
                    <a:pt x="274448" y="305815"/>
                  </a:lnTo>
                  <a:lnTo>
                    <a:pt x="268860" y="285241"/>
                  </a:lnTo>
                  <a:lnTo>
                    <a:pt x="262891" y="264921"/>
                  </a:lnTo>
                  <a:lnTo>
                    <a:pt x="256286" y="245490"/>
                  </a:lnTo>
                  <a:lnTo>
                    <a:pt x="248921" y="226821"/>
                  </a:lnTo>
                  <a:lnTo>
                    <a:pt x="241300" y="208787"/>
                  </a:lnTo>
                  <a:lnTo>
                    <a:pt x="232918" y="191896"/>
                  </a:lnTo>
                  <a:lnTo>
                    <a:pt x="224155" y="176021"/>
                  </a:lnTo>
                  <a:lnTo>
                    <a:pt x="214630" y="161797"/>
                  </a:lnTo>
                  <a:lnTo>
                    <a:pt x="204217" y="148462"/>
                  </a:lnTo>
                  <a:lnTo>
                    <a:pt x="193803" y="136778"/>
                  </a:lnTo>
                  <a:lnTo>
                    <a:pt x="182373" y="126491"/>
                  </a:lnTo>
                  <a:lnTo>
                    <a:pt x="170561" y="117856"/>
                  </a:lnTo>
                  <a:lnTo>
                    <a:pt x="158116" y="111252"/>
                  </a:lnTo>
                  <a:lnTo>
                    <a:pt x="145288" y="106425"/>
                  </a:lnTo>
                  <a:lnTo>
                    <a:pt x="131827" y="103759"/>
                  </a:lnTo>
                  <a:lnTo>
                    <a:pt x="117603" y="103124"/>
                  </a:lnTo>
                  <a:lnTo>
                    <a:pt x="110236" y="102108"/>
                  </a:lnTo>
                  <a:lnTo>
                    <a:pt x="103760" y="103124"/>
                  </a:lnTo>
                  <a:lnTo>
                    <a:pt x="97536" y="105918"/>
                  </a:lnTo>
                  <a:lnTo>
                    <a:pt x="91694" y="110109"/>
                  </a:lnTo>
                  <a:lnTo>
                    <a:pt x="86361" y="115950"/>
                  </a:lnTo>
                  <a:lnTo>
                    <a:pt x="81154" y="122681"/>
                  </a:lnTo>
                  <a:lnTo>
                    <a:pt x="70740" y="137413"/>
                  </a:lnTo>
                  <a:lnTo>
                    <a:pt x="60072" y="152653"/>
                  </a:lnTo>
                  <a:lnTo>
                    <a:pt x="54103" y="160146"/>
                  </a:lnTo>
                  <a:lnTo>
                    <a:pt x="48006" y="166750"/>
                  </a:lnTo>
                  <a:lnTo>
                    <a:pt x="40894" y="172084"/>
                  </a:lnTo>
                  <a:lnTo>
                    <a:pt x="33529" y="176530"/>
                  </a:lnTo>
                  <a:lnTo>
                    <a:pt x="25400" y="179324"/>
                  </a:lnTo>
                  <a:lnTo>
                    <a:pt x="16384" y="180212"/>
                  </a:lnTo>
                  <a:lnTo>
                    <a:pt x="10668" y="165988"/>
                  </a:lnTo>
                  <a:lnTo>
                    <a:pt x="5716" y="151765"/>
                  </a:lnTo>
                  <a:lnTo>
                    <a:pt x="2413" y="137413"/>
                  </a:lnTo>
                  <a:lnTo>
                    <a:pt x="254"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4" name="Freeform 44"/>
            <p:cNvSpPr/>
            <p:nvPr/>
          </p:nvSpPr>
          <p:spPr>
            <a:xfrm>
              <a:off x="3258720" y="257112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20"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70" y="20320"/>
                  </a:lnTo>
                  <a:lnTo>
                    <a:pt x="245109" y="24129"/>
                  </a:lnTo>
                  <a:lnTo>
                    <a:pt x="260350" y="29210"/>
                  </a:lnTo>
                  <a:lnTo>
                    <a:pt x="273050" y="36829"/>
                  </a:lnTo>
                  <a:lnTo>
                    <a:pt x="285750" y="43179"/>
                  </a:lnTo>
                  <a:lnTo>
                    <a:pt x="297180" y="52070"/>
                  </a:lnTo>
                  <a:lnTo>
                    <a:pt x="307339" y="60960"/>
                  </a:lnTo>
                  <a:lnTo>
                    <a:pt x="316230" y="69850"/>
                  </a:lnTo>
                  <a:lnTo>
                    <a:pt x="323850" y="85089"/>
                  </a:lnTo>
                  <a:lnTo>
                    <a:pt x="330200" y="101600"/>
                  </a:lnTo>
                  <a:lnTo>
                    <a:pt x="337820" y="119379"/>
                  </a:lnTo>
                  <a:lnTo>
                    <a:pt x="342900" y="139700"/>
                  </a:lnTo>
                  <a:lnTo>
                    <a:pt x="349250" y="160020"/>
                  </a:lnTo>
                  <a:lnTo>
                    <a:pt x="354330" y="180339"/>
                  </a:lnTo>
                  <a:lnTo>
                    <a:pt x="359409" y="204470"/>
                  </a:lnTo>
                  <a:lnTo>
                    <a:pt x="364489" y="228600"/>
                  </a:lnTo>
                  <a:lnTo>
                    <a:pt x="368300" y="251460"/>
                  </a:lnTo>
                  <a:lnTo>
                    <a:pt x="372109" y="278129"/>
                  </a:lnTo>
                  <a:lnTo>
                    <a:pt x="375920" y="330200"/>
                  </a:lnTo>
                  <a:lnTo>
                    <a:pt x="378459" y="382270"/>
                  </a:lnTo>
                  <a:lnTo>
                    <a:pt x="379730" y="436879"/>
                  </a:lnTo>
                  <a:lnTo>
                    <a:pt x="378459" y="488950"/>
                  </a:lnTo>
                  <a:lnTo>
                    <a:pt x="375920" y="516889"/>
                  </a:lnTo>
                  <a:lnTo>
                    <a:pt x="374650" y="542289"/>
                  </a:lnTo>
                  <a:lnTo>
                    <a:pt x="372109" y="566420"/>
                  </a:lnTo>
                  <a:lnTo>
                    <a:pt x="368300" y="589279"/>
                  </a:lnTo>
                  <a:lnTo>
                    <a:pt x="364489" y="612139"/>
                  </a:lnTo>
                  <a:lnTo>
                    <a:pt x="358139" y="635000"/>
                  </a:lnTo>
                  <a:lnTo>
                    <a:pt x="353059" y="655320"/>
                  </a:lnTo>
                  <a:lnTo>
                    <a:pt x="346709" y="674370"/>
                  </a:lnTo>
                  <a:lnTo>
                    <a:pt x="339089" y="692150"/>
                  </a:lnTo>
                  <a:lnTo>
                    <a:pt x="332739" y="709929"/>
                  </a:lnTo>
                  <a:lnTo>
                    <a:pt x="323850" y="723900"/>
                  </a:lnTo>
                  <a:lnTo>
                    <a:pt x="313689" y="736600"/>
                  </a:lnTo>
                  <a:lnTo>
                    <a:pt x="303530" y="748029"/>
                  </a:lnTo>
                  <a:lnTo>
                    <a:pt x="292100" y="756920"/>
                  </a:lnTo>
                  <a:lnTo>
                    <a:pt x="285750" y="758190"/>
                  </a:lnTo>
                  <a:lnTo>
                    <a:pt x="278130" y="762000"/>
                  </a:lnTo>
                  <a:lnTo>
                    <a:pt x="260350" y="764540"/>
                  </a:lnTo>
                  <a:lnTo>
                    <a:pt x="240030" y="765809"/>
                  </a:lnTo>
                  <a:lnTo>
                    <a:pt x="218439" y="765809"/>
                  </a:lnTo>
                  <a:lnTo>
                    <a:pt x="195580" y="765809"/>
                  </a:lnTo>
                  <a:lnTo>
                    <a:pt x="172720" y="764540"/>
                  </a:lnTo>
                  <a:lnTo>
                    <a:pt x="149859" y="762000"/>
                  </a:lnTo>
                  <a:lnTo>
                    <a:pt x="127000" y="758190"/>
                  </a:lnTo>
                  <a:lnTo>
                    <a:pt x="105409" y="755650"/>
                  </a:lnTo>
                  <a:lnTo>
                    <a:pt x="85089" y="751840"/>
                  </a:lnTo>
                  <a:lnTo>
                    <a:pt x="67309" y="746759"/>
                  </a:lnTo>
                  <a:lnTo>
                    <a:pt x="50800" y="742950"/>
                  </a:lnTo>
                  <a:lnTo>
                    <a:pt x="35559" y="736600"/>
                  </a:lnTo>
                  <a:lnTo>
                    <a:pt x="25400" y="732790"/>
                  </a:lnTo>
                  <a:lnTo>
                    <a:pt x="19050" y="726440"/>
                  </a:lnTo>
                  <a:lnTo>
                    <a:pt x="17780" y="723900"/>
                  </a:lnTo>
                  <a:lnTo>
                    <a:pt x="16509" y="721359"/>
                  </a:lnTo>
                  <a:lnTo>
                    <a:pt x="16509" y="670560"/>
                  </a:lnTo>
                  <a:lnTo>
                    <a:pt x="15239" y="661670"/>
                  </a:lnTo>
                  <a:lnTo>
                    <a:pt x="13970" y="651510"/>
                  </a:lnTo>
                  <a:lnTo>
                    <a:pt x="13970" y="645160"/>
                  </a:lnTo>
                  <a:lnTo>
                    <a:pt x="15239" y="637539"/>
                  </a:lnTo>
                  <a:lnTo>
                    <a:pt x="17780" y="631189"/>
                  </a:lnTo>
                  <a:lnTo>
                    <a:pt x="19050" y="624839"/>
                  </a:lnTo>
                  <a:lnTo>
                    <a:pt x="21589" y="618489"/>
                  </a:lnTo>
                  <a:lnTo>
                    <a:pt x="25400" y="614679"/>
                  </a:lnTo>
                  <a:lnTo>
                    <a:pt x="29209" y="609600"/>
                  </a:lnTo>
                  <a:lnTo>
                    <a:pt x="31750" y="607060"/>
                  </a:lnTo>
                  <a:lnTo>
                    <a:pt x="43180" y="599439"/>
                  </a:lnTo>
                  <a:lnTo>
                    <a:pt x="54609" y="595629"/>
                  </a:lnTo>
                  <a:lnTo>
                    <a:pt x="67309" y="593089"/>
                  </a:lnTo>
                  <a:lnTo>
                    <a:pt x="73659" y="593089"/>
                  </a:lnTo>
                  <a:lnTo>
                    <a:pt x="78739" y="595629"/>
                  </a:lnTo>
                  <a:lnTo>
                    <a:pt x="86359" y="596900"/>
                  </a:lnTo>
                  <a:lnTo>
                    <a:pt x="90170" y="600710"/>
                  </a:lnTo>
                  <a:lnTo>
                    <a:pt x="101600" y="608329"/>
                  </a:lnTo>
                  <a:lnTo>
                    <a:pt x="110489" y="619760"/>
                  </a:lnTo>
                  <a:lnTo>
                    <a:pt x="119380" y="629920"/>
                  </a:lnTo>
                  <a:lnTo>
                    <a:pt x="129539" y="641350"/>
                  </a:lnTo>
                  <a:lnTo>
                    <a:pt x="137159" y="645160"/>
                  </a:lnTo>
                  <a:lnTo>
                    <a:pt x="143509" y="650239"/>
                  </a:lnTo>
                  <a:lnTo>
                    <a:pt x="151130" y="654050"/>
                  </a:lnTo>
                  <a:lnTo>
                    <a:pt x="158750" y="655320"/>
                  </a:lnTo>
                  <a:lnTo>
                    <a:pt x="166370" y="659129"/>
                  </a:lnTo>
                  <a:lnTo>
                    <a:pt x="176530" y="659129"/>
                  </a:lnTo>
                  <a:lnTo>
                    <a:pt x="194309" y="659129"/>
                  </a:lnTo>
                  <a:lnTo>
                    <a:pt x="213359" y="656589"/>
                  </a:lnTo>
                  <a:lnTo>
                    <a:pt x="231139" y="651510"/>
                  </a:lnTo>
                  <a:lnTo>
                    <a:pt x="240030" y="648970"/>
                  </a:lnTo>
                  <a:lnTo>
                    <a:pt x="247650" y="645160"/>
                  </a:lnTo>
                  <a:lnTo>
                    <a:pt x="255270" y="640079"/>
                  </a:lnTo>
                  <a:lnTo>
                    <a:pt x="261620" y="635000"/>
                  </a:lnTo>
                  <a:lnTo>
                    <a:pt x="266700" y="629920"/>
                  </a:lnTo>
                  <a:lnTo>
                    <a:pt x="273050" y="623570"/>
                  </a:lnTo>
                  <a:lnTo>
                    <a:pt x="276859" y="617220"/>
                  </a:lnTo>
                  <a:lnTo>
                    <a:pt x="280670" y="610870"/>
                  </a:lnTo>
                  <a:lnTo>
                    <a:pt x="284480" y="598170"/>
                  </a:lnTo>
                  <a:lnTo>
                    <a:pt x="288289" y="582929"/>
                  </a:lnTo>
                  <a:lnTo>
                    <a:pt x="290830" y="567689"/>
                  </a:lnTo>
                  <a:lnTo>
                    <a:pt x="292100" y="552450"/>
                  </a:lnTo>
                  <a:lnTo>
                    <a:pt x="295909" y="533400"/>
                  </a:lnTo>
                  <a:lnTo>
                    <a:pt x="295909" y="515620"/>
                  </a:lnTo>
                  <a:lnTo>
                    <a:pt x="295909" y="496570"/>
                  </a:lnTo>
                  <a:lnTo>
                    <a:pt x="295909" y="476250"/>
                  </a:lnTo>
                  <a:lnTo>
                    <a:pt x="295909" y="455929"/>
                  </a:lnTo>
                  <a:lnTo>
                    <a:pt x="294639" y="434339"/>
                  </a:lnTo>
                  <a:lnTo>
                    <a:pt x="289559" y="391160"/>
                  </a:lnTo>
                  <a:lnTo>
                    <a:pt x="283209" y="349250"/>
                  </a:lnTo>
                  <a:lnTo>
                    <a:pt x="274320" y="307339"/>
                  </a:lnTo>
                  <a:lnTo>
                    <a:pt x="269239" y="287020"/>
                  </a:lnTo>
                  <a:lnTo>
                    <a:pt x="262889" y="265429"/>
                  </a:lnTo>
                  <a:lnTo>
                    <a:pt x="256539" y="246379"/>
                  </a:lnTo>
                  <a:lnTo>
                    <a:pt x="248920" y="228600"/>
                  </a:lnTo>
                  <a:lnTo>
                    <a:pt x="241300" y="209550"/>
                  </a:lnTo>
                  <a:lnTo>
                    <a:pt x="233680" y="193039"/>
                  </a:lnTo>
                  <a:lnTo>
                    <a:pt x="223520" y="176529"/>
                  </a:lnTo>
                  <a:lnTo>
                    <a:pt x="214630" y="162560"/>
                  </a:lnTo>
                  <a:lnTo>
                    <a:pt x="204470" y="148589"/>
                  </a:lnTo>
                  <a:lnTo>
                    <a:pt x="194309" y="138429"/>
                  </a:lnTo>
                  <a:lnTo>
                    <a:pt x="182880" y="127000"/>
                  </a:lnTo>
                  <a:lnTo>
                    <a:pt x="170180" y="118110"/>
                  </a:lnTo>
                  <a:lnTo>
                    <a:pt x="157480" y="111760"/>
                  </a:lnTo>
                  <a:lnTo>
                    <a:pt x="144780" y="106679"/>
                  </a:lnTo>
                  <a:lnTo>
                    <a:pt x="132080" y="105410"/>
                  </a:lnTo>
                  <a:lnTo>
                    <a:pt x="118109" y="102870"/>
                  </a:lnTo>
                  <a:lnTo>
                    <a:pt x="110489" y="102870"/>
                  </a:lnTo>
                  <a:lnTo>
                    <a:pt x="104139" y="102870"/>
                  </a:lnTo>
                  <a:lnTo>
                    <a:pt x="97789" y="106679"/>
                  </a:lnTo>
                  <a:lnTo>
                    <a:pt x="92709" y="110489"/>
                  </a:lnTo>
                  <a:lnTo>
                    <a:pt x="86359" y="116839"/>
                  </a:lnTo>
                  <a:lnTo>
                    <a:pt x="81280" y="123189"/>
                  </a:lnTo>
                  <a:lnTo>
                    <a:pt x="71120" y="138429"/>
                  </a:lnTo>
                  <a:lnTo>
                    <a:pt x="60959" y="153670"/>
                  </a:lnTo>
                  <a:lnTo>
                    <a:pt x="54609" y="161289"/>
                  </a:lnTo>
                  <a:lnTo>
                    <a:pt x="46989" y="167639"/>
                  </a:lnTo>
                  <a:lnTo>
                    <a:pt x="40639" y="172720"/>
                  </a:lnTo>
                  <a:lnTo>
                    <a:pt x="33020" y="176529"/>
                  </a:lnTo>
                  <a:lnTo>
                    <a:pt x="25400" y="180339"/>
                  </a:lnTo>
                  <a:lnTo>
                    <a:pt x="16509" y="180339"/>
                  </a:lnTo>
                  <a:lnTo>
                    <a:pt x="10159" y="167639"/>
                  </a:lnTo>
                  <a:lnTo>
                    <a:pt x="6350" y="152400"/>
                  </a:lnTo>
                  <a:lnTo>
                    <a:pt x="2539" y="138429"/>
                  </a:lnTo>
                  <a:lnTo>
                    <a:pt x="0" y="123189"/>
                  </a:lnTo>
                  <a:lnTo>
                    <a:pt x="0" y="107950"/>
                  </a:lnTo>
                  <a:lnTo>
                    <a:pt x="2539"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5" name="Freeform 45"/>
            <p:cNvSpPr/>
            <p:nvPr/>
          </p:nvSpPr>
          <p:spPr>
            <a:xfrm>
              <a:off x="3498120" y="264888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4" h="674370">
                  <a:moveTo>
                    <a:pt x="71882" y="2285"/>
                  </a:moveTo>
                  <a:lnTo>
                    <a:pt x="80009" y="15367"/>
                  </a:lnTo>
                  <a:lnTo>
                    <a:pt x="87629" y="31114"/>
                  </a:lnTo>
                  <a:lnTo>
                    <a:pt x="94741" y="48386"/>
                  </a:lnTo>
                  <a:lnTo>
                    <a:pt x="101346" y="67563"/>
                  </a:lnTo>
                  <a:lnTo>
                    <a:pt x="107315" y="88392"/>
                  </a:lnTo>
                  <a:lnTo>
                    <a:pt x="112776" y="110363"/>
                  </a:lnTo>
                  <a:lnTo>
                    <a:pt x="117728" y="133730"/>
                  </a:lnTo>
                  <a:lnTo>
                    <a:pt x="121792" y="157988"/>
                  </a:lnTo>
                  <a:lnTo>
                    <a:pt x="125857" y="182372"/>
                  </a:lnTo>
                  <a:lnTo>
                    <a:pt x="128904" y="207645"/>
                  </a:lnTo>
                  <a:lnTo>
                    <a:pt x="133858" y="258317"/>
                  </a:lnTo>
                  <a:lnTo>
                    <a:pt x="135508" y="283336"/>
                  </a:lnTo>
                  <a:lnTo>
                    <a:pt x="136525" y="308101"/>
                  </a:lnTo>
                  <a:lnTo>
                    <a:pt x="137033" y="331723"/>
                  </a:lnTo>
                  <a:lnTo>
                    <a:pt x="137033" y="354838"/>
                  </a:lnTo>
                  <a:lnTo>
                    <a:pt x="136271" y="376428"/>
                  </a:lnTo>
                  <a:lnTo>
                    <a:pt x="135635" y="397001"/>
                  </a:lnTo>
                  <a:lnTo>
                    <a:pt x="133858" y="435101"/>
                  </a:lnTo>
                  <a:lnTo>
                    <a:pt x="130809" y="470661"/>
                  </a:lnTo>
                  <a:lnTo>
                    <a:pt x="126110" y="504570"/>
                  </a:lnTo>
                  <a:lnTo>
                    <a:pt x="119379" y="537972"/>
                  </a:lnTo>
                  <a:lnTo>
                    <a:pt x="114427" y="554863"/>
                  </a:lnTo>
                  <a:lnTo>
                    <a:pt x="108965" y="572135"/>
                  </a:lnTo>
                  <a:lnTo>
                    <a:pt x="102742" y="589914"/>
                  </a:lnTo>
                  <a:lnTo>
                    <a:pt x="94996" y="608330"/>
                  </a:lnTo>
                  <a:lnTo>
                    <a:pt x="86233" y="627380"/>
                  </a:lnTo>
                  <a:lnTo>
                    <a:pt x="76453" y="647445"/>
                  </a:lnTo>
                  <a:lnTo>
                    <a:pt x="71246" y="653287"/>
                  </a:lnTo>
                  <a:lnTo>
                    <a:pt x="65023" y="659383"/>
                  </a:lnTo>
                  <a:lnTo>
                    <a:pt x="57912" y="664972"/>
                  </a:lnTo>
                  <a:lnTo>
                    <a:pt x="50291" y="669670"/>
                  </a:lnTo>
                  <a:lnTo>
                    <a:pt x="42545" y="672973"/>
                  </a:lnTo>
                  <a:lnTo>
                    <a:pt x="35178" y="674369"/>
                  </a:lnTo>
                  <a:lnTo>
                    <a:pt x="28447" y="673862"/>
                  </a:lnTo>
                  <a:lnTo>
                    <a:pt x="25400" y="672464"/>
                  </a:lnTo>
                  <a:lnTo>
                    <a:pt x="22733" y="670179"/>
                  </a:lnTo>
                  <a:lnTo>
                    <a:pt x="21590" y="666114"/>
                  </a:lnTo>
                  <a:lnTo>
                    <a:pt x="22733" y="660018"/>
                  </a:lnTo>
                  <a:lnTo>
                    <a:pt x="26034" y="651891"/>
                  </a:lnTo>
                  <a:lnTo>
                    <a:pt x="30098" y="641985"/>
                  </a:lnTo>
                  <a:lnTo>
                    <a:pt x="35559" y="629157"/>
                  </a:lnTo>
                  <a:lnTo>
                    <a:pt x="41783" y="614172"/>
                  </a:lnTo>
                  <a:lnTo>
                    <a:pt x="48387" y="596645"/>
                  </a:lnTo>
                  <a:lnTo>
                    <a:pt x="54609" y="576072"/>
                  </a:lnTo>
                  <a:lnTo>
                    <a:pt x="61087" y="552450"/>
                  </a:lnTo>
                  <a:lnTo>
                    <a:pt x="63881" y="539369"/>
                  </a:lnTo>
                  <a:lnTo>
                    <a:pt x="66675" y="525398"/>
                  </a:lnTo>
                  <a:lnTo>
                    <a:pt x="68833" y="510667"/>
                  </a:lnTo>
                  <a:lnTo>
                    <a:pt x="70992" y="495173"/>
                  </a:lnTo>
                  <a:lnTo>
                    <a:pt x="72644" y="478663"/>
                  </a:lnTo>
                  <a:lnTo>
                    <a:pt x="74295" y="461263"/>
                  </a:lnTo>
                  <a:lnTo>
                    <a:pt x="75057" y="442848"/>
                  </a:lnTo>
                  <a:lnTo>
                    <a:pt x="75438" y="423672"/>
                  </a:lnTo>
                  <a:lnTo>
                    <a:pt x="75057" y="403098"/>
                  </a:lnTo>
                  <a:lnTo>
                    <a:pt x="74548" y="382016"/>
                  </a:lnTo>
                  <a:lnTo>
                    <a:pt x="73152" y="359791"/>
                  </a:lnTo>
                  <a:lnTo>
                    <a:pt x="71246" y="336042"/>
                  </a:lnTo>
                  <a:lnTo>
                    <a:pt x="68579" y="311657"/>
                  </a:lnTo>
                  <a:lnTo>
                    <a:pt x="65277" y="286130"/>
                  </a:lnTo>
                  <a:lnTo>
                    <a:pt x="63119" y="270255"/>
                  </a:lnTo>
                  <a:lnTo>
                    <a:pt x="60706" y="253873"/>
                  </a:lnTo>
                  <a:lnTo>
                    <a:pt x="54356" y="219710"/>
                  </a:lnTo>
                  <a:lnTo>
                    <a:pt x="46354" y="184657"/>
                  </a:lnTo>
                  <a:lnTo>
                    <a:pt x="37465" y="150113"/>
                  </a:lnTo>
                  <a:lnTo>
                    <a:pt x="28194" y="117855"/>
                  </a:lnTo>
                  <a:lnTo>
                    <a:pt x="23240" y="102870"/>
                  </a:lnTo>
                  <a:lnTo>
                    <a:pt x="18669" y="89280"/>
                  </a:lnTo>
                  <a:lnTo>
                    <a:pt x="13715" y="76707"/>
                  </a:lnTo>
                  <a:lnTo>
                    <a:pt x="8763" y="65404"/>
                  </a:lnTo>
                  <a:lnTo>
                    <a:pt x="4317" y="55879"/>
                  </a:lnTo>
                  <a:lnTo>
                    <a:pt x="0" y="48132"/>
                  </a:lnTo>
                  <a:lnTo>
                    <a:pt x="4952" y="37845"/>
                  </a:lnTo>
                  <a:lnTo>
                    <a:pt x="12065" y="27813"/>
                  </a:lnTo>
                  <a:lnTo>
                    <a:pt x="20446" y="18669"/>
                  </a:lnTo>
                  <a:lnTo>
                    <a:pt x="30098" y="10795"/>
                  </a:lnTo>
                  <a:lnTo>
                    <a:pt x="40766" y="4698"/>
                  </a:lnTo>
                  <a:lnTo>
                    <a:pt x="51308" y="888"/>
                  </a:lnTo>
                  <a:lnTo>
                    <a:pt x="61976"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Freeform 46"/>
            <p:cNvSpPr/>
            <p:nvPr/>
          </p:nvSpPr>
          <p:spPr>
            <a:xfrm>
              <a:off x="3295800" y="318204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4" y="0"/>
                  </a:moveTo>
                  <a:lnTo>
                    <a:pt x="58801" y="11303"/>
                  </a:lnTo>
                  <a:lnTo>
                    <a:pt x="70484" y="21971"/>
                  </a:lnTo>
                  <a:lnTo>
                    <a:pt x="82803" y="31115"/>
                  </a:lnTo>
                  <a:lnTo>
                    <a:pt x="95250" y="38862"/>
                  </a:lnTo>
                  <a:lnTo>
                    <a:pt x="107823" y="45847"/>
                  </a:lnTo>
                  <a:lnTo>
                    <a:pt x="120776" y="51307"/>
                  </a:lnTo>
                  <a:lnTo>
                    <a:pt x="133476" y="55499"/>
                  </a:lnTo>
                  <a:lnTo>
                    <a:pt x="146431" y="58293"/>
                  </a:lnTo>
                  <a:lnTo>
                    <a:pt x="159003" y="59690"/>
                  </a:lnTo>
                  <a:lnTo>
                    <a:pt x="171450" y="59690"/>
                  </a:lnTo>
                  <a:lnTo>
                    <a:pt x="183769"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20"/>
                  </a:lnTo>
                  <a:lnTo>
                    <a:pt x="202057" y="100583"/>
                  </a:lnTo>
                  <a:lnTo>
                    <a:pt x="194690" y="105028"/>
                  </a:lnTo>
                  <a:lnTo>
                    <a:pt x="186563" y="107822"/>
                  </a:lnTo>
                  <a:lnTo>
                    <a:pt x="178053" y="109220"/>
                  </a:lnTo>
                  <a:lnTo>
                    <a:pt x="169037" y="109474"/>
                  </a:lnTo>
                  <a:lnTo>
                    <a:pt x="150494" y="107822"/>
                  </a:lnTo>
                  <a:lnTo>
                    <a:pt x="132461" y="105283"/>
                  </a:lnTo>
                  <a:lnTo>
                    <a:pt x="100457" y="100583"/>
                  </a:lnTo>
                  <a:lnTo>
                    <a:pt x="84074" y="98044"/>
                  </a:lnTo>
                  <a:lnTo>
                    <a:pt x="68326" y="94107"/>
                  </a:lnTo>
                  <a:lnTo>
                    <a:pt x="52958" y="89153"/>
                  </a:lnTo>
                  <a:lnTo>
                    <a:pt x="38226" y="82803"/>
                  </a:lnTo>
                  <a:lnTo>
                    <a:pt x="25145" y="74421"/>
                  </a:lnTo>
                  <a:lnTo>
                    <a:pt x="19176" y="69722"/>
                  </a:lnTo>
                  <a:lnTo>
                    <a:pt x="13462" y="63881"/>
                  </a:lnTo>
                  <a:lnTo>
                    <a:pt x="6857" y="54990"/>
                  </a:lnTo>
                  <a:lnTo>
                    <a:pt x="2032" y="44450"/>
                  </a:lnTo>
                  <a:lnTo>
                    <a:pt x="0" y="33019"/>
                  </a:lnTo>
                  <a:lnTo>
                    <a:pt x="634" y="28066"/>
                  </a:lnTo>
                  <a:lnTo>
                    <a:pt x="2158" y="22987"/>
                  </a:lnTo>
                  <a:lnTo>
                    <a:pt x="5588" y="18034"/>
                  </a:lnTo>
                  <a:lnTo>
                    <a:pt x="9651" y="13843"/>
                  </a:lnTo>
                  <a:lnTo>
                    <a:pt x="15367" y="10287"/>
                  </a:lnTo>
                  <a:lnTo>
                    <a:pt x="21589" y="7112"/>
                  </a:lnTo>
                  <a:lnTo>
                    <a:pt x="35051"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7" name="Freeform 47"/>
            <p:cNvSpPr/>
            <p:nvPr/>
          </p:nvSpPr>
          <p:spPr>
            <a:xfrm>
              <a:off x="3270600" y="264456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4" h="97919">
                  <a:moveTo>
                    <a:pt x="0" y="83186"/>
                  </a:moveTo>
                  <a:lnTo>
                    <a:pt x="762" y="77343"/>
                  </a:lnTo>
                  <a:lnTo>
                    <a:pt x="2413" y="71502"/>
                  </a:lnTo>
                  <a:lnTo>
                    <a:pt x="5080" y="65405"/>
                  </a:lnTo>
                  <a:lnTo>
                    <a:pt x="13081" y="53468"/>
                  </a:lnTo>
                  <a:lnTo>
                    <a:pt x="23240" y="41784"/>
                  </a:lnTo>
                  <a:lnTo>
                    <a:pt x="35178" y="30608"/>
                  </a:lnTo>
                  <a:lnTo>
                    <a:pt x="47497" y="20955"/>
                  </a:lnTo>
                  <a:lnTo>
                    <a:pt x="59436" y="12827"/>
                  </a:lnTo>
                  <a:lnTo>
                    <a:pt x="70103" y="6477"/>
                  </a:lnTo>
                  <a:lnTo>
                    <a:pt x="76962" y="3430"/>
                  </a:lnTo>
                  <a:lnTo>
                    <a:pt x="84327" y="1397"/>
                  </a:lnTo>
                  <a:lnTo>
                    <a:pt x="92582" y="381"/>
                  </a:lnTo>
                  <a:lnTo>
                    <a:pt x="101219" y="0"/>
                  </a:lnTo>
                  <a:lnTo>
                    <a:pt x="109982" y="636"/>
                  </a:lnTo>
                  <a:lnTo>
                    <a:pt x="119252" y="2287"/>
                  </a:lnTo>
                  <a:lnTo>
                    <a:pt x="137540" y="6986"/>
                  </a:lnTo>
                  <a:lnTo>
                    <a:pt x="146557" y="10668"/>
                  </a:lnTo>
                  <a:lnTo>
                    <a:pt x="154939" y="14859"/>
                  </a:lnTo>
                  <a:lnTo>
                    <a:pt x="162940" y="19812"/>
                  </a:lnTo>
                  <a:lnTo>
                    <a:pt x="170561" y="25020"/>
                  </a:lnTo>
                  <a:lnTo>
                    <a:pt x="177419" y="31243"/>
                  </a:lnTo>
                  <a:lnTo>
                    <a:pt x="183133" y="37593"/>
                  </a:lnTo>
                  <a:lnTo>
                    <a:pt x="188087" y="44831"/>
                  </a:lnTo>
                  <a:lnTo>
                    <a:pt x="191643" y="52324"/>
                  </a:lnTo>
                  <a:lnTo>
                    <a:pt x="177672" y="47371"/>
                  </a:lnTo>
                  <a:lnTo>
                    <a:pt x="165734" y="42037"/>
                  </a:lnTo>
                  <a:lnTo>
                    <a:pt x="154432" y="36196"/>
                  </a:lnTo>
                  <a:lnTo>
                    <a:pt x="144399" y="30353"/>
                  </a:lnTo>
                  <a:lnTo>
                    <a:pt x="134874" y="25020"/>
                  </a:lnTo>
                  <a:lnTo>
                    <a:pt x="126111" y="20574"/>
                  </a:lnTo>
                  <a:lnTo>
                    <a:pt x="117347" y="17018"/>
                  </a:lnTo>
                  <a:lnTo>
                    <a:pt x="108965" y="14987"/>
                  </a:lnTo>
                  <a:lnTo>
                    <a:pt x="100330" y="14859"/>
                  </a:lnTo>
                  <a:lnTo>
                    <a:pt x="91694" y="17272"/>
                  </a:lnTo>
                  <a:lnTo>
                    <a:pt x="82676" y="21971"/>
                  </a:lnTo>
                  <a:lnTo>
                    <a:pt x="72897" y="29846"/>
                  </a:lnTo>
                  <a:lnTo>
                    <a:pt x="67437" y="34799"/>
                  </a:lnTo>
                  <a:lnTo>
                    <a:pt x="62230" y="40640"/>
                  </a:lnTo>
                  <a:lnTo>
                    <a:pt x="56514" y="47880"/>
                  </a:lnTo>
                  <a:lnTo>
                    <a:pt x="50419" y="55627"/>
                  </a:lnTo>
                  <a:lnTo>
                    <a:pt x="44195" y="64517"/>
                  </a:lnTo>
                  <a:lnTo>
                    <a:pt x="37338" y="74549"/>
                  </a:lnTo>
                  <a:lnTo>
                    <a:pt x="30226" y="85599"/>
                  </a:lnTo>
                  <a:lnTo>
                    <a:pt x="22859" y="97918"/>
                  </a:lnTo>
                  <a:lnTo>
                    <a:pt x="16256" y="97409"/>
                  </a:lnTo>
                  <a:lnTo>
                    <a:pt x="9270" y="96267"/>
                  </a:lnTo>
                  <a:lnTo>
                    <a:pt x="3556" y="93472"/>
                  </a:lnTo>
                  <a:lnTo>
                    <a:pt x="1524" y="91568"/>
                  </a:lnTo>
                  <a:lnTo>
                    <a:pt x="507"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Freeform 48"/>
            <p:cNvSpPr/>
            <p:nvPr/>
          </p:nvSpPr>
          <p:spPr>
            <a:xfrm>
              <a:off x="2563560" y="218340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7" y="148718"/>
                  </a:moveTo>
                  <a:lnTo>
                    <a:pt x="591185" y="153671"/>
                  </a:lnTo>
                  <a:lnTo>
                    <a:pt x="558674" y="157862"/>
                  </a:lnTo>
                  <a:lnTo>
                    <a:pt x="524891" y="161163"/>
                  </a:lnTo>
                  <a:lnTo>
                    <a:pt x="489966" y="163958"/>
                  </a:lnTo>
                  <a:lnTo>
                    <a:pt x="454153" y="165990"/>
                  </a:lnTo>
                  <a:lnTo>
                    <a:pt x="417831" y="167133"/>
                  </a:lnTo>
                  <a:lnTo>
                    <a:pt x="381509" y="167259"/>
                  </a:lnTo>
                  <a:lnTo>
                    <a:pt x="344678" y="167133"/>
                  </a:lnTo>
                  <a:lnTo>
                    <a:pt x="308610" y="165990"/>
                  </a:lnTo>
                  <a:lnTo>
                    <a:pt x="272669" y="163958"/>
                  </a:lnTo>
                  <a:lnTo>
                    <a:pt x="237744" y="161163"/>
                  </a:lnTo>
                  <a:lnTo>
                    <a:pt x="203835" y="157862"/>
                  </a:lnTo>
                  <a:lnTo>
                    <a:pt x="171324" y="153671"/>
                  </a:lnTo>
                  <a:lnTo>
                    <a:pt x="140844" y="148718"/>
                  </a:lnTo>
                  <a:lnTo>
                    <a:pt x="111506" y="142875"/>
                  </a:lnTo>
                  <a:lnTo>
                    <a:pt x="85599" y="136525"/>
                  </a:lnTo>
                  <a:lnTo>
                    <a:pt x="62738" y="129540"/>
                  </a:lnTo>
                  <a:lnTo>
                    <a:pt x="43562" y="122556"/>
                  </a:lnTo>
                  <a:lnTo>
                    <a:pt x="27813" y="115316"/>
                  </a:lnTo>
                  <a:lnTo>
                    <a:pt x="15494" y="107569"/>
                  </a:lnTo>
                  <a:lnTo>
                    <a:pt x="6985" y="99441"/>
                  </a:lnTo>
                  <a:lnTo>
                    <a:pt x="1525" y="91694"/>
                  </a:lnTo>
                  <a:lnTo>
                    <a:pt x="0" y="83693"/>
                  </a:lnTo>
                  <a:lnTo>
                    <a:pt x="1525" y="75565"/>
                  </a:lnTo>
                  <a:lnTo>
                    <a:pt x="6985" y="67818"/>
                  </a:lnTo>
                  <a:lnTo>
                    <a:pt x="15494" y="59818"/>
                  </a:lnTo>
                  <a:lnTo>
                    <a:pt x="27813" y="51943"/>
                  </a:lnTo>
                  <a:lnTo>
                    <a:pt x="43562" y="44450"/>
                  </a:lnTo>
                  <a:lnTo>
                    <a:pt x="62738" y="37465"/>
                  </a:lnTo>
                  <a:lnTo>
                    <a:pt x="85599" y="30862"/>
                  </a:lnTo>
                  <a:lnTo>
                    <a:pt x="111506" y="24512"/>
                  </a:lnTo>
                  <a:lnTo>
                    <a:pt x="140844" y="18543"/>
                  </a:lnTo>
                  <a:lnTo>
                    <a:pt x="171324" y="13590"/>
                  </a:lnTo>
                  <a:lnTo>
                    <a:pt x="203835" y="9399"/>
                  </a:lnTo>
                  <a:lnTo>
                    <a:pt x="237744" y="6096"/>
                  </a:lnTo>
                  <a:lnTo>
                    <a:pt x="272669" y="3303"/>
                  </a:lnTo>
                  <a:lnTo>
                    <a:pt x="308610" y="1397"/>
                  </a:lnTo>
                  <a:lnTo>
                    <a:pt x="344678" y="255"/>
                  </a:lnTo>
                  <a:lnTo>
                    <a:pt x="381509" y="0"/>
                  </a:lnTo>
                  <a:lnTo>
                    <a:pt x="417831" y="255"/>
                  </a:lnTo>
                  <a:lnTo>
                    <a:pt x="454153" y="1397"/>
                  </a:lnTo>
                  <a:lnTo>
                    <a:pt x="489966" y="3303"/>
                  </a:lnTo>
                  <a:lnTo>
                    <a:pt x="524891" y="6096"/>
                  </a:lnTo>
                  <a:lnTo>
                    <a:pt x="558674" y="9399"/>
                  </a:lnTo>
                  <a:lnTo>
                    <a:pt x="591185" y="13590"/>
                  </a:lnTo>
                  <a:lnTo>
                    <a:pt x="622047" y="18543"/>
                  </a:lnTo>
                  <a:lnTo>
                    <a:pt x="651003" y="24512"/>
                  </a:lnTo>
                  <a:lnTo>
                    <a:pt x="677291" y="30862"/>
                  </a:lnTo>
                  <a:lnTo>
                    <a:pt x="700152" y="37465"/>
                  </a:lnTo>
                  <a:lnTo>
                    <a:pt x="718948" y="44450"/>
                  </a:lnTo>
                  <a:lnTo>
                    <a:pt x="734823" y="51943"/>
                  </a:lnTo>
                  <a:lnTo>
                    <a:pt x="747142" y="59818"/>
                  </a:lnTo>
                  <a:lnTo>
                    <a:pt x="755778" y="67818"/>
                  </a:lnTo>
                  <a:lnTo>
                    <a:pt x="760985" y="75565"/>
                  </a:lnTo>
                  <a:lnTo>
                    <a:pt x="762890" y="83693"/>
                  </a:lnTo>
                  <a:lnTo>
                    <a:pt x="760985" y="91694"/>
                  </a:lnTo>
                  <a:lnTo>
                    <a:pt x="755778" y="99441"/>
                  </a:lnTo>
                  <a:lnTo>
                    <a:pt x="747142" y="107569"/>
                  </a:lnTo>
                  <a:lnTo>
                    <a:pt x="734823" y="115316"/>
                  </a:lnTo>
                  <a:lnTo>
                    <a:pt x="718948" y="122556"/>
                  </a:lnTo>
                  <a:lnTo>
                    <a:pt x="700152" y="129540"/>
                  </a:lnTo>
                  <a:lnTo>
                    <a:pt x="677291"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9" name="Freeform 49"/>
            <p:cNvSpPr/>
            <p:nvPr/>
          </p:nvSpPr>
          <p:spPr>
            <a:xfrm>
              <a:off x="3390840" y="264096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6" y="15239"/>
                  </a:lnTo>
                  <a:lnTo>
                    <a:pt x="-32516" y="10160"/>
                  </a:lnTo>
                  <a:lnTo>
                    <a:pt x="24129" y="5079"/>
                  </a:lnTo>
                  <a:lnTo>
                    <a:pt x="15240"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40" name="Freeform 50"/>
            <p:cNvSpPr/>
            <p:nvPr/>
          </p:nvSpPr>
          <p:spPr>
            <a:xfrm>
              <a:off x="3376800" y="327852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5" y="12700"/>
                  </a:lnTo>
                  <a:lnTo>
                    <a:pt x="-28706" y="11430"/>
                  </a:lnTo>
                  <a:lnTo>
                    <a:pt x="29211" y="11430"/>
                  </a:lnTo>
                  <a:lnTo>
                    <a:pt x="22861" y="7619"/>
                  </a:lnTo>
                  <a:lnTo>
                    <a:pt x="11430"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41" name="Freeform 51"/>
            <p:cNvSpPr/>
            <p:nvPr/>
          </p:nvSpPr>
          <p:spPr>
            <a:xfrm>
              <a:off x="2825640" y="236664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39" y="7621"/>
                  </a:lnTo>
                  <a:lnTo>
                    <a:pt x="92710" y="7621"/>
                  </a:lnTo>
                  <a:lnTo>
                    <a:pt x="68579" y="7621"/>
                  </a:lnTo>
                  <a:lnTo>
                    <a:pt x="43179"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42" name="Group 67"/>
          <p:cNvGrpSpPr/>
          <p:nvPr/>
        </p:nvGrpSpPr>
        <p:grpSpPr>
          <a:xfrm>
            <a:off x="5297400" y="2185920"/>
            <a:ext cx="1096920" cy="1344600"/>
            <a:chOff x="5297400" y="2185920"/>
            <a:chExt cx="1096920" cy="1344600"/>
          </a:xfrm>
        </p:grpSpPr>
        <p:sp>
          <p:nvSpPr>
            <p:cNvPr id="543" name="Freeform 53"/>
            <p:cNvSpPr/>
            <p:nvPr/>
          </p:nvSpPr>
          <p:spPr>
            <a:xfrm>
              <a:off x="5297400" y="228888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0">
                  <a:moveTo>
                    <a:pt x="809243" y="0"/>
                  </a:moveTo>
                  <a:lnTo>
                    <a:pt x="809243" y="1093851"/>
                  </a:lnTo>
                  <a:lnTo>
                    <a:pt x="808355" y="1105534"/>
                  </a:lnTo>
                  <a:lnTo>
                    <a:pt x="807593" y="1110741"/>
                  </a:lnTo>
                  <a:lnTo>
                    <a:pt x="805942" y="1116329"/>
                  </a:lnTo>
                  <a:lnTo>
                    <a:pt x="802639" y="1122171"/>
                  </a:lnTo>
                  <a:lnTo>
                    <a:pt x="798322" y="1128903"/>
                  </a:lnTo>
                  <a:lnTo>
                    <a:pt x="791972" y="1136396"/>
                  </a:lnTo>
                  <a:lnTo>
                    <a:pt x="783843" y="1145540"/>
                  </a:lnTo>
                  <a:lnTo>
                    <a:pt x="770762" y="1157223"/>
                  </a:lnTo>
                  <a:lnTo>
                    <a:pt x="755395" y="1168019"/>
                  </a:lnTo>
                  <a:lnTo>
                    <a:pt x="738250" y="1178052"/>
                  </a:lnTo>
                  <a:lnTo>
                    <a:pt x="719074" y="1187830"/>
                  </a:lnTo>
                  <a:lnTo>
                    <a:pt x="697864" y="1196466"/>
                  </a:lnTo>
                  <a:lnTo>
                    <a:pt x="675767" y="1204214"/>
                  </a:lnTo>
                  <a:lnTo>
                    <a:pt x="651382" y="1211453"/>
                  </a:lnTo>
                  <a:lnTo>
                    <a:pt x="625982" y="1217803"/>
                  </a:lnTo>
                  <a:lnTo>
                    <a:pt x="599567" y="1223390"/>
                  </a:lnTo>
                  <a:lnTo>
                    <a:pt x="572262" y="1228471"/>
                  </a:lnTo>
                  <a:lnTo>
                    <a:pt x="543813" y="1232534"/>
                  </a:lnTo>
                  <a:lnTo>
                    <a:pt x="514857" y="1235964"/>
                  </a:lnTo>
                  <a:lnTo>
                    <a:pt x="485393" y="1238377"/>
                  </a:lnTo>
                  <a:lnTo>
                    <a:pt x="455422" y="1240282"/>
                  </a:lnTo>
                  <a:lnTo>
                    <a:pt x="395097" y="1242059"/>
                  </a:lnTo>
                  <a:lnTo>
                    <a:pt x="335025" y="1240282"/>
                  </a:lnTo>
                  <a:lnTo>
                    <a:pt x="305435" y="1238377"/>
                  </a:lnTo>
                  <a:lnTo>
                    <a:pt x="276606" y="1235964"/>
                  </a:lnTo>
                  <a:lnTo>
                    <a:pt x="248157" y="1232534"/>
                  </a:lnTo>
                  <a:lnTo>
                    <a:pt x="220599" y="1228471"/>
                  </a:lnTo>
                  <a:lnTo>
                    <a:pt x="194056" y="1223390"/>
                  </a:lnTo>
                  <a:lnTo>
                    <a:pt x="168782" y="1217803"/>
                  </a:lnTo>
                  <a:lnTo>
                    <a:pt x="144652" y="1211453"/>
                  </a:lnTo>
                  <a:lnTo>
                    <a:pt x="122047" y="1204214"/>
                  </a:lnTo>
                  <a:lnTo>
                    <a:pt x="101092" y="1196466"/>
                  </a:lnTo>
                  <a:lnTo>
                    <a:pt x="81914" y="1187830"/>
                  </a:lnTo>
                  <a:lnTo>
                    <a:pt x="64769" y="1178052"/>
                  </a:lnTo>
                  <a:lnTo>
                    <a:pt x="49149" y="1168019"/>
                  </a:lnTo>
                  <a:lnTo>
                    <a:pt x="36068" y="1157223"/>
                  </a:lnTo>
                  <a:lnTo>
                    <a:pt x="25400" y="1145540"/>
                  </a:lnTo>
                  <a:lnTo>
                    <a:pt x="21081" y="1140840"/>
                  </a:lnTo>
                  <a:lnTo>
                    <a:pt x="17272" y="1136903"/>
                  </a:lnTo>
                  <a:lnTo>
                    <a:pt x="10668" y="1130172"/>
                  </a:lnTo>
                  <a:lnTo>
                    <a:pt x="6350" y="1124711"/>
                  </a:lnTo>
                  <a:lnTo>
                    <a:pt x="3301" y="1119759"/>
                  </a:lnTo>
                  <a:lnTo>
                    <a:pt x="1650"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4" name="Freeform 54"/>
            <p:cNvSpPr/>
            <p:nvPr/>
          </p:nvSpPr>
          <p:spPr>
            <a:xfrm>
              <a:off x="5298120" y="228924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0" h="1240791">
                  <a:moveTo>
                    <a:pt x="0" y="0"/>
                  </a:moveTo>
                  <a:lnTo>
                    <a:pt x="0" y="1093469"/>
                  </a:lnTo>
                  <a:lnTo>
                    <a:pt x="0" y="1101090"/>
                  </a:lnTo>
                  <a:lnTo>
                    <a:pt x="0" y="1108710"/>
                  </a:lnTo>
                  <a:lnTo>
                    <a:pt x="1269" y="1115060"/>
                  </a:lnTo>
                  <a:lnTo>
                    <a:pt x="3810" y="1118869"/>
                  </a:lnTo>
                  <a:lnTo>
                    <a:pt x="5080"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30" y="1196340"/>
                  </a:lnTo>
                  <a:lnTo>
                    <a:pt x="120650" y="1203960"/>
                  </a:lnTo>
                  <a:lnTo>
                    <a:pt x="143510" y="1211580"/>
                  </a:lnTo>
                  <a:lnTo>
                    <a:pt x="167639" y="1217930"/>
                  </a:lnTo>
                  <a:lnTo>
                    <a:pt x="193039" y="1221740"/>
                  </a:lnTo>
                  <a:lnTo>
                    <a:pt x="219710" y="1228090"/>
                  </a:lnTo>
                  <a:lnTo>
                    <a:pt x="247650" y="1231899"/>
                  </a:lnTo>
                  <a:lnTo>
                    <a:pt x="275589" y="1235710"/>
                  </a:lnTo>
                  <a:lnTo>
                    <a:pt x="304800" y="1238249"/>
                  </a:lnTo>
                  <a:lnTo>
                    <a:pt x="334010" y="1239519"/>
                  </a:lnTo>
                  <a:lnTo>
                    <a:pt x="394969" y="1240790"/>
                  </a:lnTo>
                  <a:lnTo>
                    <a:pt x="454660" y="1239519"/>
                  </a:lnTo>
                  <a:lnTo>
                    <a:pt x="485139" y="1238249"/>
                  </a:lnTo>
                  <a:lnTo>
                    <a:pt x="514350" y="1235710"/>
                  </a:lnTo>
                  <a:lnTo>
                    <a:pt x="542289" y="1231899"/>
                  </a:lnTo>
                  <a:lnTo>
                    <a:pt x="571500" y="1228090"/>
                  </a:lnTo>
                  <a:lnTo>
                    <a:pt x="599439" y="1221740"/>
                  </a:lnTo>
                  <a:lnTo>
                    <a:pt x="626110" y="1217930"/>
                  </a:lnTo>
                  <a:lnTo>
                    <a:pt x="651510" y="1211580"/>
                  </a:lnTo>
                  <a:lnTo>
                    <a:pt x="674369" y="1203960"/>
                  </a:lnTo>
                  <a:lnTo>
                    <a:pt x="697230" y="1196340"/>
                  </a:lnTo>
                  <a:lnTo>
                    <a:pt x="718819" y="1187449"/>
                  </a:lnTo>
                  <a:lnTo>
                    <a:pt x="737869" y="1178560"/>
                  </a:lnTo>
                  <a:lnTo>
                    <a:pt x="755650" y="1167130"/>
                  </a:lnTo>
                  <a:lnTo>
                    <a:pt x="770889" y="1155699"/>
                  </a:lnTo>
                  <a:lnTo>
                    <a:pt x="783589" y="1145540"/>
                  </a:lnTo>
                  <a:lnTo>
                    <a:pt x="792480" y="1136649"/>
                  </a:lnTo>
                  <a:lnTo>
                    <a:pt x="797560" y="1129030"/>
                  </a:lnTo>
                  <a:lnTo>
                    <a:pt x="802639" y="1122680"/>
                  </a:lnTo>
                  <a:lnTo>
                    <a:pt x="805180" y="1115060"/>
                  </a:lnTo>
                  <a:lnTo>
                    <a:pt x="806450" y="1109980"/>
                  </a:lnTo>
                  <a:lnTo>
                    <a:pt x="807719" y="1104899"/>
                  </a:lnTo>
                  <a:lnTo>
                    <a:pt x="808989" y="1093469"/>
                  </a:lnTo>
                  <a:lnTo>
                    <a:pt x="808989"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5" name="Freeform 55"/>
            <p:cNvSpPr/>
            <p:nvPr/>
          </p:nvSpPr>
          <p:spPr>
            <a:xfrm>
              <a:off x="5297400" y="218592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2">
                  <a:moveTo>
                    <a:pt x="659892" y="183008"/>
                  </a:moveTo>
                  <a:lnTo>
                    <a:pt x="627380" y="189103"/>
                  </a:lnTo>
                  <a:lnTo>
                    <a:pt x="592708" y="194183"/>
                  </a:lnTo>
                  <a:lnTo>
                    <a:pt x="556894" y="198248"/>
                  </a:lnTo>
                  <a:lnTo>
                    <a:pt x="519811" y="201677"/>
                  </a:lnTo>
                  <a:lnTo>
                    <a:pt x="481837" y="204217"/>
                  </a:lnTo>
                  <a:lnTo>
                    <a:pt x="443356" y="205487"/>
                  </a:lnTo>
                  <a:lnTo>
                    <a:pt x="404622" y="206121"/>
                  </a:lnTo>
                  <a:lnTo>
                    <a:pt x="365887" y="205487"/>
                  </a:lnTo>
                  <a:lnTo>
                    <a:pt x="327406" y="204217"/>
                  </a:lnTo>
                  <a:lnTo>
                    <a:pt x="289432" y="201677"/>
                  </a:lnTo>
                  <a:lnTo>
                    <a:pt x="252602" y="198248"/>
                  </a:lnTo>
                  <a:lnTo>
                    <a:pt x="216535" y="194183"/>
                  </a:lnTo>
                  <a:lnTo>
                    <a:pt x="182118" y="189103"/>
                  </a:lnTo>
                  <a:lnTo>
                    <a:pt x="149351" y="183008"/>
                  </a:lnTo>
                  <a:lnTo>
                    <a:pt x="118744" y="175768"/>
                  </a:lnTo>
                  <a:lnTo>
                    <a:pt x="104267" y="171831"/>
                  </a:lnTo>
                  <a:lnTo>
                    <a:pt x="90931" y="168021"/>
                  </a:lnTo>
                  <a:lnTo>
                    <a:pt x="78358" y="164084"/>
                  </a:lnTo>
                  <a:lnTo>
                    <a:pt x="66929" y="159640"/>
                  </a:lnTo>
                  <a:lnTo>
                    <a:pt x="56261" y="155449"/>
                  </a:lnTo>
                  <a:lnTo>
                    <a:pt x="46481" y="150749"/>
                  </a:lnTo>
                  <a:lnTo>
                    <a:pt x="29844" y="141605"/>
                  </a:lnTo>
                  <a:lnTo>
                    <a:pt x="17018" y="132334"/>
                  </a:lnTo>
                  <a:lnTo>
                    <a:pt x="7747" y="122683"/>
                  </a:lnTo>
                  <a:lnTo>
                    <a:pt x="2031" y="112903"/>
                  </a:lnTo>
                  <a:lnTo>
                    <a:pt x="0" y="103252"/>
                  </a:lnTo>
                  <a:lnTo>
                    <a:pt x="2031" y="93218"/>
                  </a:lnTo>
                  <a:lnTo>
                    <a:pt x="7747" y="83186"/>
                  </a:lnTo>
                  <a:lnTo>
                    <a:pt x="17018" y="73787"/>
                  </a:lnTo>
                  <a:lnTo>
                    <a:pt x="29844" y="64262"/>
                  </a:lnTo>
                  <a:lnTo>
                    <a:pt x="46481" y="55118"/>
                  </a:lnTo>
                  <a:lnTo>
                    <a:pt x="56261" y="50674"/>
                  </a:lnTo>
                  <a:lnTo>
                    <a:pt x="66929" y="46483"/>
                  </a:lnTo>
                  <a:lnTo>
                    <a:pt x="78358" y="42292"/>
                  </a:lnTo>
                  <a:lnTo>
                    <a:pt x="90931" y="38100"/>
                  </a:lnTo>
                  <a:lnTo>
                    <a:pt x="104267" y="34037"/>
                  </a:lnTo>
                  <a:lnTo>
                    <a:pt x="118744" y="30099"/>
                  </a:lnTo>
                  <a:lnTo>
                    <a:pt x="149351" y="23115"/>
                  </a:lnTo>
                  <a:lnTo>
                    <a:pt x="182118" y="17018"/>
                  </a:lnTo>
                  <a:lnTo>
                    <a:pt x="216535" y="12065"/>
                  </a:lnTo>
                  <a:lnTo>
                    <a:pt x="252602" y="7621"/>
                  </a:lnTo>
                  <a:lnTo>
                    <a:pt x="289432" y="4192"/>
                  </a:lnTo>
                  <a:lnTo>
                    <a:pt x="327406" y="2033"/>
                  </a:lnTo>
                  <a:lnTo>
                    <a:pt x="365887" y="636"/>
                  </a:lnTo>
                  <a:lnTo>
                    <a:pt x="404622" y="0"/>
                  </a:lnTo>
                  <a:lnTo>
                    <a:pt x="443356" y="636"/>
                  </a:lnTo>
                  <a:lnTo>
                    <a:pt x="481837" y="2033"/>
                  </a:lnTo>
                  <a:lnTo>
                    <a:pt x="519811" y="4192"/>
                  </a:lnTo>
                  <a:lnTo>
                    <a:pt x="556894" y="7621"/>
                  </a:lnTo>
                  <a:lnTo>
                    <a:pt x="592708" y="12065"/>
                  </a:lnTo>
                  <a:lnTo>
                    <a:pt x="627380" y="17018"/>
                  </a:lnTo>
                  <a:lnTo>
                    <a:pt x="659892" y="23115"/>
                  </a:lnTo>
                  <a:lnTo>
                    <a:pt x="690499" y="30099"/>
                  </a:lnTo>
                  <a:lnTo>
                    <a:pt x="705231" y="34037"/>
                  </a:lnTo>
                  <a:lnTo>
                    <a:pt x="718312" y="38100"/>
                  </a:lnTo>
                  <a:lnTo>
                    <a:pt x="730885" y="42292"/>
                  </a:lnTo>
                  <a:lnTo>
                    <a:pt x="742568" y="46483"/>
                  </a:lnTo>
                  <a:lnTo>
                    <a:pt x="752982" y="50674"/>
                  </a:lnTo>
                  <a:lnTo>
                    <a:pt x="762762" y="55118"/>
                  </a:lnTo>
                  <a:lnTo>
                    <a:pt x="779399" y="64262"/>
                  </a:lnTo>
                  <a:lnTo>
                    <a:pt x="792480" y="73787"/>
                  </a:lnTo>
                  <a:lnTo>
                    <a:pt x="801877" y="83186"/>
                  </a:lnTo>
                  <a:lnTo>
                    <a:pt x="807212" y="93218"/>
                  </a:lnTo>
                  <a:lnTo>
                    <a:pt x="809243" y="103252"/>
                  </a:lnTo>
                  <a:lnTo>
                    <a:pt x="807212" y="112903"/>
                  </a:lnTo>
                  <a:lnTo>
                    <a:pt x="801877" y="122683"/>
                  </a:lnTo>
                  <a:lnTo>
                    <a:pt x="792480" y="132334"/>
                  </a:lnTo>
                  <a:lnTo>
                    <a:pt x="779399" y="141605"/>
                  </a:lnTo>
                  <a:lnTo>
                    <a:pt x="762762" y="150749"/>
                  </a:lnTo>
                  <a:lnTo>
                    <a:pt x="752982" y="155449"/>
                  </a:lnTo>
                  <a:lnTo>
                    <a:pt x="742568" y="159640"/>
                  </a:lnTo>
                  <a:lnTo>
                    <a:pt x="730885" y="164084"/>
                  </a:lnTo>
                  <a:lnTo>
                    <a:pt x="718312"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Freeform 56"/>
            <p:cNvSpPr/>
            <p:nvPr/>
          </p:nvSpPr>
          <p:spPr>
            <a:xfrm>
              <a:off x="5298120" y="218664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0" h="205741">
                  <a:moveTo>
                    <a:pt x="689610" y="175261"/>
                  </a:moveTo>
                  <a:lnTo>
                    <a:pt x="704850" y="171450"/>
                  </a:lnTo>
                  <a:lnTo>
                    <a:pt x="716280" y="167640"/>
                  </a:lnTo>
                  <a:lnTo>
                    <a:pt x="730250" y="163831"/>
                  </a:lnTo>
                  <a:lnTo>
                    <a:pt x="741680" y="158750"/>
                  </a:lnTo>
                  <a:lnTo>
                    <a:pt x="751839" y="154940"/>
                  </a:lnTo>
                  <a:lnTo>
                    <a:pt x="762000" y="149861"/>
                  </a:lnTo>
                  <a:lnTo>
                    <a:pt x="778510" y="139700"/>
                  </a:lnTo>
                  <a:lnTo>
                    <a:pt x="792480" y="132081"/>
                  </a:lnTo>
                  <a:lnTo>
                    <a:pt x="801369" y="121921"/>
                  </a:lnTo>
                  <a:lnTo>
                    <a:pt x="806450" y="111761"/>
                  </a:lnTo>
                  <a:lnTo>
                    <a:pt x="808989" y="102871"/>
                  </a:lnTo>
                  <a:lnTo>
                    <a:pt x="806450" y="92711"/>
                  </a:lnTo>
                  <a:lnTo>
                    <a:pt x="801369" y="82550"/>
                  </a:lnTo>
                  <a:lnTo>
                    <a:pt x="792480" y="73661"/>
                  </a:lnTo>
                  <a:lnTo>
                    <a:pt x="778510" y="63500"/>
                  </a:lnTo>
                  <a:lnTo>
                    <a:pt x="762000" y="54611"/>
                  </a:lnTo>
                  <a:lnTo>
                    <a:pt x="751839" y="49531"/>
                  </a:lnTo>
                  <a:lnTo>
                    <a:pt x="741680" y="45721"/>
                  </a:lnTo>
                  <a:lnTo>
                    <a:pt x="730250" y="41911"/>
                  </a:lnTo>
                  <a:lnTo>
                    <a:pt x="716280" y="36831"/>
                  </a:lnTo>
                  <a:lnTo>
                    <a:pt x="704850" y="33021"/>
                  </a:lnTo>
                  <a:lnTo>
                    <a:pt x="689610" y="29211"/>
                  </a:lnTo>
                  <a:lnTo>
                    <a:pt x="657860" y="22861"/>
                  </a:lnTo>
                  <a:lnTo>
                    <a:pt x="626110" y="16511"/>
                  </a:lnTo>
                  <a:lnTo>
                    <a:pt x="593089" y="10161"/>
                  </a:lnTo>
                  <a:lnTo>
                    <a:pt x="556260" y="7621"/>
                  </a:lnTo>
                  <a:lnTo>
                    <a:pt x="519430" y="3811"/>
                  </a:lnTo>
                  <a:lnTo>
                    <a:pt x="481330" y="1271"/>
                  </a:lnTo>
                  <a:lnTo>
                    <a:pt x="441960" y="0"/>
                  </a:lnTo>
                  <a:lnTo>
                    <a:pt x="403860" y="0"/>
                  </a:lnTo>
                  <a:lnTo>
                    <a:pt x="365760" y="0"/>
                  </a:lnTo>
                  <a:lnTo>
                    <a:pt x="326389" y="1271"/>
                  </a:lnTo>
                  <a:lnTo>
                    <a:pt x="289560" y="3811"/>
                  </a:lnTo>
                  <a:lnTo>
                    <a:pt x="252730" y="7621"/>
                  </a:lnTo>
                  <a:lnTo>
                    <a:pt x="215900" y="10161"/>
                  </a:lnTo>
                  <a:lnTo>
                    <a:pt x="181610" y="16511"/>
                  </a:lnTo>
                  <a:lnTo>
                    <a:pt x="148589" y="22861"/>
                  </a:lnTo>
                  <a:lnTo>
                    <a:pt x="116839" y="29211"/>
                  </a:lnTo>
                  <a:lnTo>
                    <a:pt x="102869" y="33021"/>
                  </a:lnTo>
                  <a:lnTo>
                    <a:pt x="90169" y="36831"/>
                  </a:lnTo>
                  <a:lnTo>
                    <a:pt x="77469" y="41911"/>
                  </a:lnTo>
                  <a:lnTo>
                    <a:pt x="66039"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39" y="158750"/>
                  </a:lnTo>
                  <a:lnTo>
                    <a:pt x="77469" y="163831"/>
                  </a:lnTo>
                  <a:lnTo>
                    <a:pt x="90169" y="167640"/>
                  </a:lnTo>
                  <a:lnTo>
                    <a:pt x="102869" y="171450"/>
                  </a:lnTo>
                  <a:lnTo>
                    <a:pt x="116839" y="175261"/>
                  </a:lnTo>
                  <a:lnTo>
                    <a:pt x="148589" y="181611"/>
                  </a:lnTo>
                  <a:lnTo>
                    <a:pt x="181610" y="187961"/>
                  </a:lnTo>
                  <a:lnTo>
                    <a:pt x="215900" y="193040"/>
                  </a:lnTo>
                  <a:lnTo>
                    <a:pt x="252730" y="198121"/>
                  </a:lnTo>
                  <a:lnTo>
                    <a:pt x="289560" y="200661"/>
                  </a:lnTo>
                  <a:lnTo>
                    <a:pt x="326389" y="204471"/>
                  </a:lnTo>
                  <a:lnTo>
                    <a:pt x="365760" y="204471"/>
                  </a:lnTo>
                  <a:lnTo>
                    <a:pt x="403860" y="205740"/>
                  </a:lnTo>
                  <a:lnTo>
                    <a:pt x="441960" y="204471"/>
                  </a:lnTo>
                  <a:lnTo>
                    <a:pt x="481330" y="204471"/>
                  </a:lnTo>
                  <a:lnTo>
                    <a:pt x="519430" y="200661"/>
                  </a:lnTo>
                  <a:lnTo>
                    <a:pt x="556260" y="198121"/>
                  </a:lnTo>
                  <a:lnTo>
                    <a:pt x="593089"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7" name="Freeform 57"/>
            <p:cNvSpPr/>
            <p:nvPr/>
          </p:nvSpPr>
          <p:spPr>
            <a:xfrm>
              <a:off x="5325120" y="235980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0" h="1127507">
                  <a:moveTo>
                    <a:pt x="26796" y="11303"/>
                  </a:moveTo>
                  <a:lnTo>
                    <a:pt x="45974" y="17525"/>
                  </a:lnTo>
                  <a:lnTo>
                    <a:pt x="65913" y="23368"/>
                  </a:lnTo>
                  <a:lnTo>
                    <a:pt x="87121" y="28828"/>
                  </a:lnTo>
                  <a:lnTo>
                    <a:pt x="109601" y="34162"/>
                  </a:lnTo>
                  <a:lnTo>
                    <a:pt x="132714" y="38607"/>
                  </a:lnTo>
                  <a:lnTo>
                    <a:pt x="157099" y="42799"/>
                  </a:lnTo>
                  <a:lnTo>
                    <a:pt x="181990" y="46609"/>
                  </a:lnTo>
                  <a:lnTo>
                    <a:pt x="207518" y="50037"/>
                  </a:lnTo>
                  <a:lnTo>
                    <a:pt x="233807" y="52578"/>
                  </a:lnTo>
                  <a:lnTo>
                    <a:pt x="287527" y="57277"/>
                  </a:lnTo>
                  <a:lnTo>
                    <a:pt x="342391" y="60071"/>
                  </a:lnTo>
                  <a:lnTo>
                    <a:pt x="397383" y="60832"/>
                  </a:lnTo>
                  <a:lnTo>
                    <a:pt x="452120" y="60071"/>
                  </a:lnTo>
                  <a:lnTo>
                    <a:pt x="505333" y="57022"/>
                  </a:lnTo>
                  <a:lnTo>
                    <a:pt x="531368" y="55118"/>
                  </a:lnTo>
                  <a:lnTo>
                    <a:pt x="556768" y="52578"/>
                  </a:lnTo>
                  <a:lnTo>
                    <a:pt x="581278" y="49403"/>
                  </a:lnTo>
                  <a:lnTo>
                    <a:pt x="605408" y="45847"/>
                  </a:lnTo>
                  <a:lnTo>
                    <a:pt x="628269" y="41909"/>
                  </a:lnTo>
                  <a:lnTo>
                    <a:pt x="650113" y="37591"/>
                  </a:lnTo>
                  <a:lnTo>
                    <a:pt x="670814" y="32512"/>
                  </a:lnTo>
                  <a:lnTo>
                    <a:pt x="690499" y="26924"/>
                  </a:lnTo>
                  <a:lnTo>
                    <a:pt x="708787" y="21209"/>
                  </a:lnTo>
                  <a:lnTo>
                    <a:pt x="725677" y="14731"/>
                  </a:lnTo>
                  <a:lnTo>
                    <a:pt x="741299" y="7493"/>
                  </a:lnTo>
                  <a:lnTo>
                    <a:pt x="755269" y="0"/>
                  </a:lnTo>
                  <a:lnTo>
                    <a:pt x="755269" y="1016126"/>
                  </a:lnTo>
                  <a:lnTo>
                    <a:pt x="737108" y="1030732"/>
                  </a:lnTo>
                  <a:lnTo>
                    <a:pt x="717803" y="1044447"/>
                  </a:lnTo>
                  <a:lnTo>
                    <a:pt x="697357" y="1057147"/>
                  </a:lnTo>
                  <a:lnTo>
                    <a:pt x="675766" y="1068577"/>
                  </a:lnTo>
                  <a:lnTo>
                    <a:pt x="653414" y="1078864"/>
                  </a:lnTo>
                  <a:lnTo>
                    <a:pt x="629920" y="1088263"/>
                  </a:lnTo>
                  <a:lnTo>
                    <a:pt x="605408" y="1096645"/>
                  </a:lnTo>
                  <a:lnTo>
                    <a:pt x="580516" y="1103630"/>
                  </a:lnTo>
                  <a:lnTo>
                    <a:pt x="554608" y="1109980"/>
                  </a:lnTo>
                  <a:lnTo>
                    <a:pt x="528320" y="1115059"/>
                  </a:lnTo>
                  <a:lnTo>
                    <a:pt x="501522" y="1119505"/>
                  </a:lnTo>
                  <a:lnTo>
                    <a:pt x="474345" y="1122807"/>
                  </a:lnTo>
                  <a:lnTo>
                    <a:pt x="447039" y="1125346"/>
                  </a:lnTo>
                  <a:lnTo>
                    <a:pt x="419481" y="1126744"/>
                  </a:lnTo>
                  <a:lnTo>
                    <a:pt x="364235" y="1127506"/>
                  </a:lnTo>
                  <a:lnTo>
                    <a:pt x="309371" y="1124965"/>
                  </a:lnTo>
                  <a:lnTo>
                    <a:pt x="282447" y="1122171"/>
                  </a:lnTo>
                  <a:lnTo>
                    <a:pt x="255651" y="1119251"/>
                  </a:lnTo>
                  <a:lnTo>
                    <a:pt x="229362" y="1115059"/>
                  </a:lnTo>
                  <a:lnTo>
                    <a:pt x="204089" y="1110233"/>
                  </a:lnTo>
                  <a:lnTo>
                    <a:pt x="178943" y="1105026"/>
                  </a:lnTo>
                  <a:lnTo>
                    <a:pt x="154813" y="1098931"/>
                  </a:lnTo>
                  <a:lnTo>
                    <a:pt x="131699" y="1092200"/>
                  </a:lnTo>
                  <a:lnTo>
                    <a:pt x="109220" y="1084960"/>
                  </a:lnTo>
                  <a:lnTo>
                    <a:pt x="87757" y="1077214"/>
                  </a:lnTo>
                  <a:lnTo>
                    <a:pt x="67818" y="1068577"/>
                  </a:lnTo>
                  <a:lnTo>
                    <a:pt x="48640" y="1059688"/>
                  </a:lnTo>
                  <a:lnTo>
                    <a:pt x="31241" y="1050163"/>
                  </a:lnTo>
                  <a:lnTo>
                    <a:pt x="14858"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Freeform 58"/>
            <p:cNvSpPr/>
            <p:nvPr/>
          </p:nvSpPr>
          <p:spPr>
            <a:xfrm>
              <a:off x="6014520" y="261036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6" h="765302">
                  <a:moveTo>
                    <a:pt x="10415" y="65405"/>
                  </a:moveTo>
                  <a:lnTo>
                    <a:pt x="16637" y="54990"/>
                  </a:lnTo>
                  <a:lnTo>
                    <a:pt x="25147" y="44196"/>
                  </a:lnTo>
                  <a:lnTo>
                    <a:pt x="34672" y="34290"/>
                  </a:lnTo>
                  <a:lnTo>
                    <a:pt x="45340" y="24511"/>
                  </a:lnTo>
                  <a:lnTo>
                    <a:pt x="57023" y="15875"/>
                  </a:lnTo>
                  <a:lnTo>
                    <a:pt x="68835" y="8636"/>
                  </a:lnTo>
                  <a:lnTo>
                    <a:pt x="80773" y="3302"/>
                  </a:lnTo>
                  <a:lnTo>
                    <a:pt x="92584" y="0"/>
                  </a:lnTo>
                  <a:lnTo>
                    <a:pt x="105918" y="508"/>
                  </a:lnTo>
                  <a:lnTo>
                    <a:pt x="120397" y="1143"/>
                  </a:lnTo>
                  <a:lnTo>
                    <a:pt x="151258" y="3683"/>
                  </a:lnTo>
                  <a:lnTo>
                    <a:pt x="182627" y="8000"/>
                  </a:lnTo>
                  <a:lnTo>
                    <a:pt x="214630" y="14478"/>
                  </a:lnTo>
                  <a:lnTo>
                    <a:pt x="230124" y="18668"/>
                  </a:lnTo>
                  <a:lnTo>
                    <a:pt x="244856" y="23621"/>
                  </a:lnTo>
                  <a:lnTo>
                    <a:pt x="259335" y="29209"/>
                  </a:lnTo>
                  <a:lnTo>
                    <a:pt x="272797" y="35687"/>
                  </a:lnTo>
                  <a:lnTo>
                    <a:pt x="285242" y="42799"/>
                  </a:lnTo>
                  <a:lnTo>
                    <a:pt x="297054" y="50800"/>
                  </a:lnTo>
                  <a:lnTo>
                    <a:pt x="307086" y="60071"/>
                  </a:lnTo>
                  <a:lnTo>
                    <a:pt x="315849" y="70103"/>
                  </a:lnTo>
                  <a:lnTo>
                    <a:pt x="323469" y="84581"/>
                  </a:lnTo>
                  <a:lnTo>
                    <a:pt x="330581" y="100965"/>
                  </a:lnTo>
                  <a:lnTo>
                    <a:pt x="337440" y="118744"/>
                  </a:lnTo>
                  <a:lnTo>
                    <a:pt x="343790" y="137921"/>
                  </a:lnTo>
                  <a:lnTo>
                    <a:pt x="349504" y="158496"/>
                  </a:lnTo>
                  <a:lnTo>
                    <a:pt x="354585" y="180212"/>
                  </a:lnTo>
                  <a:lnTo>
                    <a:pt x="359537" y="203200"/>
                  </a:lnTo>
                  <a:lnTo>
                    <a:pt x="363855" y="226821"/>
                  </a:lnTo>
                  <a:lnTo>
                    <a:pt x="367666" y="251587"/>
                  </a:lnTo>
                  <a:lnTo>
                    <a:pt x="371222" y="276859"/>
                  </a:lnTo>
                  <a:lnTo>
                    <a:pt x="376429" y="329184"/>
                  </a:lnTo>
                  <a:lnTo>
                    <a:pt x="379223" y="382524"/>
                  </a:lnTo>
                  <a:lnTo>
                    <a:pt x="379985" y="436244"/>
                  </a:lnTo>
                  <a:lnTo>
                    <a:pt x="378461" y="489331"/>
                  </a:lnTo>
                  <a:lnTo>
                    <a:pt x="376810" y="515112"/>
                  </a:lnTo>
                  <a:lnTo>
                    <a:pt x="374269" y="540384"/>
                  </a:lnTo>
                  <a:lnTo>
                    <a:pt x="371222" y="565150"/>
                  </a:lnTo>
                  <a:lnTo>
                    <a:pt x="367666" y="589153"/>
                  </a:lnTo>
                  <a:lnTo>
                    <a:pt x="363348" y="612140"/>
                  </a:lnTo>
                  <a:lnTo>
                    <a:pt x="358522" y="633856"/>
                  </a:lnTo>
                  <a:lnTo>
                    <a:pt x="352679" y="654684"/>
                  </a:lnTo>
                  <a:lnTo>
                    <a:pt x="346456" y="673862"/>
                  </a:lnTo>
                  <a:lnTo>
                    <a:pt x="339344" y="692276"/>
                  </a:lnTo>
                  <a:lnTo>
                    <a:pt x="331724" y="708278"/>
                  </a:lnTo>
                  <a:lnTo>
                    <a:pt x="323216" y="723011"/>
                  </a:lnTo>
                  <a:lnTo>
                    <a:pt x="313944" y="736472"/>
                  </a:lnTo>
                  <a:lnTo>
                    <a:pt x="304166" y="747268"/>
                  </a:lnTo>
                  <a:lnTo>
                    <a:pt x="293117" y="756157"/>
                  </a:lnTo>
                  <a:lnTo>
                    <a:pt x="285750" y="758316"/>
                  </a:lnTo>
                  <a:lnTo>
                    <a:pt x="277623" y="760349"/>
                  </a:lnTo>
                  <a:lnTo>
                    <a:pt x="259842" y="763143"/>
                  </a:lnTo>
                  <a:lnTo>
                    <a:pt x="239904" y="764794"/>
                  </a:lnTo>
                  <a:lnTo>
                    <a:pt x="218694" y="765301"/>
                  </a:lnTo>
                  <a:lnTo>
                    <a:pt x="196088" y="764794"/>
                  </a:lnTo>
                  <a:lnTo>
                    <a:pt x="173355" y="763143"/>
                  </a:lnTo>
                  <a:lnTo>
                    <a:pt x="150115" y="760857"/>
                  </a:lnTo>
                  <a:lnTo>
                    <a:pt x="127509" y="758189"/>
                  </a:lnTo>
                  <a:lnTo>
                    <a:pt x="105665" y="754507"/>
                  </a:lnTo>
                  <a:lnTo>
                    <a:pt x="85217" y="750315"/>
                  </a:lnTo>
                  <a:lnTo>
                    <a:pt x="66548" y="745489"/>
                  </a:lnTo>
                  <a:lnTo>
                    <a:pt x="50292" y="741171"/>
                  </a:lnTo>
                  <a:lnTo>
                    <a:pt x="36577" y="736091"/>
                  </a:lnTo>
                  <a:lnTo>
                    <a:pt x="26162" y="730884"/>
                  </a:lnTo>
                  <a:lnTo>
                    <a:pt x="19178" y="725805"/>
                  </a:lnTo>
                  <a:lnTo>
                    <a:pt x="17146" y="723011"/>
                  </a:lnTo>
                  <a:lnTo>
                    <a:pt x="16384" y="720597"/>
                  </a:lnTo>
                  <a:lnTo>
                    <a:pt x="16384" y="669416"/>
                  </a:lnTo>
                  <a:lnTo>
                    <a:pt x="15367" y="660272"/>
                  </a:lnTo>
                  <a:lnTo>
                    <a:pt x="14733" y="651637"/>
                  </a:lnTo>
                  <a:lnTo>
                    <a:pt x="14733" y="643889"/>
                  </a:lnTo>
                  <a:lnTo>
                    <a:pt x="15622" y="636650"/>
                  </a:lnTo>
                  <a:lnTo>
                    <a:pt x="17146" y="629919"/>
                  </a:lnTo>
                  <a:lnTo>
                    <a:pt x="19178" y="623824"/>
                  </a:lnTo>
                  <a:lnTo>
                    <a:pt x="21844" y="618236"/>
                  </a:lnTo>
                  <a:lnTo>
                    <a:pt x="24892" y="613283"/>
                  </a:lnTo>
                  <a:lnTo>
                    <a:pt x="28703" y="608837"/>
                  </a:lnTo>
                  <a:lnTo>
                    <a:pt x="32767" y="604900"/>
                  </a:lnTo>
                  <a:lnTo>
                    <a:pt x="42673" y="598805"/>
                  </a:lnTo>
                  <a:lnTo>
                    <a:pt x="54103" y="594613"/>
                  </a:lnTo>
                  <a:lnTo>
                    <a:pt x="67184" y="592074"/>
                  </a:lnTo>
                  <a:lnTo>
                    <a:pt x="73787" y="592709"/>
                  </a:lnTo>
                  <a:lnTo>
                    <a:pt x="80011" y="594106"/>
                  </a:lnTo>
                  <a:lnTo>
                    <a:pt x="85472" y="596646"/>
                  </a:lnTo>
                  <a:lnTo>
                    <a:pt x="90933" y="599947"/>
                  </a:lnTo>
                  <a:lnTo>
                    <a:pt x="100458" y="608584"/>
                  </a:lnTo>
                  <a:lnTo>
                    <a:pt x="109729" y="618871"/>
                  </a:lnTo>
                  <a:lnTo>
                    <a:pt x="119635" y="629665"/>
                  </a:lnTo>
                  <a:lnTo>
                    <a:pt x="130175" y="640206"/>
                  </a:lnTo>
                  <a:lnTo>
                    <a:pt x="136525" y="644651"/>
                  </a:lnTo>
                  <a:lnTo>
                    <a:pt x="143129" y="649096"/>
                  </a:lnTo>
                  <a:lnTo>
                    <a:pt x="150496" y="652780"/>
                  </a:lnTo>
                  <a:lnTo>
                    <a:pt x="158623" y="655574"/>
                  </a:lnTo>
                  <a:lnTo>
                    <a:pt x="167386" y="657478"/>
                  </a:lnTo>
                  <a:lnTo>
                    <a:pt x="176404" y="658876"/>
                  </a:lnTo>
                  <a:lnTo>
                    <a:pt x="194946" y="658876"/>
                  </a:lnTo>
                  <a:lnTo>
                    <a:pt x="213487" y="656336"/>
                  </a:lnTo>
                  <a:lnTo>
                    <a:pt x="231522" y="651001"/>
                  </a:lnTo>
                  <a:lnTo>
                    <a:pt x="239904" y="647445"/>
                  </a:lnTo>
                  <a:lnTo>
                    <a:pt x="247650" y="643508"/>
                  </a:lnTo>
                  <a:lnTo>
                    <a:pt x="255017" y="638809"/>
                  </a:lnTo>
                  <a:lnTo>
                    <a:pt x="261874" y="633856"/>
                  </a:lnTo>
                  <a:lnTo>
                    <a:pt x="267843" y="628522"/>
                  </a:lnTo>
                  <a:lnTo>
                    <a:pt x="272797" y="622681"/>
                  </a:lnTo>
                  <a:lnTo>
                    <a:pt x="276861" y="616331"/>
                  </a:lnTo>
                  <a:lnTo>
                    <a:pt x="280162" y="609600"/>
                  </a:lnTo>
                  <a:lnTo>
                    <a:pt x="284227" y="597153"/>
                  </a:lnTo>
                  <a:lnTo>
                    <a:pt x="287783" y="582675"/>
                  </a:lnTo>
                  <a:lnTo>
                    <a:pt x="290704" y="567055"/>
                  </a:lnTo>
                  <a:lnTo>
                    <a:pt x="293117" y="550418"/>
                  </a:lnTo>
                  <a:lnTo>
                    <a:pt x="294894" y="532891"/>
                  </a:lnTo>
                  <a:lnTo>
                    <a:pt x="295911" y="514603"/>
                  </a:lnTo>
                  <a:lnTo>
                    <a:pt x="296546" y="495427"/>
                  </a:lnTo>
                  <a:lnTo>
                    <a:pt x="296546" y="475361"/>
                  </a:lnTo>
                  <a:lnTo>
                    <a:pt x="295911" y="454533"/>
                  </a:lnTo>
                  <a:lnTo>
                    <a:pt x="294513" y="433705"/>
                  </a:lnTo>
                  <a:lnTo>
                    <a:pt x="290196" y="391159"/>
                  </a:lnTo>
                  <a:lnTo>
                    <a:pt x="283337" y="348106"/>
                  </a:lnTo>
                  <a:lnTo>
                    <a:pt x="274448" y="305815"/>
                  </a:lnTo>
                  <a:lnTo>
                    <a:pt x="268860" y="285241"/>
                  </a:lnTo>
                  <a:lnTo>
                    <a:pt x="262891" y="264921"/>
                  </a:lnTo>
                  <a:lnTo>
                    <a:pt x="256286" y="245490"/>
                  </a:lnTo>
                  <a:lnTo>
                    <a:pt x="248921" y="226821"/>
                  </a:lnTo>
                  <a:lnTo>
                    <a:pt x="241300" y="208787"/>
                  </a:lnTo>
                  <a:lnTo>
                    <a:pt x="232918" y="191896"/>
                  </a:lnTo>
                  <a:lnTo>
                    <a:pt x="224155" y="176021"/>
                  </a:lnTo>
                  <a:lnTo>
                    <a:pt x="214630" y="161797"/>
                  </a:lnTo>
                  <a:lnTo>
                    <a:pt x="204217" y="148462"/>
                  </a:lnTo>
                  <a:lnTo>
                    <a:pt x="193803" y="136778"/>
                  </a:lnTo>
                  <a:lnTo>
                    <a:pt x="182373" y="126491"/>
                  </a:lnTo>
                  <a:lnTo>
                    <a:pt x="170561" y="117856"/>
                  </a:lnTo>
                  <a:lnTo>
                    <a:pt x="158116" y="111252"/>
                  </a:lnTo>
                  <a:lnTo>
                    <a:pt x="145288" y="106425"/>
                  </a:lnTo>
                  <a:lnTo>
                    <a:pt x="131827" y="103759"/>
                  </a:lnTo>
                  <a:lnTo>
                    <a:pt x="117603" y="103124"/>
                  </a:lnTo>
                  <a:lnTo>
                    <a:pt x="110236" y="102108"/>
                  </a:lnTo>
                  <a:lnTo>
                    <a:pt x="103760" y="103124"/>
                  </a:lnTo>
                  <a:lnTo>
                    <a:pt x="97536" y="105918"/>
                  </a:lnTo>
                  <a:lnTo>
                    <a:pt x="91694" y="110109"/>
                  </a:lnTo>
                  <a:lnTo>
                    <a:pt x="86361" y="115950"/>
                  </a:lnTo>
                  <a:lnTo>
                    <a:pt x="81154" y="122681"/>
                  </a:lnTo>
                  <a:lnTo>
                    <a:pt x="70740" y="137413"/>
                  </a:lnTo>
                  <a:lnTo>
                    <a:pt x="60072" y="152653"/>
                  </a:lnTo>
                  <a:lnTo>
                    <a:pt x="54103" y="160146"/>
                  </a:lnTo>
                  <a:lnTo>
                    <a:pt x="48006" y="166750"/>
                  </a:lnTo>
                  <a:lnTo>
                    <a:pt x="40894" y="172084"/>
                  </a:lnTo>
                  <a:lnTo>
                    <a:pt x="33529" y="176530"/>
                  </a:lnTo>
                  <a:lnTo>
                    <a:pt x="25400" y="179324"/>
                  </a:lnTo>
                  <a:lnTo>
                    <a:pt x="16384" y="180212"/>
                  </a:lnTo>
                  <a:lnTo>
                    <a:pt x="10668" y="165988"/>
                  </a:lnTo>
                  <a:lnTo>
                    <a:pt x="5716" y="151765"/>
                  </a:lnTo>
                  <a:lnTo>
                    <a:pt x="2413" y="137413"/>
                  </a:lnTo>
                  <a:lnTo>
                    <a:pt x="254"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Freeform 59"/>
            <p:cNvSpPr/>
            <p:nvPr/>
          </p:nvSpPr>
          <p:spPr>
            <a:xfrm>
              <a:off x="6014520" y="260928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20"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70" y="20320"/>
                  </a:lnTo>
                  <a:lnTo>
                    <a:pt x="245109" y="24129"/>
                  </a:lnTo>
                  <a:lnTo>
                    <a:pt x="260350" y="29210"/>
                  </a:lnTo>
                  <a:lnTo>
                    <a:pt x="273050" y="36829"/>
                  </a:lnTo>
                  <a:lnTo>
                    <a:pt x="285750" y="43179"/>
                  </a:lnTo>
                  <a:lnTo>
                    <a:pt x="297180" y="52070"/>
                  </a:lnTo>
                  <a:lnTo>
                    <a:pt x="307339" y="60960"/>
                  </a:lnTo>
                  <a:lnTo>
                    <a:pt x="316230" y="69850"/>
                  </a:lnTo>
                  <a:lnTo>
                    <a:pt x="323850" y="85089"/>
                  </a:lnTo>
                  <a:lnTo>
                    <a:pt x="330200" y="101600"/>
                  </a:lnTo>
                  <a:lnTo>
                    <a:pt x="337820" y="119379"/>
                  </a:lnTo>
                  <a:lnTo>
                    <a:pt x="342900" y="139700"/>
                  </a:lnTo>
                  <a:lnTo>
                    <a:pt x="349250" y="160020"/>
                  </a:lnTo>
                  <a:lnTo>
                    <a:pt x="354330" y="180339"/>
                  </a:lnTo>
                  <a:lnTo>
                    <a:pt x="359409" y="204470"/>
                  </a:lnTo>
                  <a:lnTo>
                    <a:pt x="364489" y="228600"/>
                  </a:lnTo>
                  <a:lnTo>
                    <a:pt x="368300" y="251460"/>
                  </a:lnTo>
                  <a:lnTo>
                    <a:pt x="372109" y="278129"/>
                  </a:lnTo>
                  <a:lnTo>
                    <a:pt x="375920" y="330200"/>
                  </a:lnTo>
                  <a:lnTo>
                    <a:pt x="378459" y="382270"/>
                  </a:lnTo>
                  <a:lnTo>
                    <a:pt x="379730" y="436879"/>
                  </a:lnTo>
                  <a:lnTo>
                    <a:pt x="378459" y="488950"/>
                  </a:lnTo>
                  <a:lnTo>
                    <a:pt x="375920" y="516889"/>
                  </a:lnTo>
                  <a:lnTo>
                    <a:pt x="374650" y="542289"/>
                  </a:lnTo>
                  <a:lnTo>
                    <a:pt x="372109" y="566420"/>
                  </a:lnTo>
                  <a:lnTo>
                    <a:pt x="368300" y="589279"/>
                  </a:lnTo>
                  <a:lnTo>
                    <a:pt x="364489" y="612139"/>
                  </a:lnTo>
                  <a:lnTo>
                    <a:pt x="358139" y="635000"/>
                  </a:lnTo>
                  <a:lnTo>
                    <a:pt x="353059" y="655320"/>
                  </a:lnTo>
                  <a:lnTo>
                    <a:pt x="346709" y="674370"/>
                  </a:lnTo>
                  <a:lnTo>
                    <a:pt x="339089" y="692150"/>
                  </a:lnTo>
                  <a:lnTo>
                    <a:pt x="332739" y="709929"/>
                  </a:lnTo>
                  <a:lnTo>
                    <a:pt x="323850" y="723900"/>
                  </a:lnTo>
                  <a:lnTo>
                    <a:pt x="313689" y="736600"/>
                  </a:lnTo>
                  <a:lnTo>
                    <a:pt x="303530" y="748029"/>
                  </a:lnTo>
                  <a:lnTo>
                    <a:pt x="292100" y="756920"/>
                  </a:lnTo>
                  <a:lnTo>
                    <a:pt x="285750" y="758190"/>
                  </a:lnTo>
                  <a:lnTo>
                    <a:pt x="278130" y="762000"/>
                  </a:lnTo>
                  <a:lnTo>
                    <a:pt x="260350" y="764540"/>
                  </a:lnTo>
                  <a:lnTo>
                    <a:pt x="240030" y="765809"/>
                  </a:lnTo>
                  <a:lnTo>
                    <a:pt x="218439" y="765809"/>
                  </a:lnTo>
                  <a:lnTo>
                    <a:pt x="195580" y="765809"/>
                  </a:lnTo>
                  <a:lnTo>
                    <a:pt x="172720" y="764540"/>
                  </a:lnTo>
                  <a:lnTo>
                    <a:pt x="149859" y="762000"/>
                  </a:lnTo>
                  <a:lnTo>
                    <a:pt x="127000" y="758190"/>
                  </a:lnTo>
                  <a:lnTo>
                    <a:pt x="105409" y="755650"/>
                  </a:lnTo>
                  <a:lnTo>
                    <a:pt x="85089" y="751840"/>
                  </a:lnTo>
                  <a:lnTo>
                    <a:pt x="67309" y="746759"/>
                  </a:lnTo>
                  <a:lnTo>
                    <a:pt x="50800" y="742950"/>
                  </a:lnTo>
                  <a:lnTo>
                    <a:pt x="35559" y="736600"/>
                  </a:lnTo>
                  <a:lnTo>
                    <a:pt x="25400" y="732790"/>
                  </a:lnTo>
                  <a:lnTo>
                    <a:pt x="19050" y="726440"/>
                  </a:lnTo>
                  <a:lnTo>
                    <a:pt x="17780" y="723900"/>
                  </a:lnTo>
                  <a:lnTo>
                    <a:pt x="16509" y="721359"/>
                  </a:lnTo>
                  <a:lnTo>
                    <a:pt x="16509" y="670559"/>
                  </a:lnTo>
                  <a:lnTo>
                    <a:pt x="15239" y="661670"/>
                  </a:lnTo>
                  <a:lnTo>
                    <a:pt x="13970" y="651509"/>
                  </a:lnTo>
                  <a:lnTo>
                    <a:pt x="13970" y="645159"/>
                  </a:lnTo>
                  <a:lnTo>
                    <a:pt x="15239" y="637539"/>
                  </a:lnTo>
                  <a:lnTo>
                    <a:pt x="17780" y="631189"/>
                  </a:lnTo>
                  <a:lnTo>
                    <a:pt x="19050" y="624839"/>
                  </a:lnTo>
                  <a:lnTo>
                    <a:pt x="21589" y="618489"/>
                  </a:lnTo>
                  <a:lnTo>
                    <a:pt x="25400" y="614679"/>
                  </a:lnTo>
                  <a:lnTo>
                    <a:pt x="29209" y="609600"/>
                  </a:lnTo>
                  <a:lnTo>
                    <a:pt x="31750" y="607060"/>
                  </a:lnTo>
                  <a:lnTo>
                    <a:pt x="43180" y="599439"/>
                  </a:lnTo>
                  <a:lnTo>
                    <a:pt x="54609" y="595629"/>
                  </a:lnTo>
                  <a:lnTo>
                    <a:pt x="67309" y="593089"/>
                  </a:lnTo>
                  <a:lnTo>
                    <a:pt x="73659" y="593089"/>
                  </a:lnTo>
                  <a:lnTo>
                    <a:pt x="78739" y="595629"/>
                  </a:lnTo>
                  <a:lnTo>
                    <a:pt x="86359" y="596900"/>
                  </a:lnTo>
                  <a:lnTo>
                    <a:pt x="90170" y="600710"/>
                  </a:lnTo>
                  <a:lnTo>
                    <a:pt x="101600" y="608329"/>
                  </a:lnTo>
                  <a:lnTo>
                    <a:pt x="110489" y="619760"/>
                  </a:lnTo>
                  <a:lnTo>
                    <a:pt x="119380" y="629920"/>
                  </a:lnTo>
                  <a:lnTo>
                    <a:pt x="129539" y="641350"/>
                  </a:lnTo>
                  <a:lnTo>
                    <a:pt x="137159" y="645159"/>
                  </a:lnTo>
                  <a:lnTo>
                    <a:pt x="143509" y="650240"/>
                  </a:lnTo>
                  <a:lnTo>
                    <a:pt x="151130" y="654050"/>
                  </a:lnTo>
                  <a:lnTo>
                    <a:pt x="158750" y="655320"/>
                  </a:lnTo>
                  <a:lnTo>
                    <a:pt x="166370" y="659129"/>
                  </a:lnTo>
                  <a:lnTo>
                    <a:pt x="176530" y="659129"/>
                  </a:lnTo>
                  <a:lnTo>
                    <a:pt x="194309" y="659129"/>
                  </a:lnTo>
                  <a:lnTo>
                    <a:pt x="213359" y="656590"/>
                  </a:lnTo>
                  <a:lnTo>
                    <a:pt x="231139" y="651509"/>
                  </a:lnTo>
                  <a:lnTo>
                    <a:pt x="240030" y="648970"/>
                  </a:lnTo>
                  <a:lnTo>
                    <a:pt x="247650" y="645159"/>
                  </a:lnTo>
                  <a:lnTo>
                    <a:pt x="255270" y="640079"/>
                  </a:lnTo>
                  <a:lnTo>
                    <a:pt x="261620" y="635000"/>
                  </a:lnTo>
                  <a:lnTo>
                    <a:pt x="266700" y="629920"/>
                  </a:lnTo>
                  <a:lnTo>
                    <a:pt x="273050" y="623570"/>
                  </a:lnTo>
                  <a:lnTo>
                    <a:pt x="276859" y="617220"/>
                  </a:lnTo>
                  <a:lnTo>
                    <a:pt x="280670" y="610870"/>
                  </a:lnTo>
                  <a:lnTo>
                    <a:pt x="284480" y="598170"/>
                  </a:lnTo>
                  <a:lnTo>
                    <a:pt x="288289" y="582929"/>
                  </a:lnTo>
                  <a:lnTo>
                    <a:pt x="290830" y="567689"/>
                  </a:lnTo>
                  <a:lnTo>
                    <a:pt x="292100" y="552450"/>
                  </a:lnTo>
                  <a:lnTo>
                    <a:pt x="295909" y="533400"/>
                  </a:lnTo>
                  <a:lnTo>
                    <a:pt x="295909" y="515620"/>
                  </a:lnTo>
                  <a:lnTo>
                    <a:pt x="295909" y="496570"/>
                  </a:lnTo>
                  <a:lnTo>
                    <a:pt x="295909" y="476250"/>
                  </a:lnTo>
                  <a:lnTo>
                    <a:pt x="295909" y="455929"/>
                  </a:lnTo>
                  <a:lnTo>
                    <a:pt x="294639" y="434339"/>
                  </a:lnTo>
                  <a:lnTo>
                    <a:pt x="289559" y="391160"/>
                  </a:lnTo>
                  <a:lnTo>
                    <a:pt x="283209" y="349250"/>
                  </a:lnTo>
                  <a:lnTo>
                    <a:pt x="274320" y="307339"/>
                  </a:lnTo>
                  <a:lnTo>
                    <a:pt x="269239" y="287020"/>
                  </a:lnTo>
                  <a:lnTo>
                    <a:pt x="262889" y="265429"/>
                  </a:lnTo>
                  <a:lnTo>
                    <a:pt x="256539" y="246379"/>
                  </a:lnTo>
                  <a:lnTo>
                    <a:pt x="248920" y="228600"/>
                  </a:lnTo>
                  <a:lnTo>
                    <a:pt x="241300" y="209550"/>
                  </a:lnTo>
                  <a:lnTo>
                    <a:pt x="233680" y="193039"/>
                  </a:lnTo>
                  <a:lnTo>
                    <a:pt x="223520" y="176529"/>
                  </a:lnTo>
                  <a:lnTo>
                    <a:pt x="214630" y="162560"/>
                  </a:lnTo>
                  <a:lnTo>
                    <a:pt x="204470" y="148589"/>
                  </a:lnTo>
                  <a:lnTo>
                    <a:pt x="194309" y="138429"/>
                  </a:lnTo>
                  <a:lnTo>
                    <a:pt x="182880" y="127000"/>
                  </a:lnTo>
                  <a:lnTo>
                    <a:pt x="170180" y="118110"/>
                  </a:lnTo>
                  <a:lnTo>
                    <a:pt x="157480" y="111760"/>
                  </a:lnTo>
                  <a:lnTo>
                    <a:pt x="144780" y="106679"/>
                  </a:lnTo>
                  <a:lnTo>
                    <a:pt x="132080" y="105410"/>
                  </a:lnTo>
                  <a:lnTo>
                    <a:pt x="118109" y="102870"/>
                  </a:lnTo>
                  <a:lnTo>
                    <a:pt x="110489" y="102870"/>
                  </a:lnTo>
                  <a:lnTo>
                    <a:pt x="104139" y="102870"/>
                  </a:lnTo>
                  <a:lnTo>
                    <a:pt x="97789" y="106679"/>
                  </a:lnTo>
                  <a:lnTo>
                    <a:pt x="92709" y="110489"/>
                  </a:lnTo>
                  <a:lnTo>
                    <a:pt x="86359" y="116839"/>
                  </a:lnTo>
                  <a:lnTo>
                    <a:pt x="81280" y="123189"/>
                  </a:lnTo>
                  <a:lnTo>
                    <a:pt x="71120" y="138429"/>
                  </a:lnTo>
                  <a:lnTo>
                    <a:pt x="60959" y="153670"/>
                  </a:lnTo>
                  <a:lnTo>
                    <a:pt x="54609" y="161289"/>
                  </a:lnTo>
                  <a:lnTo>
                    <a:pt x="46989" y="167639"/>
                  </a:lnTo>
                  <a:lnTo>
                    <a:pt x="40639" y="172720"/>
                  </a:lnTo>
                  <a:lnTo>
                    <a:pt x="33020" y="176529"/>
                  </a:lnTo>
                  <a:lnTo>
                    <a:pt x="25400" y="180339"/>
                  </a:lnTo>
                  <a:lnTo>
                    <a:pt x="16509" y="180339"/>
                  </a:lnTo>
                  <a:lnTo>
                    <a:pt x="10159" y="167639"/>
                  </a:lnTo>
                  <a:lnTo>
                    <a:pt x="6350" y="152400"/>
                  </a:lnTo>
                  <a:lnTo>
                    <a:pt x="2539" y="138429"/>
                  </a:lnTo>
                  <a:lnTo>
                    <a:pt x="0" y="123189"/>
                  </a:lnTo>
                  <a:lnTo>
                    <a:pt x="0" y="107950"/>
                  </a:lnTo>
                  <a:lnTo>
                    <a:pt x="2539"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Freeform 60"/>
            <p:cNvSpPr/>
            <p:nvPr/>
          </p:nvSpPr>
          <p:spPr>
            <a:xfrm>
              <a:off x="6253920" y="268704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4" h="674370">
                  <a:moveTo>
                    <a:pt x="71882" y="2285"/>
                  </a:moveTo>
                  <a:lnTo>
                    <a:pt x="80009" y="15367"/>
                  </a:lnTo>
                  <a:lnTo>
                    <a:pt x="87629" y="31114"/>
                  </a:lnTo>
                  <a:lnTo>
                    <a:pt x="94741" y="48386"/>
                  </a:lnTo>
                  <a:lnTo>
                    <a:pt x="101346" y="67563"/>
                  </a:lnTo>
                  <a:lnTo>
                    <a:pt x="107315" y="88392"/>
                  </a:lnTo>
                  <a:lnTo>
                    <a:pt x="112776" y="110363"/>
                  </a:lnTo>
                  <a:lnTo>
                    <a:pt x="117728" y="133730"/>
                  </a:lnTo>
                  <a:lnTo>
                    <a:pt x="121792" y="157988"/>
                  </a:lnTo>
                  <a:lnTo>
                    <a:pt x="125857" y="182372"/>
                  </a:lnTo>
                  <a:lnTo>
                    <a:pt x="128904" y="207645"/>
                  </a:lnTo>
                  <a:lnTo>
                    <a:pt x="133858" y="258317"/>
                  </a:lnTo>
                  <a:lnTo>
                    <a:pt x="135508" y="283336"/>
                  </a:lnTo>
                  <a:lnTo>
                    <a:pt x="136525" y="308101"/>
                  </a:lnTo>
                  <a:lnTo>
                    <a:pt x="137033" y="331723"/>
                  </a:lnTo>
                  <a:lnTo>
                    <a:pt x="137033" y="354838"/>
                  </a:lnTo>
                  <a:lnTo>
                    <a:pt x="136271" y="376428"/>
                  </a:lnTo>
                  <a:lnTo>
                    <a:pt x="135635" y="397001"/>
                  </a:lnTo>
                  <a:lnTo>
                    <a:pt x="133858" y="435101"/>
                  </a:lnTo>
                  <a:lnTo>
                    <a:pt x="130809" y="470661"/>
                  </a:lnTo>
                  <a:lnTo>
                    <a:pt x="126110" y="504570"/>
                  </a:lnTo>
                  <a:lnTo>
                    <a:pt x="119379" y="537972"/>
                  </a:lnTo>
                  <a:lnTo>
                    <a:pt x="114427" y="554863"/>
                  </a:lnTo>
                  <a:lnTo>
                    <a:pt x="108965" y="572135"/>
                  </a:lnTo>
                  <a:lnTo>
                    <a:pt x="102742" y="589914"/>
                  </a:lnTo>
                  <a:lnTo>
                    <a:pt x="94996" y="608330"/>
                  </a:lnTo>
                  <a:lnTo>
                    <a:pt x="86233" y="627380"/>
                  </a:lnTo>
                  <a:lnTo>
                    <a:pt x="76453" y="647445"/>
                  </a:lnTo>
                  <a:lnTo>
                    <a:pt x="71246" y="653287"/>
                  </a:lnTo>
                  <a:lnTo>
                    <a:pt x="65023" y="659383"/>
                  </a:lnTo>
                  <a:lnTo>
                    <a:pt x="57912" y="664972"/>
                  </a:lnTo>
                  <a:lnTo>
                    <a:pt x="50291" y="669670"/>
                  </a:lnTo>
                  <a:lnTo>
                    <a:pt x="42545" y="672973"/>
                  </a:lnTo>
                  <a:lnTo>
                    <a:pt x="35178" y="674369"/>
                  </a:lnTo>
                  <a:lnTo>
                    <a:pt x="28447" y="673862"/>
                  </a:lnTo>
                  <a:lnTo>
                    <a:pt x="25400" y="672464"/>
                  </a:lnTo>
                  <a:lnTo>
                    <a:pt x="22733" y="670179"/>
                  </a:lnTo>
                  <a:lnTo>
                    <a:pt x="21590" y="666114"/>
                  </a:lnTo>
                  <a:lnTo>
                    <a:pt x="22733" y="660018"/>
                  </a:lnTo>
                  <a:lnTo>
                    <a:pt x="26034" y="651891"/>
                  </a:lnTo>
                  <a:lnTo>
                    <a:pt x="30098" y="641985"/>
                  </a:lnTo>
                  <a:lnTo>
                    <a:pt x="35559" y="629157"/>
                  </a:lnTo>
                  <a:lnTo>
                    <a:pt x="41783" y="614172"/>
                  </a:lnTo>
                  <a:lnTo>
                    <a:pt x="48387" y="596645"/>
                  </a:lnTo>
                  <a:lnTo>
                    <a:pt x="54609" y="576072"/>
                  </a:lnTo>
                  <a:lnTo>
                    <a:pt x="61087" y="552450"/>
                  </a:lnTo>
                  <a:lnTo>
                    <a:pt x="63881" y="539369"/>
                  </a:lnTo>
                  <a:lnTo>
                    <a:pt x="66675" y="525398"/>
                  </a:lnTo>
                  <a:lnTo>
                    <a:pt x="68833" y="510667"/>
                  </a:lnTo>
                  <a:lnTo>
                    <a:pt x="70992" y="495173"/>
                  </a:lnTo>
                  <a:lnTo>
                    <a:pt x="72644" y="478663"/>
                  </a:lnTo>
                  <a:lnTo>
                    <a:pt x="74295" y="461263"/>
                  </a:lnTo>
                  <a:lnTo>
                    <a:pt x="75057" y="442848"/>
                  </a:lnTo>
                  <a:lnTo>
                    <a:pt x="75438" y="423672"/>
                  </a:lnTo>
                  <a:lnTo>
                    <a:pt x="75057" y="403098"/>
                  </a:lnTo>
                  <a:lnTo>
                    <a:pt x="74548" y="382016"/>
                  </a:lnTo>
                  <a:lnTo>
                    <a:pt x="73152" y="359791"/>
                  </a:lnTo>
                  <a:lnTo>
                    <a:pt x="71246" y="336042"/>
                  </a:lnTo>
                  <a:lnTo>
                    <a:pt x="68579" y="311657"/>
                  </a:lnTo>
                  <a:lnTo>
                    <a:pt x="65277" y="286130"/>
                  </a:lnTo>
                  <a:lnTo>
                    <a:pt x="63119" y="270255"/>
                  </a:lnTo>
                  <a:lnTo>
                    <a:pt x="60706" y="253873"/>
                  </a:lnTo>
                  <a:lnTo>
                    <a:pt x="54356" y="219710"/>
                  </a:lnTo>
                  <a:lnTo>
                    <a:pt x="46354" y="184657"/>
                  </a:lnTo>
                  <a:lnTo>
                    <a:pt x="37465" y="150113"/>
                  </a:lnTo>
                  <a:lnTo>
                    <a:pt x="28194" y="117855"/>
                  </a:lnTo>
                  <a:lnTo>
                    <a:pt x="23240" y="102870"/>
                  </a:lnTo>
                  <a:lnTo>
                    <a:pt x="18669" y="89280"/>
                  </a:lnTo>
                  <a:lnTo>
                    <a:pt x="13715" y="76707"/>
                  </a:lnTo>
                  <a:lnTo>
                    <a:pt x="8763" y="65404"/>
                  </a:lnTo>
                  <a:lnTo>
                    <a:pt x="4317" y="55879"/>
                  </a:lnTo>
                  <a:lnTo>
                    <a:pt x="0" y="48132"/>
                  </a:lnTo>
                  <a:lnTo>
                    <a:pt x="4952" y="37845"/>
                  </a:lnTo>
                  <a:lnTo>
                    <a:pt x="12065" y="27813"/>
                  </a:lnTo>
                  <a:lnTo>
                    <a:pt x="20446" y="18669"/>
                  </a:lnTo>
                  <a:lnTo>
                    <a:pt x="30098" y="10795"/>
                  </a:lnTo>
                  <a:lnTo>
                    <a:pt x="40766" y="4698"/>
                  </a:lnTo>
                  <a:lnTo>
                    <a:pt x="51308" y="888"/>
                  </a:lnTo>
                  <a:lnTo>
                    <a:pt x="61976"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1" name="Freeform 61"/>
            <p:cNvSpPr/>
            <p:nvPr/>
          </p:nvSpPr>
          <p:spPr>
            <a:xfrm>
              <a:off x="6051600" y="322020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4" y="0"/>
                  </a:moveTo>
                  <a:lnTo>
                    <a:pt x="58801" y="11303"/>
                  </a:lnTo>
                  <a:lnTo>
                    <a:pt x="70484" y="21971"/>
                  </a:lnTo>
                  <a:lnTo>
                    <a:pt x="82803" y="31114"/>
                  </a:lnTo>
                  <a:lnTo>
                    <a:pt x="95250" y="38862"/>
                  </a:lnTo>
                  <a:lnTo>
                    <a:pt x="107823" y="45846"/>
                  </a:lnTo>
                  <a:lnTo>
                    <a:pt x="120776" y="51308"/>
                  </a:lnTo>
                  <a:lnTo>
                    <a:pt x="133476" y="55499"/>
                  </a:lnTo>
                  <a:lnTo>
                    <a:pt x="146431" y="58293"/>
                  </a:lnTo>
                  <a:lnTo>
                    <a:pt x="159003" y="59689"/>
                  </a:lnTo>
                  <a:lnTo>
                    <a:pt x="171450" y="59689"/>
                  </a:lnTo>
                  <a:lnTo>
                    <a:pt x="183769" y="58293"/>
                  </a:lnTo>
                  <a:lnTo>
                    <a:pt x="195833" y="55245"/>
                  </a:lnTo>
                  <a:lnTo>
                    <a:pt x="207771" y="50800"/>
                  </a:lnTo>
                  <a:lnTo>
                    <a:pt x="218948" y="44703"/>
                  </a:lnTo>
                  <a:lnTo>
                    <a:pt x="229996" y="36957"/>
                  </a:lnTo>
                  <a:lnTo>
                    <a:pt x="240283" y="27431"/>
                  </a:lnTo>
                  <a:lnTo>
                    <a:pt x="237363" y="38862"/>
                  </a:lnTo>
                  <a:lnTo>
                    <a:pt x="233171" y="49149"/>
                  </a:lnTo>
                  <a:lnTo>
                    <a:pt x="228345" y="58674"/>
                  </a:lnTo>
                  <a:lnTo>
                    <a:pt x="222757" y="67437"/>
                  </a:lnTo>
                  <a:lnTo>
                    <a:pt x="211836" y="83820"/>
                  </a:lnTo>
                  <a:lnTo>
                    <a:pt x="202057" y="100583"/>
                  </a:lnTo>
                  <a:lnTo>
                    <a:pt x="194690" y="105028"/>
                  </a:lnTo>
                  <a:lnTo>
                    <a:pt x="186563" y="107822"/>
                  </a:lnTo>
                  <a:lnTo>
                    <a:pt x="178053" y="109220"/>
                  </a:lnTo>
                  <a:lnTo>
                    <a:pt x="169037" y="109474"/>
                  </a:lnTo>
                  <a:lnTo>
                    <a:pt x="150494" y="107822"/>
                  </a:lnTo>
                  <a:lnTo>
                    <a:pt x="132461" y="105283"/>
                  </a:lnTo>
                  <a:lnTo>
                    <a:pt x="100457" y="100583"/>
                  </a:lnTo>
                  <a:lnTo>
                    <a:pt x="84074" y="98044"/>
                  </a:lnTo>
                  <a:lnTo>
                    <a:pt x="68326" y="94107"/>
                  </a:lnTo>
                  <a:lnTo>
                    <a:pt x="52958" y="89153"/>
                  </a:lnTo>
                  <a:lnTo>
                    <a:pt x="38226" y="82803"/>
                  </a:lnTo>
                  <a:lnTo>
                    <a:pt x="25145" y="74421"/>
                  </a:lnTo>
                  <a:lnTo>
                    <a:pt x="19176" y="69722"/>
                  </a:lnTo>
                  <a:lnTo>
                    <a:pt x="13462" y="63881"/>
                  </a:lnTo>
                  <a:lnTo>
                    <a:pt x="6857" y="54990"/>
                  </a:lnTo>
                  <a:lnTo>
                    <a:pt x="2032" y="44450"/>
                  </a:lnTo>
                  <a:lnTo>
                    <a:pt x="0" y="33020"/>
                  </a:lnTo>
                  <a:lnTo>
                    <a:pt x="634" y="28066"/>
                  </a:lnTo>
                  <a:lnTo>
                    <a:pt x="2158" y="22987"/>
                  </a:lnTo>
                  <a:lnTo>
                    <a:pt x="5588" y="18034"/>
                  </a:lnTo>
                  <a:lnTo>
                    <a:pt x="9651" y="13843"/>
                  </a:lnTo>
                  <a:lnTo>
                    <a:pt x="15367" y="10287"/>
                  </a:lnTo>
                  <a:lnTo>
                    <a:pt x="21589" y="7112"/>
                  </a:lnTo>
                  <a:lnTo>
                    <a:pt x="35051"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2" name="Freeform 62"/>
            <p:cNvSpPr/>
            <p:nvPr/>
          </p:nvSpPr>
          <p:spPr>
            <a:xfrm>
              <a:off x="6026400" y="268272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4" h="97919">
                  <a:moveTo>
                    <a:pt x="0" y="83186"/>
                  </a:moveTo>
                  <a:lnTo>
                    <a:pt x="762" y="77343"/>
                  </a:lnTo>
                  <a:lnTo>
                    <a:pt x="2413" y="71502"/>
                  </a:lnTo>
                  <a:lnTo>
                    <a:pt x="5080" y="65405"/>
                  </a:lnTo>
                  <a:lnTo>
                    <a:pt x="13081" y="53468"/>
                  </a:lnTo>
                  <a:lnTo>
                    <a:pt x="23240" y="41784"/>
                  </a:lnTo>
                  <a:lnTo>
                    <a:pt x="35178" y="30608"/>
                  </a:lnTo>
                  <a:lnTo>
                    <a:pt x="47497" y="20955"/>
                  </a:lnTo>
                  <a:lnTo>
                    <a:pt x="59436" y="12827"/>
                  </a:lnTo>
                  <a:lnTo>
                    <a:pt x="70103" y="6477"/>
                  </a:lnTo>
                  <a:lnTo>
                    <a:pt x="76962" y="3430"/>
                  </a:lnTo>
                  <a:lnTo>
                    <a:pt x="84327" y="1397"/>
                  </a:lnTo>
                  <a:lnTo>
                    <a:pt x="92582" y="381"/>
                  </a:lnTo>
                  <a:lnTo>
                    <a:pt x="101219" y="0"/>
                  </a:lnTo>
                  <a:lnTo>
                    <a:pt x="109982" y="636"/>
                  </a:lnTo>
                  <a:lnTo>
                    <a:pt x="119252" y="2287"/>
                  </a:lnTo>
                  <a:lnTo>
                    <a:pt x="137540" y="6986"/>
                  </a:lnTo>
                  <a:lnTo>
                    <a:pt x="146557" y="10668"/>
                  </a:lnTo>
                  <a:lnTo>
                    <a:pt x="154939" y="14859"/>
                  </a:lnTo>
                  <a:lnTo>
                    <a:pt x="162940" y="19812"/>
                  </a:lnTo>
                  <a:lnTo>
                    <a:pt x="170561" y="25020"/>
                  </a:lnTo>
                  <a:lnTo>
                    <a:pt x="177419" y="31243"/>
                  </a:lnTo>
                  <a:lnTo>
                    <a:pt x="183133" y="37593"/>
                  </a:lnTo>
                  <a:lnTo>
                    <a:pt x="188087" y="44831"/>
                  </a:lnTo>
                  <a:lnTo>
                    <a:pt x="191643" y="52324"/>
                  </a:lnTo>
                  <a:lnTo>
                    <a:pt x="177672" y="47371"/>
                  </a:lnTo>
                  <a:lnTo>
                    <a:pt x="165734" y="42037"/>
                  </a:lnTo>
                  <a:lnTo>
                    <a:pt x="154432" y="36196"/>
                  </a:lnTo>
                  <a:lnTo>
                    <a:pt x="144399" y="30353"/>
                  </a:lnTo>
                  <a:lnTo>
                    <a:pt x="134874" y="25020"/>
                  </a:lnTo>
                  <a:lnTo>
                    <a:pt x="126111" y="20574"/>
                  </a:lnTo>
                  <a:lnTo>
                    <a:pt x="117347" y="17018"/>
                  </a:lnTo>
                  <a:lnTo>
                    <a:pt x="108965" y="14987"/>
                  </a:lnTo>
                  <a:lnTo>
                    <a:pt x="100330" y="14859"/>
                  </a:lnTo>
                  <a:lnTo>
                    <a:pt x="91694" y="17272"/>
                  </a:lnTo>
                  <a:lnTo>
                    <a:pt x="82676" y="21971"/>
                  </a:lnTo>
                  <a:lnTo>
                    <a:pt x="72897" y="29846"/>
                  </a:lnTo>
                  <a:lnTo>
                    <a:pt x="67437" y="34799"/>
                  </a:lnTo>
                  <a:lnTo>
                    <a:pt x="62230" y="40640"/>
                  </a:lnTo>
                  <a:lnTo>
                    <a:pt x="56514" y="47880"/>
                  </a:lnTo>
                  <a:lnTo>
                    <a:pt x="50419" y="55627"/>
                  </a:lnTo>
                  <a:lnTo>
                    <a:pt x="44195" y="64517"/>
                  </a:lnTo>
                  <a:lnTo>
                    <a:pt x="37338" y="74549"/>
                  </a:lnTo>
                  <a:lnTo>
                    <a:pt x="30226" y="85599"/>
                  </a:lnTo>
                  <a:lnTo>
                    <a:pt x="22859" y="97918"/>
                  </a:lnTo>
                  <a:lnTo>
                    <a:pt x="16256" y="97409"/>
                  </a:lnTo>
                  <a:lnTo>
                    <a:pt x="9270" y="96267"/>
                  </a:lnTo>
                  <a:lnTo>
                    <a:pt x="3556" y="93472"/>
                  </a:lnTo>
                  <a:lnTo>
                    <a:pt x="1524" y="91568"/>
                  </a:lnTo>
                  <a:lnTo>
                    <a:pt x="507"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Freeform 63"/>
            <p:cNvSpPr/>
            <p:nvPr/>
          </p:nvSpPr>
          <p:spPr>
            <a:xfrm>
              <a:off x="5319360" y="222156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7" y="148718"/>
                  </a:moveTo>
                  <a:lnTo>
                    <a:pt x="591186" y="153671"/>
                  </a:lnTo>
                  <a:lnTo>
                    <a:pt x="558673" y="157862"/>
                  </a:lnTo>
                  <a:lnTo>
                    <a:pt x="524892" y="161163"/>
                  </a:lnTo>
                  <a:lnTo>
                    <a:pt x="489967" y="163958"/>
                  </a:lnTo>
                  <a:lnTo>
                    <a:pt x="454153" y="165990"/>
                  </a:lnTo>
                  <a:lnTo>
                    <a:pt x="417830" y="167133"/>
                  </a:lnTo>
                  <a:lnTo>
                    <a:pt x="381509" y="167259"/>
                  </a:lnTo>
                  <a:lnTo>
                    <a:pt x="344679" y="167133"/>
                  </a:lnTo>
                  <a:lnTo>
                    <a:pt x="308611" y="165990"/>
                  </a:lnTo>
                  <a:lnTo>
                    <a:pt x="272669" y="163958"/>
                  </a:lnTo>
                  <a:lnTo>
                    <a:pt x="237744" y="161163"/>
                  </a:lnTo>
                  <a:lnTo>
                    <a:pt x="203836" y="157862"/>
                  </a:lnTo>
                  <a:lnTo>
                    <a:pt x="171323" y="153671"/>
                  </a:lnTo>
                  <a:lnTo>
                    <a:pt x="140843" y="148718"/>
                  </a:lnTo>
                  <a:lnTo>
                    <a:pt x="111506" y="142875"/>
                  </a:lnTo>
                  <a:lnTo>
                    <a:pt x="85598" y="136525"/>
                  </a:lnTo>
                  <a:lnTo>
                    <a:pt x="62738" y="129540"/>
                  </a:lnTo>
                  <a:lnTo>
                    <a:pt x="43561" y="122556"/>
                  </a:lnTo>
                  <a:lnTo>
                    <a:pt x="27813" y="115316"/>
                  </a:lnTo>
                  <a:lnTo>
                    <a:pt x="15494" y="107569"/>
                  </a:lnTo>
                  <a:lnTo>
                    <a:pt x="6986" y="99441"/>
                  </a:lnTo>
                  <a:lnTo>
                    <a:pt x="1524" y="91694"/>
                  </a:lnTo>
                  <a:lnTo>
                    <a:pt x="0" y="83693"/>
                  </a:lnTo>
                  <a:lnTo>
                    <a:pt x="1524" y="75565"/>
                  </a:lnTo>
                  <a:lnTo>
                    <a:pt x="6986" y="67818"/>
                  </a:lnTo>
                  <a:lnTo>
                    <a:pt x="15494" y="59818"/>
                  </a:lnTo>
                  <a:lnTo>
                    <a:pt x="27813" y="51943"/>
                  </a:lnTo>
                  <a:lnTo>
                    <a:pt x="43561" y="44450"/>
                  </a:lnTo>
                  <a:lnTo>
                    <a:pt x="62738" y="37465"/>
                  </a:lnTo>
                  <a:lnTo>
                    <a:pt x="85598" y="30862"/>
                  </a:lnTo>
                  <a:lnTo>
                    <a:pt x="111506" y="24512"/>
                  </a:lnTo>
                  <a:lnTo>
                    <a:pt x="140843" y="18543"/>
                  </a:lnTo>
                  <a:lnTo>
                    <a:pt x="171323" y="13590"/>
                  </a:lnTo>
                  <a:lnTo>
                    <a:pt x="203836" y="9399"/>
                  </a:lnTo>
                  <a:lnTo>
                    <a:pt x="237744" y="6096"/>
                  </a:lnTo>
                  <a:lnTo>
                    <a:pt x="272669" y="3303"/>
                  </a:lnTo>
                  <a:lnTo>
                    <a:pt x="308611" y="1397"/>
                  </a:lnTo>
                  <a:lnTo>
                    <a:pt x="344679" y="255"/>
                  </a:lnTo>
                  <a:lnTo>
                    <a:pt x="381509" y="0"/>
                  </a:lnTo>
                  <a:lnTo>
                    <a:pt x="417830" y="255"/>
                  </a:lnTo>
                  <a:lnTo>
                    <a:pt x="454153" y="1397"/>
                  </a:lnTo>
                  <a:lnTo>
                    <a:pt x="489967" y="3303"/>
                  </a:lnTo>
                  <a:lnTo>
                    <a:pt x="524892" y="6096"/>
                  </a:lnTo>
                  <a:lnTo>
                    <a:pt x="558673" y="9399"/>
                  </a:lnTo>
                  <a:lnTo>
                    <a:pt x="591186" y="13590"/>
                  </a:lnTo>
                  <a:lnTo>
                    <a:pt x="622047" y="18543"/>
                  </a:lnTo>
                  <a:lnTo>
                    <a:pt x="651003" y="24512"/>
                  </a:lnTo>
                  <a:lnTo>
                    <a:pt x="677292" y="30862"/>
                  </a:lnTo>
                  <a:lnTo>
                    <a:pt x="700152" y="37465"/>
                  </a:lnTo>
                  <a:lnTo>
                    <a:pt x="718948" y="44450"/>
                  </a:lnTo>
                  <a:lnTo>
                    <a:pt x="734823" y="51943"/>
                  </a:lnTo>
                  <a:lnTo>
                    <a:pt x="747142" y="59818"/>
                  </a:lnTo>
                  <a:lnTo>
                    <a:pt x="755778" y="67818"/>
                  </a:lnTo>
                  <a:lnTo>
                    <a:pt x="760985" y="75565"/>
                  </a:lnTo>
                  <a:lnTo>
                    <a:pt x="762890" y="83693"/>
                  </a:lnTo>
                  <a:lnTo>
                    <a:pt x="760985" y="91694"/>
                  </a:lnTo>
                  <a:lnTo>
                    <a:pt x="755778" y="99441"/>
                  </a:lnTo>
                  <a:lnTo>
                    <a:pt x="747142" y="107569"/>
                  </a:lnTo>
                  <a:lnTo>
                    <a:pt x="734823" y="115316"/>
                  </a:lnTo>
                  <a:lnTo>
                    <a:pt x="718948"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4" name="Freeform 64"/>
            <p:cNvSpPr/>
            <p:nvPr/>
          </p:nvSpPr>
          <p:spPr>
            <a:xfrm>
              <a:off x="6146640" y="267912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6" y="15239"/>
                  </a:lnTo>
                  <a:lnTo>
                    <a:pt x="-32516" y="10160"/>
                  </a:lnTo>
                  <a:lnTo>
                    <a:pt x="24129" y="5079"/>
                  </a:lnTo>
                  <a:lnTo>
                    <a:pt x="15240"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55" name="Freeform 65"/>
            <p:cNvSpPr/>
            <p:nvPr/>
          </p:nvSpPr>
          <p:spPr>
            <a:xfrm>
              <a:off x="6132600" y="331668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5" y="12700"/>
                  </a:lnTo>
                  <a:lnTo>
                    <a:pt x="-28706" y="11430"/>
                  </a:lnTo>
                  <a:lnTo>
                    <a:pt x="29211" y="11430"/>
                  </a:lnTo>
                  <a:lnTo>
                    <a:pt x="22861" y="7619"/>
                  </a:lnTo>
                  <a:lnTo>
                    <a:pt x="11430"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56" name="Freeform 66"/>
            <p:cNvSpPr/>
            <p:nvPr/>
          </p:nvSpPr>
          <p:spPr>
            <a:xfrm>
              <a:off x="5581440" y="240480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40" y="7621"/>
                  </a:lnTo>
                  <a:lnTo>
                    <a:pt x="92709" y="7621"/>
                  </a:lnTo>
                  <a:lnTo>
                    <a:pt x="68579" y="7621"/>
                  </a:lnTo>
                  <a:lnTo>
                    <a:pt x="43179"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57" name="Group 82"/>
          <p:cNvGrpSpPr/>
          <p:nvPr/>
        </p:nvGrpSpPr>
        <p:grpSpPr>
          <a:xfrm>
            <a:off x="6402240" y="2211480"/>
            <a:ext cx="1097280" cy="1344600"/>
            <a:chOff x="6402240" y="2211480"/>
            <a:chExt cx="1097280" cy="1344600"/>
          </a:xfrm>
        </p:grpSpPr>
        <p:sp>
          <p:nvSpPr>
            <p:cNvPr id="558" name="Freeform 68"/>
            <p:cNvSpPr/>
            <p:nvPr/>
          </p:nvSpPr>
          <p:spPr>
            <a:xfrm>
              <a:off x="6402240" y="2314440"/>
              <a:ext cx="809640" cy="1241640"/>
            </a:xfrm>
            <a:custGeom>
              <a:avLst/>
              <a:gdLst>
                <a:gd name="textAreaLeft" fmla="*/ 0 w 809640"/>
                <a:gd name="textAreaRight" fmla="*/ 810000 w 80964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4"/>
                  </a:lnTo>
                  <a:lnTo>
                    <a:pt x="807592" y="1110741"/>
                  </a:lnTo>
                  <a:lnTo>
                    <a:pt x="805941" y="1116329"/>
                  </a:lnTo>
                  <a:lnTo>
                    <a:pt x="802640" y="1122171"/>
                  </a:lnTo>
                  <a:lnTo>
                    <a:pt x="798322" y="1128903"/>
                  </a:lnTo>
                  <a:lnTo>
                    <a:pt x="791972" y="1136396"/>
                  </a:lnTo>
                  <a:lnTo>
                    <a:pt x="783843" y="1145540"/>
                  </a:lnTo>
                  <a:lnTo>
                    <a:pt x="770763" y="1157223"/>
                  </a:lnTo>
                  <a:lnTo>
                    <a:pt x="755395" y="1168019"/>
                  </a:lnTo>
                  <a:lnTo>
                    <a:pt x="738251" y="1178052"/>
                  </a:lnTo>
                  <a:lnTo>
                    <a:pt x="719074" y="1187830"/>
                  </a:lnTo>
                  <a:lnTo>
                    <a:pt x="697865" y="1196466"/>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6"/>
                  </a:lnTo>
                  <a:lnTo>
                    <a:pt x="81914" y="1187830"/>
                  </a:lnTo>
                  <a:lnTo>
                    <a:pt x="64769" y="1178052"/>
                  </a:lnTo>
                  <a:lnTo>
                    <a:pt x="49149" y="1168019"/>
                  </a:lnTo>
                  <a:lnTo>
                    <a:pt x="36068" y="1157223"/>
                  </a:lnTo>
                  <a:lnTo>
                    <a:pt x="25400" y="1145540"/>
                  </a:lnTo>
                  <a:lnTo>
                    <a:pt x="21081" y="1140840"/>
                  </a:lnTo>
                  <a:lnTo>
                    <a:pt x="17272" y="1136903"/>
                  </a:lnTo>
                  <a:lnTo>
                    <a:pt x="10668" y="1130172"/>
                  </a:lnTo>
                  <a:lnTo>
                    <a:pt x="6350" y="1124711"/>
                  </a:lnTo>
                  <a:lnTo>
                    <a:pt x="3301" y="1119759"/>
                  </a:lnTo>
                  <a:lnTo>
                    <a:pt x="1650"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9" name="Freeform 69"/>
            <p:cNvSpPr/>
            <p:nvPr/>
          </p:nvSpPr>
          <p:spPr>
            <a:xfrm>
              <a:off x="6402960" y="2314800"/>
              <a:ext cx="809280" cy="1240560"/>
            </a:xfrm>
            <a:custGeom>
              <a:avLst/>
              <a:gdLst>
                <a:gd name="textAreaLeft" fmla="*/ 0 w 809280"/>
                <a:gd name="textAreaRight" fmla="*/ 809640 w 80928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80"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29"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500" y="1228090"/>
                  </a:lnTo>
                  <a:lnTo>
                    <a:pt x="599440" y="1221740"/>
                  </a:lnTo>
                  <a:lnTo>
                    <a:pt x="626110" y="1217930"/>
                  </a:lnTo>
                  <a:lnTo>
                    <a:pt x="651510" y="1211580"/>
                  </a:lnTo>
                  <a:lnTo>
                    <a:pt x="674369" y="1203960"/>
                  </a:lnTo>
                  <a:lnTo>
                    <a:pt x="697229" y="1196340"/>
                  </a:lnTo>
                  <a:lnTo>
                    <a:pt x="718819" y="1187449"/>
                  </a:lnTo>
                  <a:lnTo>
                    <a:pt x="737869" y="1178560"/>
                  </a:lnTo>
                  <a:lnTo>
                    <a:pt x="755650" y="1167130"/>
                  </a:lnTo>
                  <a:lnTo>
                    <a:pt x="770890" y="1155699"/>
                  </a:lnTo>
                  <a:lnTo>
                    <a:pt x="783590" y="1145540"/>
                  </a:lnTo>
                  <a:lnTo>
                    <a:pt x="792479" y="1136649"/>
                  </a:lnTo>
                  <a:lnTo>
                    <a:pt x="797560" y="1129030"/>
                  </a:lnTo>
                  <a:lnTo>
                    <a:pt x="802640" y="1122680"/>
                  </a:lnTo>
                  <a:lnTo>
                    <a:pt x="805179" y="1115060"/>
                  </a:lnTo>
                  <a:lnTo>
                    <a:pt x="806450" y="1109980"/>
                  </a:lnTo>
                  <a:lnTo>
                    <a:pt x="807719"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0" name="Freeform 70"/>
            <p:cNvSpPr/>
            <p:nvPr/>
          </p:nvSpPr>
          <p:spPr>
            <a:xfrm>
              <a:off x="6402240" y="2211480"/>
              <a:ext cx="809640" cy="205920"/>
            </a:xfrm>
            <a:custGeom>
              <a:avLst/>
              <a:gdLst>
                <a:gd name="textAreaLeft" fmla="*/ 0 w 809640"/>
                <a:gd name="textAreaRight" fmla="*/ 810000 w 809640"/>
                <a:gd name="textAreaTop" fmla="*/ 0 h 205920"/>
                <a:gd name="textAreaBottom" fmla="*/ 206280 h 205920"/>
              </a:gdLst>
              <a:ahLst/>
              <a:rect l="textAreaLeft" t="textAreaTop" r="textAreaRight" b="textAreaBottom"/>
              <a:pathLst>
                <a:path w="809244" h="206122">
                  <a:moveTo>
                    <a:pt x="659891" y="183008"/>
                  </a:moveTo>
                  <a:lnTo>
                    <a:pt x="627379" y="189103"/>
                  </a:lnTo>
                  <a:lnTo>
                    <a:pt x="592708" y="194183"/>
                  </a:lnTo>
                  <a:lnTo>
                    <a:pt x="556894" y="198248"/>
                  </a:lnTo>
                  <a:lnTo>
                    <a:pt x="519811" y="201677"/>
                  </a:lnTo>
                  <a:lnTo>
                    <a:pt x="481838" y="204217"/>
                  </a:lnTo>
                  <a:lnTo>
                    <a:pt x="443356" y="205487"/>
                  </a:lnTo>
                  <a:lnTo>
                    <a:pt x="404622" y="206121"/>
                  </a:lnTo>
                  <a:lnTo>
                    <a:pt x="365887" y="205487"/>
                  </a:lnTo>
                  <a:lnTo>
                    <a:pt x="327405" y="204217"/>
                  </a:lnTo>
                  <a:lnTo>
                    <a:pt x="289432" y="201677"/>
                  </a:lnTo>
                  <a:lnTo>
                    <a:pt x="252603" y="198248"/>
                  </a:lnTo>
                  <a:lnTo>
                    <a:pt x="216535" y="194183"/>
                  </a:lnTo>
                  <a:lnTo>
                    <a:pt x="182117" y="189103"/>
                  </a:lnTo>
                  <a:lnTo>
                    <a:pt x="149352" y="183008"/>
                  </a:lnTo>
                  <a:lnTo>
                    <a:pt x="118744" y="175768"/>
                  </a:lnTo>
                  <a:lnTo>
                    <a:pt x="104266" y="171831"/>
                  </a:lnTo>
                  <a:lnTo>
                    <a:pt x="90931" y="168021"/>
                  </a:lnTo>
                  <a:lnTo>
                    <a:pt x="78358" y="164084"/>
                  </a:lnTo>
                  <a:lnTo>
                    <a:pt x="66929" y="159640"/>
                  </a:lnTo>
                  <a:lnTo>
                    <a:pt x="56261" y="155449"/>
                  </a:lnTo>
                  <a:lnTo>
                    <a:pt x="46481" y="150749"/>
                  </a:lnTo>
                  <a:lnTo>
                    <a:pt x="29844" y="141605"/>
                  </a:lnTo>
                  <a:lnTo>
                    <a:pt x="17018" y="132334"/>
                  </a:lnTo>
                  <a:lnTo>
                    <a:pt x="7747" y="122683"/>
                  </a:lnTo>
                  <a:lnTo>
                    <a:pt x="2031" y="112903"/>
                  </a:lnTo>
                  <a:lnTo>
                    <a:pt x="0" y="103252"/>
                  </a:lnTo>
                  <a:lnTo>
                    <a:pt x="2031" y="93218"/>
                  </a:lnTo>
                  <a:lnTo>
                    <a:pt x="7747" y="83186"/>
                  </a:lnTo>
                  <a:lnTo>
                    <a:pt x="17018" y="73787"/>
                  </a:lnTo>
                  <a:lnTo>
                    <a:pt x="29844" y="64262"/>
                  </a:lnTo>
                  <a:lnTo>
                    <a:pt x="46481" y="55118"/>
                  </a:lnTo>
                  <a:lnTo>
                    <a:pt x="56261" y="50674"/>
                  </a:lnTo>
                  <a:lnTo>
                    <a:pt x="66929" y="46483"/>
                  </a:lnTo>
                  <a:lnTo>
                    <a:pt x="78358" y="42292"/>
                  </a:lnTo>
                  <a:lnTo>
                    <a:pt x="90931" y="38100"/>
                  </a:lnTo>
                  <a:lnTo>
                    <a:pt x="104266" y="34037"/>
                  </a:lnTo>
                  <a:lnTo>
                    <a:pt x="118744" y="30099"/>
                  </a:lnTo>
                  <a:lnTo>
                    <a:pt x="149352" y="23115"/>
                  </a:lnTo>
                  <a:lnTo>
                    <a:pt x="182117" y="17018"/>
                  </a:lnTo>
                  <a:lnTo>
                    <a:pt x="216535" y="12065"/>
                  </a:lnTo>
                  <a:lnTo>
                    <a:pt x="252603" y="7621"/>
                  </a:lnTo>
                  <a:lnTo>
                    <a:pt x="289432" y="4192"/>
                  </a:lnTo>
                  <a:lnTo>
                    <a:pt x="327405" y="2033"/>
                  </a:lnTo>
                  <a:lnTo>
                    <a:pt x="365887" y="636"/>
                  </a:lnTo>
                  <a:lnTo>
                    <a:pt x="404622" y="0"/>
                  </a:lnTo>
                  <a:lnTo>
                    <a:pt x="443356" y="636"/>
                  </a:lnTo>
                  <a:lnTo>
                    <a:pt x="481838" y="2033"/>
                  </a:lnTo>
                  <a:lnTo>
                    <a:pt x="519811" y="4192"/>
                  </a:lnTo>
                  <a:lnTo>
                    <a:pt x="556894" y="7621"/>
                  </a:lnTo>
                  <a:lnTo>
                    <a:pt x="592708" y="12065"/>
                  </a:lnTo>
                  <a:lnTo>
                    <a:pt x="627379" y="17018"/>
                  </a:lnTo>
                  <a:lnTo>
                    <a:pt x="659891" y="23115"/>
                  </a:lnTo>
                  <a:lnTo>
                    <a:pt x="690499" y="30099"/>
                  </a:lnTo>
                  <a:lnTo>
                    <a:pt x="705230" y="34037"/>
                  </a:lnTo>
                  <a:lnTo>
                    <a:pt x="718312" y="38100"/>
                  </a:lnTo>
                  <a:lnTo>
                    <a:pt x="730885" y="42292"/>
                  </a:lnTo>
                  <a:lnTo>
                    <a:pt x="742568" y="46483"/>
                  </a:lnTo>
                  <a:lnTo>
                    <a:pt x="752982" y="50674"/>
                  </a:lnTo>
                  <a:lnTo>
                    <a:pt x="762762" y="55118"/>
                  </a:lnTo>
                  <a:lnTo>
                    <a:pt x="779399" y="64262"/>
                  </a:lnTo>
                  <a:lnTo>
                    <a:pt x="792479" y="73787"/>
                  </a:lnTo>
                  <a:lnTo>
                    <a:pt x="801878" y="83186"/>
                  </a:lnTo>
                  <a:lnTo>
                    <a:pt x="807212" y="93218"/>
                  </a:lnTo>
                  <a:lnTo>
                    <a:pt x="809243" y="103252"/>
                  </a:lnTo>
                  <a:lnTo>
                    <a:pt x="807212" y="112903"/>
                  </a:lnTo>
                  <a:lnTo>
                    <a:pt x="801878" y="122683"/>
                  </a:lnTo>
                  <a:lnTo>
                    <a:pt x="792479" y="132334"/>
                  </a:lnTo>
                  <a:lnTo>
                    <a:pt x="779399" y="141605"/>
                  </a:lnTo>
                  <a:lnTo>
                    <a:pt x="762762" y="150749"/>
                  </a:lnTo>
                  <a:lnTo>
                    <a:pt x="752982" y="155449"/>
                  </a:lnTo>
                  <a:lnTo>
                    <a:pt x="742568" y="159640"/>
                  </a:lnTo>
                  <a:lnTo>
                    <a:pt x="730885" y="164084"/>
                  </a:lnTo>
                  <a:lnTo>
                    <a:pt x="718312" y="168021"/>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Freeform 71"/>
            <p:cNvSpPr/>
            <p:nvPr/>
          </p:nvSpPr>
          <p:spPr>
            <a:xfrm>
              <a:off x="6402960" y="2212200"/>
              <a:ext cx="809280" cy="205560"/>
            </a:xfrm>
            <a:custGeom>
              <a:avLst/>
              <a:gdLst>
                <a:gd name="textAreaLeft" fmla="*/ 0 w 809280"/>
                <a:gd name="textAreaRight" fmla="*/ 809640 w 809280"/>
                <a:gd name="textAreaTop" fmla="*/ 0 h 205560"/>
                <a:gd name="textAreaBottom" fmla="*/ 205920 h 205560"/>
              </a:gdLst>
              <a:ahLst/>
              <a:rect l="textAreaLeft" t="textAreaTop" r="textAreaRight" b="textAreaBottom"/>
              <a:pathLst>
                <a:path w="808991" h="205741">
                  <a:moveTo>
                    <a:pt x="689610" y="175261"/>
                  </a:moveTo>
                  <a:lnTo>
                    <a:pt x="704850" y="171450"/>
                  </a:lnTo>
                  <a:lnTo>
                    <a:pt x="716279" y="167640"/>
                  </a:lnTo>
                  <a:lnTo>
                    <a:pt x="730250" y="163831"/>
                  </a:lnTo>
                  <a:lnTo>
                    <a:pt x="741679" y="158750"/>
                  </a:lnTo>
                  <a:lnTo>
                    <a:pt x="751840" y="154940"/>
                  </a:lnTo>
                  <a:lnTo>
                    <a:pt x="762000" y="149861"/>
                  </a:lnTo>
                  <a:lnTo>
                    <a:pt x="778510" y="139700"/>
                  </a:lnTo>
                  <a:lnTo>
                    <a:pt x="792479" y="132081"/>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1"/>
                  </a:lnTo>
                  <a:lnTo>
                    <a:pt x="741679" y="45721"/>
                  </a:lnTo>
                  <a:lnTo>
                    <a:pt x="730250" y="41911"/>
                  </a:lnTo>
                  <a:lnTo>
                    <a:pt x="716279" y="36831"/>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39"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39"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Freeform 72"/>
            <p:cNvSpPr/>
            <p:nvPr/>
          </p:nvSpPr>
          <p:spPr>
            <a:xfrm>
              <a:off x="6430320" y="2385360"/>
              <a:ext cx="755640" cy="1127160"/>
            </a:xfrm>
            <a:custGeom>
              <a:avLst/>
              <a:gdLst>
                <a:gd name="textAreaLeft" fmla="*/ 0 w 755640"/>
                <a:gd name="textAreaRight" fmla="*/ 756000 w 755640"/>
                <a:gd name="textAreaTop" fmla="*/ 0 h 1127160"/>
                <a:gd name="textAreaBottom" fmla="*/ 1127520 h 1127160"/>
              </a:gdLst>
              <a:ahLst/>
              <a:rect l="textAreaLeft" t="textAreaTop" r="textAreaRight" b="textAreaBottom"/>
              <a:pathLst>
                <a:path w="755270" h="1127507">
                  <a:moveTo>
                    <a:pt x="26796" y="11303"/>
                  </a:moveTo>
                  <a:lnTo>
                    <a:pt x="45974" y="17525"/>
                  </a:lnTo>
                  <a:lnTo>
                    <a:pt x="65913" y="23368"/>
                  </a:lnTo>
                  <a:lnTo>
                    <a:pt x="87122" y="28828"/>
                  </a:lnTo>
                  <a:lnTo>
                    <a:pt x="109600" y="34162"/>
                  </a:lnTo>
                  <a:lnTo>
                    <a:pt x="132714" y="38607"/>
                  </a:lnTo>
                  <a:lnTo>
                    <a:pt x="157098" y="42799"/>
                  </a:lnTo>
                  <a:lnTo>
                    <a:pt x="181990" y="46609"/>
                  </a:lnTo>
                  <a:lnTo>
                    <a:pt x="207518" y="50037"/>
                  </a:lnTo>
                  <a:lnTo>
                    <a:pt x="233807" y="52578"/>
                  </a:lnTo>
                  <a:lnTo>
                    <a:pt x="287527" y="57277"/>
                  </a:lnTo>
                  <a:lnTo>
                    <a:pt x="342391" y="60071"/>
                  </a:lnTo>
                  <a:lnTo>
                    <a:pt x="397383" y="60832"/>
                  </a:lnTo>
                  <a:lnTo>
                    <a:pt x="452120" y="60071"/>
                  </a:lnTo>
                  <a:lnTo>
                    <a:pt x="505333" y="57022"/>
                  </a:lnTo>
                  <a:lnTo>
                    <a:pt x="531368" y="55118"/>
                  </a:lnTo>
                  <a:lnTo>
                    <a:pt x="556768" y="52578"/>
                  </a:lnTo>
                  <a:lnTo>
                    <a:pt x="581278" y="49403"/>
                  </a:lnTo>
                  <a:lnTo>
                    <a:pt x="605409" y="45847"/>
                  </a:lnTo>
                  <a:lnTo>
                    <a:pt x="628269" y="41909"/>
                  </a:lnTo>
                  <a:lnTo>
                    <a:pt x="650112" y="37591"/>
                  </a:lnTo>
                  <a:lnTo>
                    <a:pt x="670813" y="32512"/>
                  </a:lnTo>
                  <a:lnTo>
                    <a:pt x="690498" y="26924"/>
                  </a:lnTo>
                  <a:lnTo>
                    <a:pt x="708786" y="21209"/>
                  </a:lnTo>
                  <a:lnTo>
                    <a:pt x="725677" y="14731"/>
                  </a:lnTo>
                  <a:lnTo>
                    <a:pt x="741298" y="7493"/>
                  </a:lnTo>
                  <a:lnTo>
                    <a:pt x="755269" y="0"/>
                  </a:lnTo>
                  <a:lnTo>
                    <a:pt x="755269" y="1016126"/>
                  </a:lnTo>
                  <a:lnTo>
                    <a:pt x="737108" y="1030732"/>
                  </a:lnTo>
                  <a:lnTo>
                    <a:pt x="717803" y="1044447"/>
                  </a:lnTo>
                  <a:lnTo>
                    <a:pt x="697357" y="1057147"/>
                  </a:lnTo>
                  <a:lnTo>
                    <a:pt x="675766" y="1068577"/>
                  </a:lnTo>
                  <a:lnTo>
                    <a:pt x="653414" y="1078864"/>
                  </a:lnTo>
                  <a:lnTo>
                    <a:pt x="629920" y="1088263"/>
                  </a:lnTo>
                  <a:lnTo>
                    <a:pt x="605409" y="1096645"/>
                  </a:lnTo>
                  <a:lnTo>
                    <a:pt x="580516" y="1103630"/>
                  </a:lnTo>
                  <a:lnTo>
                    <a:pt x="554609" y="1109980"/>
                  </a:lnTo>
                  <a:lnTo>
                    <a:pt x="528320" y="1115059"/>
                  </a:lnTo>
                  <a:lnTo>
                    <a:pt x="501523" y="1119505"/>
                  </a:lnTo>
                  <a:lnTo>
                    <a:pt x="474345" y="1122807"/>
                  </a:lnTo>
                  <a:lnTo>
                    <a:pt x="447039" y="1125346"/>
                  </a:lnTo>
                  <a:lnTo>
                    <a:pt x="419481" y="1126744"/>
                  </a:lnTo>
                  <a:lnTo>
                    <a:pt x="364236" y="1127506"/>
                  </a:lnTo>
                  <a:lnTo>
                    <a:pt x="309372" y="1124965"/>
                  </a:lnTo>
                  <a:lnTo>
                    <a:pt x="282448" y="1122171"/>
                  </a:lnTo>
                  <a:lnTo>
                    <a:pt x="255650" y="1119251"/>
                  </a:lnTo>
                  <a:lnTo>
                    <a:pt x="229361" y="1115059"/>
                  </a:lnTo>
                  <a:lnTo>
                    <a:pt x="204088" y="1110233"/>
                  </a:lnTo>
                  <a:lnTo>
                    <a:pt x="178943" y="1105026"/>
                  </a:lnTo>
                  <a:lnTo>
                    <a:pt x="154812" y="1098931"/>
                  </a:lnTo>
                  <a:lnTo>
                    <a:pt x="131698" y="1092200"/>
                  </a:lnTo>
                  <a:lnTo>
                    <a:pt x="109220" y="1084960"/>
                  </a:lnTo>
                  <a:lnTo>
                    <a:pt x="87757" y="1077214"/>
                  </a:lnTo>
                  <a:lnTo>
                    <a:pt x="67818" y="1068577"/>
                  </a:lnTo>
                  <a:lnTo>
                    <a:pt x="48640" y="1059688"/>
                  </a:lnTo>
                  <a:lnTo>
                    <a:pt x="31241" y="1050163"/>
                  </a:lnTo>
                  <a:lnTo>
                    <a:pt x="14858"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3" name="Freeform 73"/>
            <p:cNvSpPr/>
            <p:nvPr/>
          </p:nvSpPr>
          <p:spPr>
            <a:xfrm>
              <a:off x="7119360" y="2635920"/>
              <a:ext cx="380160" cy="765000"/>
            </a:xfrm>
            <a:custGeom>
              <a:avLst/>
              <a:gdLst>
                <a:gd name="textAreaLeft" fmla="*/ 0 w 380160"/>
                <a:gd name="textAreaRight" fmla="*/ 380520 w 380160"/>
                <a:gd name="textAreaTop" fmla="*/ 0 h 765000"/>
                <a:gd name="textAreaBottom" fmla="*/ 765360 h 765000"/>
              </a:gdLst>
              <a:ahLst/>
              <a:rect l="textAreaLeft" t="textAreaTop" r="textAreaRight" b="textAreaBottom"/>
              <a:pathLst>
                <a:path w="379985" h="765302">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7"/>
                  </a:lnTo>
                  <a:lnTo>
                    <a:pt x="352678" y="654684"/>
                  </a:lnTo>
                  <a:lnTo>
                    <a:pt x="346455" y="673862"/>
                  </a:lnTo>
                  <a:lnTo>
                    <a:pt x="339343" y="692276"/>
                  </a:lnTo>
                  <a:lnTo>
                    <a:pt x="331724" y="708278"/>
                  </a:lnTo>
                  <a:lnTo>
                    <a:pt x="323214" y="723011"/>
                  </a:lnTo>
                  <a:lnTo>
                    <a:pt x="313943" y="736472"/>
                  </a:lnTo>
                  <a:lnTo>
                    <a:pt x="304164" y="747268"/>
                  </a:lnTo>
                  <a:lnTo>
                    <a:pt x="293115" y="756157"/>
                  </a:lnTo>
                  <a:lnTo>
                    <a:pt x="285750" y="758316"/>
                  </a:lnTo>
                  <a:lnTo>
                    <a:pt x="277622" y="760349"/>
                  </a:lnTo>
                  <a:lnTo>
                    <a:pt x="259841" y="763143"/>
                  </a:lnTo>
                  <a:lnTo>
                    <a:pt x="239902" y="764794"/>
                  </a:lnTo>
                  <a:lnTo>
                    <a:pt x="218693" y="765301"/>
                  </a:lnTo>
                  <a:lnTo>
                    <a:pt x="196088" y="764794"/>
                  </a:lnTo>
                  <a:lnTo>
                    <a:pt x="173354" y="763143"/>
                  </a:lnTo>
                  <a:lnTo>
                    <a:pt x="150113" y="760857"/>
                  </a:lnTo>
                  <a:lnTo>
                    <a:pt x="127508" y="758189"/>
                  </a:lnTo>
                  <a:lnTo>
                    <a:pt x="105663" y="754507"/>
                  </a:lnTo>
                  <a:lnTo>
                    <a:pt x="85216" y="750315"/>
                  </a:lnTo>
                  <a:lnTo>
                    <a:pt x="66548" y="745489"/>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89"/>
                  </a:lnTo>
                  <a:lnTo>
                    <a:pt x="15621" y="636651"/>
                  </a:lnTo>
                  <a:lnTo>
                    <a:pt x="17145" y="629920"/>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0"/>
                  </a:lnTo>
                  <a:lnTo>
                    <a:pt x="119634" y="629665"/>
                  </a:lnTo>
                  <a:lnTo>
                    <a:pt x="130175" y="640207"/>
                  </a:lnTo>
                  <a:lnTo>
                    <a:pt x="136525" y="644651"/>
                  </a:lnTo>
                  <a:lnTo>
                    <a:pt x="143128" y="649096"/>
                  </a:lnTo>
                  <a:lnTo>
                    <a:pt x="150495" y="652780"/>
                  </a:lnTo>
                  <a:lnTo>
                    <a:pt x="158623" y="655574"/>
                  </a:lnTo>
                  <a:lnTo>
                    <a:pt x="167386" y="657478"/>
                  </a:lnTo>
                  <a:lnTo>
                    <a:pt x="176402" y="658876"/>
                  </a:lnTo>
                  <a:lnTo>
                    <a:pt x="194945" y="658876"/>
                  </a:lnTo>
                  <a:lnTo>
                    <a:pt x="213487" y="656336"/>
                  </a:lnTo>
                  <a:lnTo>
                    <a:pt x="231521" y="651001"/>
                  </a:lnTo>
                  <a:lnTo>
                    <a:pt x="239902" y="647445"/>
                  </a:lnTo>
                  <a:lnTo>
                    <a:pt x="247650" y="643508"/>
                  </a:lnTo>
                  <a:lnTo>
                    <a:pt x="255015" y="638809"/>
                  </a:lnTo>
                  <a:lnTo>
                    <a:pt x="261874" y="633857"/>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4" name="Freeform 74"/>
            <p:cNvSpPr/>
            <p:nvPr/>
          </p:nvSpPr>
          <p:spPr>
            <a:xfrm>
              <a:off x="7119720" y="263484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90"/>
                  </a:lnTo>
                  <a:lnTo>
                    <a:pt x="278131" y="762000"/>
                  </a:lnTo>
                  <a:lnTo>
                    <a:pt x="260350" y="764540"/>
                  </a:lnTo>
                  <a:lnTo>
                    <a:pt x="240031" y="765809"/>
                  </a:lnTo>
                  <a:lnTo>
                    <a:pt x="218440" y="765809"/>
                  </a:lnTo>
                  <a:lnTo>
                    <a:pt x="195581" y="765809"/>
                  </a:lnTo>
                  <a:lnTo>
                    <a:pt x="172721" y="764540"/>
                  </a:lnTo>
                  <a:lnTo>
                    <a:pt x="149861" y="762000"/>
                  </a:lnTo>
                  <a:lnTo>
                    <a:pt x="127000" y="758190"/>
                  </a:lnTo>
                  <a:lnTo>
                    <a:pt x="105411" y="755650"/>
                  </a:lnTo>
                  <a:lnTo>
                    <a:pt x="85090" y="751840"/>
                  </a:lnTo>
                  <a:lnTo>
                    <a:pt x="67311" y="746759"/>
                  </a:lnTo>
                  <a:lnTo>
                    <a:pt x="50800" y="742950"/>
                  </a:lnTo>
                  <a:lnTo>
                    <a:pt x="35561" y="736600"/>
                  </a:lnTo>
                  <a:lnTo>
                    <a:pt x="25400" y="732790"/>
                  </a:lnTo>
                  <a:lnTo>
                    <a:pt x="19050" y="726440"/>
                  </a:lnTo>
                  <a:lnTo>
                    <a:pt x="17781" y="723900"/>
                  </a:lnTo>
                  <a:lnTo>
                    <a:pt x="16511" y="721359"/>
                  </a:lnTo>
                  <a:lnTo>
                    <a:pt x="16511" y="670559"/>
                  </a:lnTo>
                  <a:lnTo>
                    <a:pt x="15240" y="661670"/>
                  </a:lnTo>
                  <a:lnTo>
                    <a:pt x="13971" y="651509"/>
                  </a:lnTo>
                  <a:lnTo>
                    <a:pt x="13971" y="645159"/>
                  </a:lnTo>
                  <a:lnTo>
                    <a:pt x="15240" y="637540"/>
                  </a:lnTo>
                  <a:lnTo>
                    <a:pt x="17781" y="631190"/>
                  </a:lnTo>
                  <a:lnTo>
                    <a:pt x="19050" y="624840"/>
                  </a:lnTo>
                  <a:lnTo>
                    <a:pt x="21590" y="618490"/>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59"/>
                  </a:lnTo>
                  <a:lnTo>
                    <a:pt x="119381" y="629920"/>
                  </a:lnTo>
                  <a:lnTo>
                    <a:pt x="129540" y="641350"/>
                  </a:lnTo>
                  <a:lnTo>
                    <a:pt x="137161" y="645159"/>
                  </a:lnTo>
                  <a:lnTo>
                    <a:pt x="143511" y="650240"/>
                  </a:lnTo>
                  <a:lnTo>
                    <a:pt x="151131" y="654050"/>
                  </a:lnTo>
                  <a:lnTo>
                    <a:pt x="158750" y="655320"/>
                  </a:lnTo>
                  <a:lnTo>
                    <a:pt x="166371" y="659129"/>
                  </a:lnTo>
                  <a:lnTo>
                    <a:pt x="176531" y="659129"/>
                  </a:lnTo>
                  <a:lnTo>
                    <a:pt x="194311" y="659129"/>
                  </a:lnTo>
                  <a:lnTo>
                    <a:pt x="213361" y="656590"/>
                  </a:lnTo>
                  <a:lnTo>
                    <a:pt x="231140" y="651509"/>
                  </a:lnTo>
                  <a:lnTo>
                    <a:pt x="240031" y="648970"/>
                  </a:lnTo>
                  <a:lnTo>
                    <a:pt x="247650" y="645159"/>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Freeform 75"/>
            <p:cNvSpPr/>
            <p:nvPr/>
          </p:nvSpPr>
          <p:spPr>
            <a:xfrm>
              <a:off x="7359120" y="271260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2"/>
                  </a:lnTo>
                  <a:lnTo>
                    <a:pt x="108966" y="572135"/>
                  </a:lnTo>
                  <a:lnTo>
                    <a:pt x="102743" y="589914"/>
                  </a:lnTo>
                  <a:lnTo>
                    <a:pt x="94995" y="608330"/>
                  </a:lnTo>
                  <a:lnTo>
                    <a:pt x="86232" y="627380"/>
                  </a:lnTo>
                  <a:lnTo>
                    <a:pt x="76454" y="647445"/>
                  </a:lnTo>
                  <a:lnTo>
                    <a:pt x="71246" y="653287"/>
                  </a:lnTo>
                  <a:lnTo>
                    <a:pt x="65023" y="659383"/>
                  </a:lnTo>
                  <a:lnTo>
                    <a:pt x="57912" y="664972"/>
                  </a:lnTo>
                  <a:lnTo>
                    <a:pt x="50292" y="669670"/>
                  </a:lnTo>
                  <a:lnTo>
                    <a:pt x="42544" y="672973"/>
                  </a:lnTo>
                  <a:lnTo>
                    <a:pt x="35179" y="674369"/>
                  </a:lnTo>
                  <a:lnTo>
                    <a:pt x="28447" y="673862"/>
                  </a:lnTo>
                  <a:lnTo>
                    <a:pt x="25400" y="672464"/>
                  </a:lnTo>
                  <a:lnTo>
                    <a:pt x="22732" y="670179"/>
                  </a:lnTo>
                  <a:lnTo>
                    <a:pt x="21590" y="666114"/>
                  </a:lnTo>
                  <a:lnTo>
                    <a:pt x="22732" y="660018"/>
                  </a:lnTo>
                  <a:lnTo>
                    <a:pt x="26034" y="651891"/>
                  </a:lnTo>
                  <a:lnTo>
                    <a:pt x="30098" y="641985"/>
                  </a:lnTo>
                  <a:lnTo>
                    <a:pt x="35559" y="629157"/>
                  </a:lnTo>
                  <a:lnTo>
                    <a:pt x="41782" y="614172"/>
                  </a:lnTo>
                  <a:lnTo>
                    <a:pt x="48387" y="596645"/>
                  </a:lnTo>
                  <a:lnTo>
                    <a:pt x="54609" y="576072"/>
                  </a:lnTo>
                  <a:lnTo>
                    <a:pt x="61087" y="552449"/>
                  </a:lnTo>
                  <a:lnTo>
                    <a:pt x="63880" y="539368"/>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Freeform 76"/>
            <p:cNvSpPr/>
            <p:nvPr/>
          </p:nvSpPr>
          <p:spPr>
            <a:xfrm>
              <a:off x="7156440" y="324576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2"/>
                  </a:lnTo>
                  <a:lnTo>
                    <a:pt x="70484" y="21970"/>
                  </a:lnTo>
                  <a:lnTo>
                    <a:pt x="82804" y="31114"/>
                  </a:lnTo>
                  <a:lnTo>
                    <a:pt x="95250" y="38862"/>
                  </a:lnTo>
                  <a:lnTo>
                    <a:pt x="107823" y="45846"/>
                  </a:lnTo>
                  <a:lnTo>
                    <a:pt x="120777" y="51308"/>
                  </a:lnTo>
                  <a:lnTo>
                    <a:pt x="133477" y="55499"/>
                  </a:lnTo>
                  <a:lnTo>
                    <a:pt x="146430" y="58293"/>
                  </a:lnTo>
                  <a:lnTo>
                    <a:pt x="159004" y="59689"/>
                  </a:lnTo>
                  <a:lnTo>
                    <a:pt x="171450" y="59689"/>
                  </a:lnTo>
                  <a:lnTo>
                    <a:pt x="183768" y="58293"/>
                  </a:lnTo>
                  <a:lnTo>
                    <a:pt x="195833" y="55245"/>
                  </a:lnTo>
                  <a:lnTo>
                    <a:pt x="207771" y="50800"/>
                  </a:lnTo>
                  <a:lnTo>
                    <a:pt x="218948" y="44703"/>
                  </a:lnTo>
                  <a:lnTo>
                    <a:pt x="229996" y="36957"/>
                  </a:lnTo>
                  <a:lnTo>
                    <a:pt x="240283" y="27432"/>
                  </a:lnTo>
                  <a:lnTo>
                    <a:pt x="237363" y="38862"/>
                  </a:lnTo>
                  <a:lnTo>
                    <a:pt x="233171" y="49149"/>
                  </a:lnTo>
                  <a:lnTo>
                    <a:pt x="228345" y="58674"/>
                  </a:lnTo>
                  <a:lnTo>
                    <a:pt x="222757" y="67437"/>
                  </a:lnTo>
                  <a:lnTo>
                    <a:pt x="211836" y="83820"/>
                  </a:lnTo>
                  <a:lnTo>
                    <a:pt x="202056" y="100583"/>
                  </a:lnTo>
                  <a:lnTo>
                    <a:pt x="194691" y="105028"/>
                  </a:lnTo>
                  <a:lnTo>
                    <a:pt x="186563" y="107822"/>
                  </a:lnTo>
                  <a:lnTo>
                    <a:pt x="178054" y="109220"/>
                  </a:lnTo>
                  <a:lnTo>
                    <a:pt x="169037" y="109474"/>
                  </a:lnTo>
                  <a:lnTo>
                    <a:pt x="150494" y="107822"/>
                  </a:lnTo>
                  <a:lnTo>
                    <a:pt x="132461" y="105283"/>
                  </a:lnTo>
                  <a:lnTo>
                    <a:pt x="100456" y="100583"/>
                  </a:lnTo>
                  <a:lnTo>
                    <a:pt x="84074" y="98044"/>
                  </a:lnTo>
                  <a:lnTo>
                    <a:pt x="68326" y="94107"/>
                  </a:lnTo>
                  <a:lnTo>
                    <a:pt x="52958" y="89153"/>
                  </a:lnTo>
                  <a:lnTo>
                    <a:pt x="38227" y="82803"/>
                  </a:lnTo>
                  <a:lnTo>
                    <a:pt x="25145" y="74421"/>
                  </a:lnTo>
                  <a:lnTo>
                    <a:pt x="19177" y="69722"/>
                  </a:lnTo>
                  <a:lnTo>
                    <a:pt x="13462" y="63881"/>
                  </a:lnTo>
                  <a:lnTo>
                    <a:pt x="6857" y="54990"/>
                  </a:lnTo>
                  <a:lnTo>
                    <a:pt x="2031" y="44450"/>
                  </a:lnTo>
                  <a:lnTo>
                    <a:pt x="0" y="33020"/>
                  </a:lnTo>
                  <a:lnTo>
                    <a:pt x="634" y="28066"/>
                  </a:lnTo>
                  <a:lnTo>
                    <a:pt x="2158" y="22987"/>
                  </a:lnTo>
                  <a:lnTo>
                    <a:pt x="5588" y="18033"/>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Freeform 77"/>
            <p:cNvSpPr/>
            <p:nvPr/>
          </p:nvSpPr>
          <p:spPr>
            <a:xfrm>
              <a:off x="7131600" y="270828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8" name="Freeform 78"/>
            <p:cNvSpPr/>
            <p:nvPr/>
          </p:nvSpPr>
          <p:spPr>
            <a:xfrm>
              <a:off x="6424200" y="2247120"/>
              <a:ext cx="763200" cy="167040"/>
            </a:xfrm>
            <a:custGeom>
              <a:avLst/>
              <a:gdLst>
                <a:gd name="textAreaLeft" fmla="*/ 0 w 763200"/>
                <a:gd name="textAreaRight" fmla="*/ 763560 w 763200"/>
                <a:gd name="textAreaTop" fmla="*/ 0 h 167040"/>
                <a:gd name="textAreaBottom" fmla="*/ 167400 h 167040"/>
              </a:gdLst>
              <a:ahLst/>
              <a:rect l="textAreaLeft" t="textAreaTop" r="textAreaRight" b="textAreaBottom"/>
              <a:pathLst>
                <a:path w="762891" h="167260">
                  <a:moveTo>
                    <a:pt x="622046" y="148718"/>
                  </a:moveTo>
                  <a:lnTo>
                    <a:pt x="591185" y="153671"/>
                  </a:lnTo>
                  <a:lnTo>
                    <a:pt x="558673" y="157862"/>
                  </a:lnTo>
                  <a:lnTo>
                    <a:pt x="524892" y="161163"/>
                  </a:lnTo>
                  <a:lnTo>
                    <a:pt x="489967" y="163958"/>
                  </a:lnTo>
                  <a:lnTo>
                    <a:pt x="454153" y="165990"/>
                  </a:lnTo>
                  <a:lnTo>
                    <a:pt x="417831" y="167133"/>
                  </a:lnTo>
                  <a:lnTo>
                    <a:pt x="381508" y="167259"/>
                  </a:lnTo>
                  <a:lnTo>
                    <a:pt x="344679" y="167133"/>
                  </a:lnTo>
                  <a:lnTo>
                    <a:pt x="308610" y="165990"/>
                  </a:lnTo>
                  <a:lnTo>
                    <a:pt x="272670" y="163958"/>
                  </a:lnTo>
                  <a:lnTo>
                    <a:pt x="237745" y="161163"/>
                  </a:lnTo>
                  <a:lnTo>
                    <a:pt x="203835" y="157862"/>
                  </a:lnTo>
                  <a:lnTo>
                    <a:pt x="171323" y="153671"/>
                  </a:lnTo>
                  <a:lnTo>
                    <a:pt x="140844" y="148718"/>
                  </a:lnTo>
                  <a:lnTo>
                    <a:pt x="111507" y="142875"/>
                  </a:lnTo>
                  <a:lnTo>
                    <a:pt x="85598" y="136525"/>
                  </a:lnTo>
                  <a:lnTo>
                    <a:pt x="62738" y="129540"/>
                  </a:lnTo>
                  <a:lnTo>
                    <a:pt x="43561" y="122556"/>
                  </a:lnTo>
                  <a:lnTo>
                    <a:pt x="27813" y="115316"/>
                  </a:lnTo>
                  <a:lnTo>
                    <a:pt x="15494" y="107569"/>
                  </a:lnTo>
                  <a:lnTo>
                    <a:pt x="6986" y="99441"/>
                  </a:lnTo>
                  <a:lnTo>
                    <a:pt x="1524" y="91694"/>
                  </a:lnTo>
                  <a:lnTo>
                    <a:pt x="0" y="83693"/>
                  </a:lnTo>
                  <a:lnTo>
                    <a:pt x="1524" y="75565"/>
                  </a:lnTo>
                  <a:lnTo>
                    <a:pt x="6986" y="67818"/>
                  </a:lnTo>
                  <a:lnTo>
                    <a:pt x="15494" y="59818"/>
                  </a:lnTo>
                  <a:lnTo>
                    <a:pt x="27813" y="51943"/>
                  </a:lnTo>
                  <a:lnTo>
                    <a:pt x="43561" y="44450"/>
                  </a:lnTo>
                  <a:lnTo>
                    <a:pt x="62738" y="37465"/>
                  </a:lnTo>
                  <a:lnTo>
                    <a:pt x="85598" y="30862"/>
                  </a:lnTo>
                  <a:lnTo>
                    <a:pt x="111507" y="24512"/>
                  </a:lnTo>
                  <a:lnTo>
                    <a:pt x="140844" y="18543"/>
                  </a:lnTo>
                  <a:lnTo>
                    <a:pt x="171323" y="13590"/>
                  </a:lnTo>
                  <a:lnTo>
                    <a:pt x="203835" y="9399"/>
                  </a:lnTo>
                  <a:lnTo>
                    <a:pt x="237745" y="6096"/>
                  </a:lnTo>
                  <a:lnTo>
                    <a:pt x="272670" y="3303"/>
                  </a:lnTo>
                  <a:lnTo>
                    <a:pt x="308610" y="1397"/>
                  </a:lnTo>
                  <a:lnTo>
                    <a:pt x="344679" y="255"/>
                  </a:lnTo>
                  <a:lnTo>
                    <a:pt x="381508" y="0"/>
                  </a:lnTo>
                  <a:lnTo>
                    <a:pt x="417831" y="255"/>
                  </a:lnTo>
                  <a:lnTo>
                    <a:pt x="454153" y="1397"/>
                  </a:lnTo>
                  <a:lnTo>
                    <a:pt x="489967" y="3303"/>
                  </a:lnTo>
                  <a:lnTo>
                    <a:pt x="524892" y="6096"/>
                  </a:lnTo>
                  <a:lnTo>
                    <a:pt x="558673" y="9399"/>
                  </a:lnTo>
                  <a:lnTo>
                    <a:pt x="591185" y="13590"/>
                  </a:lnTo>
                  <a:lnTo>
                    <a:pt x="622046" y="18543"/>
                  </a:lnTo>
                  <a:lnTo>
                    <a:pt x="651003" y="24512"/>
                  </a:lnTo>
                  <a:lnTo>
                    <a:pt x="677292" y="30862"/>
                  </a:lnTo>
                  <a:lnTo>
                    <a:pt x="700152" y="37465"/>
                  </a:lnTo>
                  <a:lnTo>
                    <a:pt x="718947" y="44450"/>
                  </a:lnTo>
                  <a:lnTo>
                    <a:pt x="734822" y="51943"/>
                  </a:lnTo>
                  <a:lnTo>
                    <a:pt x="747142" y="59818"/>
                  </a:lnTo>
                  <a:lnTo>
                    <a:pt x="755778" y="67818"/>
                  </a:lnTo>
                  <a:lnTo>
                    <a:pt x="760984" y="75565"/>
                  </a:lnTo>
                  <a:lnTo>
                    <a:pt x="762890" y="83693"/>
                  </a:lnTo>
                  <a:lnTo>
                    <a:pt x="760984" y="91694"/>
                  </a:lnTo>
                  <a:lnTo>
                    <a:pt x="755778" y="99441"/>
                  </a:lnTo>
                  <a:lnTo>
                    <a:pt x="747142" y="107569"/>
                  </a:lnTo>
                  <a:lnTo>
                    <a:pt x="734822" y="115316"/>
                  </a:lnTo>
                  <a:lnTo>
                    <a:pt x="718947"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9" name="Freeform 79"/>
            <p:cNvSpPr/>
            <p:nvPr/>
          </p:nvSpPr>
          <p:spPr>
            <a:xfrm>
              <a:off x="7251840" y="2704680"/>
              <a:ext cx="64800" cy="32760"/>
            </a:xfrm>
            <a:custGeom>
              <a:avLst/>
              <a:gdLst>
                <a:gd name="textAreaLeft" fmla="*/ 0 w 64800"/>
                <a:gd name="textAreaRight" fmla="*/ 65160 w 6480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70" name="Freeform 80"/>
            <p:cNvSpPr/>
            <p:nvPr/>
          </p:nvSpPr>
          <p:spPr>
            <a:xfrm>
              <a:off x="7237800" y="334224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0"/>
                  </a:lnTo>
                  <a:lnTo>
                    <a:pt x="29210" y="11430"/>
                  </a:lnTo>
                  <a:lnTo>
                    <a:pt x="22860" y="7619"/>
                  </a:lnTo>
                  <a:lnTo>
                    <a:pt x="11429"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71" name="Freeform 81"/>
            <p:cNvSpPr/>
            <p:nvPr/>
          </p:nvSpPr>
          <p:spPr>
            <a:xfrm>
              <a:off x="6686280" y="243036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72" name="Group 97"/>
          <p:cNvGrpSpPr/>
          <p:nvPr/>
        </p:nvGrpSpPr>
        <p:grpSpPr>
          <a:xfrm>
            <a:off x="7545240" y="2236680"/>
            <a:ext cx="1097280" cy="1344600"/>
            <a:chOff x="7545240" y="2236680"/>
            <a:chExt cx="1097280" cy="1344600"/>
          </a:xfrm>
        </p:grpSpPr>
        <p:sp>
          <p:nvSpPr>
            <p:cNvPr id="573" name="Freeform 83"/>
            <p:cNvSpPr/>
            <p:nvPr/>
          </p:nvSpPr>
          <p:spPr>
            <a:xfrm>
              <a:off x="7545240" y="2339640"/>
              <a:ext cx="809640" cy="1241640"/>
            </a:xfrm>
            <a:custGeom>
              <a:avLst/>
              <a:gdLst>
                <a:gd name="textAreaLeft" fmla="*/ 0 w 809640"/>
                <a:gd name="textAreaRight" fmla="*/ 810000 w 80964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4"/>
                  </a:lnTo>
                  <a:lnTo>
                    <a:pt x="807592" y="1110741"/>
                  </a:lnTo>
                  <a:lnTo>
                    <a:pt x="805941" y="1116329"/>
                  </a:lnTo>
                  <a:lnTo>
                    <a:pt x="802640" y="1122171"/>
                  </a:lnTo>
                  <a:lnTo>
                    <a:pt x="798322" y="1128903"/>
                  </a:lnTo>
                  <a:lnTo>
                    <a:pt x="791972" y="1136396"/>
                  </a:lnTo>
                  <a:lnTo>
                    <a:pt x="783843" y="1145540"/>
                  </a:lnTo>
                  <a:lnTo>
                    <a:pt x="770763" y="1157223"/>
                  </a:lnTo>
                  <a:lnTo>
                    <a:pt x="755395" y="1168019"/>
                  </a:lnTo>
                  <a:lnTo>
                    <a:pt x="738251" y="1178052"/>
                  </a:lnTo>
                  <a:lnTo>
                    <a:pt x="719074" y="1187830"/>
                  </a:lnTo>
                  <a:lnTo>
                    <a:pt x="697865" y="1196466"/>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6"/>
                  </a:lnTo>
                  <a:lnTo>
                    <a:pt x="81915" y="1187830"/>
                  </a:lnTo>
                  <a:lnTo>
                    <a:pt x="64769" y="1178052"/>
                  </a:lnTo>
                  <a:lnTo>
                    <a:pt x="49149" y="1168019"/>
                  </a:lnTo>
                  <a:lnTo>
                    <a:pt x="36067" y="1157223"/>
                  </a:lnTo>
                  <a:lnTo>
                    <a:pt x="25400" y="1145540"/>
                  </a:lnTo>
                  <a:lnTo>
                    <a:pt x="21081" y="1140840"/>
                  </a:lnTo>
                  <a:lnTo>
                    <a:pt x="17272" y="1136903"/>
                  </a:lnTo>
                  <a:lnTo>
                    <a:pt x="10667" y="1130172"/>
                  </a:lnTo>
                  <a:lnTo>
                    <a:pt x="6350" y="1124711"/>
                  </a:lnTo>
                  <a:lnTo>
                    <a:pt x="3302" y="1119759"/>
                  </a:lnTo>
                  <a:lnTo>
                    <a:pt x="1651"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4" name="Freeform 84"/>
            <p:cNvSpPr/>
            <p:nvPr/>
          </p:nvSpPr>
          <p:spPr>
            <a:xfrm>
              <a:off x="7545960" y="2340000"/>
              <a:ext cx="809280" cy="1240560"/>
            </a:xfrm>
            <a:custGeom>
              <a:avLst/>
              <a:gdLst>
                <a:gd name="textAreaLeft" fmla="*/ 0 w 809280"/>
                <a:gd name="textAreaRight" fmla="*/ 809640 w 80928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29"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500" y="1228090"/>
                  </a:lnTo>
                  <a:lnTo>
                    <a:pt x="599440" y="1221740"/>
                  </a:lnTo>
                  <a:lnTo>
                    <a:pt x="626110" y="1217930"/>
                  </a:lnTo>
                  <a:lnTo>
                    <a:pt x="651510" y="1211580"/>
                  </a:lnTo>
                  <a:lnTo>
                    <a:pt x="674369" y="1203960"/>
                  </a:lnTo>
                  <a:lnTo>
                    <a:pt x="697229" y="1196340"/>
                  </a:lnTo>
                  <a:lnTo>
                    <a:pt x="718819" y="1187449"/>
                  </a:lnTo>
                  <a:lnTo>
                    <a:pt x="737869" y="1178560"/>
                  </a:lnTo>
                  <a:lnTo>
                    <a:pt x="755650" y="1167130"/>
                  </a:lnTo>
                  <a:lnTo>
                    <a:pt x="770890" y="1155699"/>
                  </a:lnTo>
                  <a:lnTo>
                    <a:pt x="783590" y="1145540"/>
                  </a:lnTo>
                  <a:lnTo>
                    <a:pt x="792479" y="1136649"/>
                  </a:lnTo>
                  <a:lnTo>
                    <a:pt x="797560" y="1129030"/>
                  </a:lnTo>
                  <a:lnTo>
                    <a:pt x="802640" y="1122680"/>
                  </a:lnTo>
                  <a:lnTo>
                    <a:pt x="805179" y="1115060"/>
                  </a:lnTo>
                  <a:lnTo>
                    <a:pt x="806450" y="1109980"/>
                  </a:lnTo>
                  <a:lnTo>
                    <a:pt x="807719"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5" name="Freeform 85"/>
            <p:cNvSpPr/>
            <p:nvPr/>
          </p:nvSpPr>
          <p:spPr>
            <a:xfrm>
              <a:off x="7545240" y="2236680"/>
              <a:ext cx="809640" cy="205920"/>
            </a:xfrm>
            <a:custGeom>
              <a:avLst/>
              <a:gdLst>
                <a:gd name="textAreaLeft" fmla="*/ 0 w 809640"/>
                <a:gd name="textAreaRight" fmla="*/ 810000 w 809640"/>
                <a:gd name="textAreaTop" fmla="*/ 0 h 205920"/>
                <a:gd name="textAreaBottom" fmla="*/ 206280 h 205920"/>
              </a:gdLst>
              <a:ahLst/>
              <a:rect l="textAreaLeft" t="textAreaTop" r="textAreaRight" b="textAreaBottom"/>
              <a:pathLst>
                <a:path w="809244" h="206122">
                  <a:moveTo>
                    <a:pt x="659891" y="183008"/>
                  </a:moveTo>
                  <a:lnTo>
                    <a:pt x="627379" y="189103"/>
                  </a:lnTo>
                  <a:lnTo>
                    <a:pt x="592708" y="194183"/>
                  </a:lnTo>
                  <a:lnTo>
                    <a:pt x="556894" y="198248"/>
                  </a:lnTo>
                  <a:lnTo>
                    <a:pt x="519811" y="201677"/>
                  </a:lnTo>
                  <a:lnTo>
                    <a:pt x="481838" y="204217"/>
                  </a:lnTo>
                  <a:lnTo>
                    <a:pt x="443356" y="205487"/>
                  </a:lnTo>
                  <a:lnTo>
                    <a:pt x="404622" y="206121"/>
                  </a:lnTo>
                  <a:lnTo>
                    <a:pt x="365887" y="205487"/>
                  </a:lnTo>
                  <a:lnTo>
                    <a:pt x="327405" y="204217"/>
                  </a:lnTo>
                  <a:lnTo>
                    <a:pt x="289432" y="201677"/>
                  </a:lnTo>
                  <a:lnTo>
                    <a:pt x="252603" y="198248"/>
                  </a:lnTo>
                  <a:lnTo>
                    <a:pt x="216535" y="194183"/>
                  </a:lnTo>
                  <a:lnTo>
                    <a:pt x="182117" y="189103"/>
                  </a:lnTo>
                  <a:lnTo>
                    <a:pt x="149352" y="183008"/>
                  </a:lnTo>
                  <a:lnTo>
                    <a:pt x="118744" y="175768"/>
                  </a:lnTo>
                  <a:lnTo>
                    <a:pt x="104266" y="171831"/>
                  </a:lnTo>
                  <a:lnTo>
                    <a:pt x="90931" y="168021"/>
                  </a:lnTo>
                  <a:lnTo>
                    <a:pt x="78358" y="164084"/>
                  </a:lnTo>
                  <a:lnTo>
                    <a:pt x="66928" y="159640"/>
                  </a:lnTo>
                  <a:lnTo>
                    <a:pt x="56261" y="155449"/>
                  </a:lnTo>
                  <a:lnTo>
                    <a:pt x="46481" y="150749"/>
                  </a:lnTo>
                  <a:lnTo>
                    <a:pt x="29844" y="141605"/>
                  </a:lnTo>
                  <a:lnTo>
                    <a:pt x="17017" y="132334"/>
                  </a:lnTo>
                  <a:lnTo>
                    <a:pt x="7747" y="122683"/>
                  </a:lnTo>
                  <a:lnTo>
                    <a:pt x="2031" y="112903"/>
                  </a:lnTo>
                  <a:lnTo>
                    <a:pt x="0" y="103252"/>
                  </a:lnTo>
                  <a:lnTo>
                    <a:pt x="2031" y="93218"/>
                  </a:lnTo>
                  <a:lnTo>
                    <a:pt x="7747" y="83186"/>
                  </a:lnTo>
                  <a:lnTo>
                    <a:pt x="17017" y="73787"/>
                  </a:lnTo>
                  <a:lnTo>
                    <a:pt x="29844" y="64262"/>
                  </a:lnTo>
                  <a:lnTo>
                    <a:pt x="46481" y="55118"/>
                  </a:lnTo>
                  <a:lnTo>
                    <a:pt x="56261" y="50674"/>
                  </a:lnTo>
                  <a:lnTo>
                    <a:pt x="66928" y="46483"/>
                  </a:lnTo>
                  <a:lnTo>
                    <a:pt x="78358" y="42292"/>
                  </a:lnTo>
                  <a:lnTo>
                    <a:pt x="90931" y="38100"/>
                  </a:lnTo>
                  <a:lnTo>
                    <a:pt x="104266" y="34037"/>
                  </a:lnTo>
                  <a:lnTo>
                    <a:pt x="118744" y="30099"/>
                  </a:lnTo>
                  <a:lnTo>
                    <a:pt x="149352" y="23115"/>
                  </a:lnTo>
                  <a:lnTo>
                    <a:pt x="182117" y="17018"/>
                  </a:lnTo>
                  <a:lnTo>
                    <a:pt x="216535" y="12065"/>
                  </a:lnTo>
                  <a:lnTo>
                    <a:pt x="252603" y="7621"/>
                  </a:lnTo>
                  <a:lnTo>
                    <a:pt x="289432" y="4192"/>
                  </a:lnTo>
                  <a:lnTo>
                    <a:pt x="327405" y="2033"/>
                  </a:lnTo>
                  <a:lnTo>
                    <a:pt x="365887" y="636"/>
                  </a:lnTo>
                  <a:lnTo>
                    <a:pt x="404622" y="0"/>
                  </a:lnTo>
                  <a:lnTo>
                    <a:pt x="443356" y="636"/>
                  </a:lnTo>
                  <a:lnTo>
                    <a:pt x="481838" y="2033"/>
                  </a:lnTo>
                  <a:lnTo>
                    <a:pt x="519811" y="4192"/>
                  </a:lnTo>
                  <a:lnTo>
                    <a:pt x="556894" y="7621"/>
                  </a:lnTo>
                  <a:lnTo>
                    <a:pt x="592708" y="12065"/>
                  </a:lnTo>
                  <a:lnTo>
                    <a:pt x="627379" y="17018"/>
                  </a:lnTo>
                  <a:lnTo>
                    <a:pt x="659891" y="23115"/>
                  </a:lnTo>
                  <a:lnTo>
                    <a:pt x="690499" y="30099"/>
                  </a:lnTo>
                  <a:lnTo>
                    <a:pt x="705230" y="34037"/>
                  </a:lnTo>
                  <a:lnTo>
                    <a:pt x="718312" y="38100"/>
                  </a:lnTo>
                  <a:lnTo>
                    <a:pt x="730885" y="42292"/>
                  </a:lnTo>
                  <a:lnTo>
                    <a:pt x="742568" y="46483"/>
                  </a:lnTo>
                  <a:lnTo>
                    <a:pt x="752982" y="50674"/>
                  </a:lnTo>
                  <a:lnTo>
                    <a:pt x="762762" y="55118"/>
                  </a:lnTo>
                  <a:lnTo>
                    <a:pt x="779399" y="64262"/>
                  </a:lnTo>
                  <a:lnTo>
                    <a:pt x="792479" y="73787"/>
                  </a:lnTo>
                  <a:lnTo>
                    <a:pt x="801878" y="83186"/>
                  </a:lnTo>
                  <a:lnTo>
                    <a:pt x="807212" y="93218"/>
                  </a:lnTo>
                  <a:lnTo>
                    <a:pt x="809243" y="103252"/>
                  </a:lnTo>
                  <a:lnTo>
                    <a:pt x="807212" y="112903"/>
                  </a:lnTo>
                  <a:lnTo>
                    <a:pt x="801878" y="122683"/>
                  </a:lnTo>
                  <a:lnTo>
                    <a:pt x="792479" y="132334"/>
                  </a:lnTo>
                  <a:lnTo>
                    <a:pt x="779399" y="141605"/>
                  </a:lnTo>
                  <a:lnTo>
                    <a:pt x="762762" y="150749"/>
                  </a:lnTo>
                  <a:lnTo>
                    <a:pt x="752982" y="155449"/>
                  </a:lnTo>
                  <a:lnTo>
                    <a:pt x="742568" y="159640"/>
                  </a:lnTo>
                  <a:lnTo>
                    <a:pt x="730885" y="164084"/>
                  </a:lnTo>
                  <a:lnTo>
                    <a:pt x="718312" y="168021"/>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Freeform 86"/>
            <p:cNvSpPr/>
            <p:nvPr/>
          </p:nvSpPr>
          <p:spPr>
            <a:xfrm>
              <a:off x="7545960" y="2237400"/>
              <a:ext cx="809280" cy="205560"/>
            </a:xfrm>
            <a:custGeom>
              <a:avLst/>
              <a:gdLst>
                <a:gd name="textAreaLeft" fmla="*/ 0 w 809280"/>
                <a:gd name="textAreaRight" fmla="*/ 809640 w 809280"/>
                <a:gd name="textAreaTop" fmla="*/ 0 h 205560"/>
                <a:gd name="textAreaBottom" fmla="*/ 205920 h 205560"/>
              </a:gdLst>
              <a:ahLst/>
              <a:rect l="textAreaLeft" t="textAreaTop" r="textAreaRight" b="textAreaBottom"/>
              <a:pathLst>
                <a:path w="808991" h="205741">
                  <a:moveTo>
                    <a:pt x="689610" y="175261"/>
                  </a:moveTo>
                  <a:lnTo>
                    <a:pt x="704850" y="171450"/>
                  </a:lnTo>
                  <a:lnTo>
                    <a:pt x="716279" y="167640"/>
                  </a:lnTo>
                  <a:lnTo>
                    <a:pt x="730250" y="163831"/>
                  </a:lnTo>
                  <a:lnTo>
                    <a:pt x="741679" y="158750"/>
                  </a:lnTo>
                  <a:lnTo>
                    <a:pt x="751840" y="154940"/>
                  </a:lnTo>
                  <a:lnTo>
                    <a:pt x="762000" y="149861"/>
                  </a:lnTo>
                  <a:lnTo>
                    <a:pt x="778510" y="139700"/>
                  </a:lnTo>
                  <a:lnTo>
                    <a:pt x="792479" y="132081"/>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1"/>
                  </a:lnTo>
                  <a:lnTo>
                    <a:pt x="741679" y="45721"/>
                  </a:lnTo>
                  <a:lnTo>
                    <a:pt x="730250" y="41911"/>
                  </a:lnTo>
                  <a:lnTo>
                    <a:pt x="716279" y="36831"/>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40"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40"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7" name="Freeform 87"/>
            <p:cNvSpPr/>
            <p:nvPr/>
          </p:nvSpPr>
          <p:spPr>
            <a:xfrm>
              <a:off x="7573320" y="2410560"/>
              <a:ext cx="755640" cy="1127160"/>
            </a:xfrm>
            <a:custGeom>
              <a:avLst/>
              <a:gdLst>
                <a:gd name="textAreaLeft" fmla="*/ 0 w 755640"/>
                <a:gd name="textAreaRight" fmla="*/ 756000 w 755640"/>
                <a:gd name="textAreaTop" fmla="*/ 0 h 1127160"/>
                <a:gd name="textAreaBottom" fmla="*/ 1127520 h 1127160"/>
              </a:gdLst>
              <a:ahLst/>
              <a:rect l="textAreaLeft" t="textAreaTop" r="textAreaRight" b="textAreaBottom"/>
              <a:pathLst>
                <a:path w="755271" h="1127507">
                  <a:moveTo>
                    <a:pt x="26798" y="11303"/>
                  </a:moveTo>
                  <a:lnTo>
                    <a:pt x="45974" y="17525"/>
                  </a:lnTo>
                  <a:lnTo>
                    <a:pt x="65913" y="23368"/>
                  </a:lnTo>
                  <a:lnTo>
                    <a:pt x="87123" y="28828"/>
                  </a:lnTo>
                  <a:lnTo>
                    <a:pt x="109601" y="34162"/>
                  </a:lnTo>
                  <a:lnTo>
                    <a:pt x="132715" y="38607"/>
                  </a:lnTo>
                  <a:lnTo>
                    <a:pt x="157099" y="42799"/>
                  </a:lnTo>
                  <a:lnTo>
                    <a:pt x="181991" y="46609"/>
                  </a:lnTo>
                  <a:lnTo>
                    <a:pt x="207519" y="50037"/>
                  </a:lnTo>
                  <a:lnTo>
                    <a:pt x="233808" y="52578"/>
                  </a:lnTo>
                  <a:lnTo>
                    <a:pt x="287528" y="57277"/>
                  </a:lnTo>
                  <a:lnTo>
                    <a:pt x="342392" y="60071"/>
                  </a:lnTo>
                  <a:lnTo>
                    <a:pt x="397384" y="60832"/>
                  </a:lnTo>
                  <a:lnTo>
                    <a:pt x="452121" y="60071"/>
                  </a:lnTo>
                  <a:lnTo>
                    <a:pt x="505334" y="57022"/>
                  </a:lnTo>
                  <a:lnTo>
                    <a:pt x="531369" y="55118"/>
                  </a:lnTo>
                  <a:lnTo>
                    <a:pt x="556769" y="52578"/>
                  </a:lnTo>
                  <a:lnTo>
                    <a:pt x="581279" y="49403"/>
                  </a:lnTo>
                  <a:lnTo>
                    <a:pt x="605410" y="45847"/>
                  </a:lnTo>
                  <a:lnTo>
                    <a:pt x="628270" y="41909"/>
                  </a:lnTo>
                  <a:lnTo>
                    <a:pt x="650113" y="37591"/>
                  </a:lnTo>
                  <a:lnTo>
                    <a:pt x="670814" y="32512"/>
                  </a:lnTo>
                  <a:lnTo>
                    <a:pt x="690499" y="26924"/>
                  </a:lnTo>
                  <a:lnTo>
                    <a:pt x="708787" y="21209"/>
                  </a:lnTo>
                  <a:lnTo>
                    <a:pt x="725678" y="14731"/>
                  </a:lnTo>
                  <a:lnTo>
                    <a:pt x="741299" y="7493"/>
                  </a:lnTo>
                  <a:lnTo>
                    <a:pt x="755270" y="0"/>
                  </a:lnTo>
                  <a:lnTo>
                    <a:pt x="755270" y="1016126"/>
                  </a:lnTo>
                  <a:lnTo>
                    <a:pt x="737109" y="1030732"/>
                  </a:lnTo>
                  <a:lnTo>
                    <a:pt x="717804" y="1044447"/>
                  </a:lnTo>
                  <a:lnTo>
                    <a:pt x="697358" y="1057147"/>
                  </a:lnTo>
                  <a:lnTo>
                    <a:pt x="675767" y="1068577"/>
                  </a:lnTo>
                  <a:lnTo>
                    <a:pt x="653415" y="1078864"/>
                  </a:lnTo>
                  <a:lnTo>
                    <a:pt x="629921" y="1088263"/>
                  </a:lnTo>
                  <a:lnTo>
                    <a:pt x="605410" y="1096645"/>
                  </a:lnTo>
                  <a:lnTo>
                    <a:pt x="580517" y="1103630"/>
                  </a:lnTo>
                  <a:lnTo>
                    <a:pt x="554610" y="1109980"/>
                  </a:lnTo>
                  <a:lnTo>
                    <a:pt x="528321" y="1115059"/>
                  </a:lnTo>
                  <a:lnTo>
                    <a:pt x="501524" y="1119505"/>
                  </a:lnTo>
                  <a:lnTo>
                    <a:pt x="474346" y="1122807"/>
                  </a:lnTo>
                  <a:lnTo>
                    <a:pt x="447040" y="1125346"/>
                  </a:lnTo>
                  <a:lnTo>
                    <a:pt x="419482" y="1126744"/>
                  </a:lnTo>
                  <a:lnTo>
                    <a:pt x="364237" y="1127506"/>
                  </a:lnTo>
                  <a:lnTo>
                    <a:pt x="309373" y="1124965"/>
                  </a:lnTo>
                  <a:lnTo>
                    <a:pt x="282449" y="1122171"/>
                  </a:lnTo>
                  <a:lnTo>
                    <a:pt x="255651" y="1119251"/>
                  </a:lnTo>
                  <a:lnTo>
                    <a:pt x="229362" y="1115059"/>
                  </a:lnTo>
                  <a:lnTo>
                    <a:pt x="204089" y="1110233"/>
                  </a:lnTo>
                  <a:lnTo>
                    <a:pt x="178944" y="1105026"/>
                  </a:lnTo>
                  <a:lnTo>
                    <a:pt x="154813" y="1098931"/>
                  </a:lnTo>
                  <a:lnTo>
                    <a:pt x="131699" y="1092200"/>
                  </a:lnTo>
                  <a:lnTo>
                    <a:pt x="109221" y="1084960"/>
                  </a:lnTo>
                  <a:lnTo>
                    <a:pt x="87758" y="1077214"/>
                  </a:lnTo>
                  <a:lnTo>
                    <a:pt x="67819" y="1068577"/>
                  </a:lnTo>
                  <a:lnTo>
                    <a:pt x="48641" y="1059688"/>
                  </a:lnTo>
                  <a:lnTo>
                    <a:pt x="31242" y="1050163"/>
                  </a:lnTo>
                  <a:lnTo>
                    <a:pt x="14860" y="1040257"/>
                  </a:lnTo>
                  <a:lnTo>
                    <a:pt x="0" y="1029715"/>
                  </a:lnTo>
                  <a:lnTo>
                    <a:pt x="9145"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8" name="Freeform 88"/>
            <p:cNvSpPr/>
            <p:nvPr/>
          </p:nvSpPr>
          <p:spPr>
            <a:xfrm>
              <a:off x="8262360" y="2661120"/>
              <a:ext cx="380160" cy="765000"/>
            </a:xfrm>
            <a:custGeom>
              <a:avLst/>
              <a:gdLst>
                <a:gd name="textAreaLeft" fmla="*/ 0 w 380160"/>
                <a:gd name="textAreaRight" fmla="*/ 380520 w 380160"/>
                <a:gd name="textAreaTop" fmla="*/ 0 h 765000"/>
                <a:gd name="textAreaBottom" fmla="*/ 765360 h 765000"/>
              </a:gdLst>
              <a:ahLst/>
              <a:rect l="textAreaLeft" t="textAreaTop" r="textAreaRight" b="textAreaBottom"/>
              <a:pathLst>
                <a:path w="379985" h="765302">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39"/>
                  </a:lnTo>
                  <a:lnTo>
                    <a:pt x="358521" y="633857"/>
                  </a:lnTo>
                  <a:lnTo>
                    <a:pt x="352678" y="654684"/>
                  </a:lnTo>
                  <a:lnTo>
                    <a:pt x="346455" y="673862"/>
                  </a:lnTo>
                  <a:lnTo>
                    <a:pt x="339343" y="692276"/>
                  </a:lnTo>
                  <a:lnTo>
                    <a:pt x="331724" y="708278"/>
                  </a:lnTo>
                  <a:lnTo>
                    <a:pt x="323214" y="723011"/>
                  </a:lnTo>
                  <a:lnTo>
                    <a:pt x="313943" y="736472"/>
                  </a:lnTo>
                  <a:lnTo>
                    <a:pt x="304164" y="747268"/>
                  </a:lnTo>
                  <a:lnTo>
                    <a:pt x="293115" y="756157"/>
                  </a:lnTo>
                  <a:lnTo>
                    <a:pt x="285750" y="758316"/>
                  </a:lnTo>
                  <a:lnTo>
                    <a:pt x="277622" y="760349"/>
                  </a:lnTo>
                  <a:lnTo>
                    <a:pt x="259841" y="763143"/>
                  </a:lnTo>
                  <a:lnTo>
                    <a:pt x="239902" y="764794"/>
                  </a:lnTo>
                  <a:lnTo>
                    <a:pt x="218693" y="765301"/>
                  </a:lnTo>
                  <a:lnTo>
                    <a:pt x="196088" y="764794"/>
                  </a:lnTo>
                  <a:lnTo>
                    <a:pt x="173354" y="763143"/>
                  </a:lnTo>
                  <a:lnTo>
                    <a:pt x="150113" y="760857"/>
                  </a:lnTo>
                  <a:lnTo>
                    <a:pt x="127508" y="758189"/>
                  </a:lnTo>
                  <a:lnTo>
                    <a:pt x="105663" y="754507"/>
                  </a:lnTo>
                  <a:lnTo>
                    <a:pt x="85216" y="750315"/>
                  </a:lnTo>
                  <a:lnTo>
                    <a:pt x="66548" y="745489"/>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89"/>
                  </a:lnTo>
                  <a:lnTo>
                    <a:pt x="15621" y="636651"/>
                  </a:lnTo>
                  <a:lnTo>
                    <a:pt x="17145" y="629920"/>
                  </a:lnTo>
                  <a:lnTo>
                    <a:pt x="19176" y="623824"/>
                  </a:lnTo>
                  <a:lnTo>
                    <a:pt x="21843" y="618236"/>
                  </a:lnTo>
                  <a:lnTo>
                    <a:pt x="24891" y="613282"/>
                  </a:lnTo>
                  <a:lnTo>
                    <a:pt x="28701" y="608838"/>
                  </a:lnTo>
                  <a:lnTo>
                    <a:pt x="32765" y="604901"/>
                  </a:lnTo>
                  <a:lnTo>
                    <a:pt x="42672" y="598805"/>
                  </a:lnTo>
                  <a:lnTo>
                    <a:pt x="54101" y="594614"/>
                  </a:lnTo>
                  <a:lnTo>
                    <a:pt x="67183" y="592074"/>
                  </a:lnTo>
                  <a:lnTo>
                    <a:pt x="73787" y="592708"/>
                  </a:lnTo>
                  <a:lnTo>
                    <a:pt x="80010" y="594106"/>
                  </a:lnTo>
                  <a:lnTo>
                    <a:pt x="85471" y="596645"/>
                  </a:lnTo>
                  <a:lnTo>
                    <a:pt x="90932" y="599947"/>
                  </a:lnTo>
                  <a:lnTo>
                    <a:pt x="100457" y="608583"/>
                  </a:lnTo>
                  <a:lnTo>
                    <a:pt x="109727" y="618870"/>
                  </a:lnTo>
                  <a:lnTo>
                    <a:pt x="119634" y="629665"/>
                  </a:lnTo>
                  <a:lnTo>
                    <a:pt x="130175" y="640207"/>
                  </a:lnTo>
                  <a:lnTo>
                    <a:pt x="136525" y="644651"/>
                  </a:lnTo>
                  <a:lnTo>
                    <a:pt x="143128" y="649096"/>
                  </a:lnTo>
                  <a:lnTo>
                    <a:pt x="150495" y="652780"/>
                  </a:lnTo>
                  <a:lnTo>
                    <a:pt x="158623" y="655574"/>
                  </a:lnTo>
                  <a:lnTo>
                    <a:pt x="167386" y="657478"/>
                  </a:lnTo>
                  <a:lnTo>
                    <a:pt x="176402" y="658876"/>
                  </a:lnTo>
                  <a:lnTo>
                    <a:pt x="194945" y="658876"/>
                  </a:lnTo>
                  <a:lnTo>
                    <a:pt x="213487" y="656336"/>
                  </a:lnTo>
                  <a:lnTo>
                    <a:pt x="231521" y="651001"/>
                  </a:lnTo>
                  <a:lnTo>
                    <a:pt x="239902" y="647445"/>
                  </a:lnTo>
                  <a:lnTo>
                    <a:pt x="247650" y="643508"/>
                  </a:lnTo>
                  <a:lnTo>
                    <a:pt x="255015" y="638809"/>
                  </a:lnTo>
                  <a:lnTo>
                    <a:pt x="261874" y="633857"/>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89"/>
            <p:cNvSpPr/>
            <p:nvPr/>
          </p:nvSpPr>
          <p:spPr>
            <a:xfrm>
              <a:off x="8262720" y="266004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40"/>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90"/>
                  </a:lnTo>
                  <a:lnTo>
                    <a:pt x="278131" y="762000"/>
                  </a:lnTo>
                  <a:lnTo>
                    <a:pt x="260350" y="764540"/>
                  </a:lnTo>
                  <a:lnTo>
                    <a:pt x="240031" y="765809"/>
                  </a:lnTo>
                  <a:lnTo>
                    <a:pt x="218440" y="765809"/>
                  </a:lnTo>
                  <a:lnTo>
                    <a:pt x="195581" y="765809"/>
                  </a:lnTo>
                  <a:lnTo>
                    <a:pt x="172721" y="764540"/>
                  </a:lnTo>
                  <a:lnTo>
                    <a:pt x="149861" y="762000"/>
                  </a:lnTo>
                  <a:lnTo>
                    <a:pt x="127000" y="758190"/>
                  </a:lnTo>
                  <a:lnTo>
                    <a:pt x="105411" y="755650"/>
                  </a:lnTo>
                  <a:lnTo>
                    <a:pt x="85090" y="751840"/>
                  </a:lnTo>
                  <a:lnTo>
                    <a:pt x="67311" y="746759"/>
                  </a:lnTo>
                  <a:lnTo>
                    <a:pt x="50800" y="742950"/>
                  </a:lnTo>
                  <a:lnTo>
                    <a:pt x="35561" y="736600"/>
                  </a:lnTo>
                  <a:lnTo>
                    <a:pt x="25400" y="732790"/>
                  </a:lnTo>
                  <a:lnTo>
                    <a:pt x="19050" y="726440"/>
                  </a:lnTo>
                  <a:lnTo>
                    <a:pt x="17781" y="723900"/>
                  </a:lnTo>
                  <a:lnTo>
                    <a:pt x="16511" y="721359"/>
                  </a:lnTo>
                  <a:lnTo>
                    <a:pt x="16511" y="670559"/>
                  </a:lnTo>
                  <a:lnTo>
                    <a:pt x="15240" y="661670"/>
                  </a:lnTo>
                  <a:lnTo>
                    <a:pt x="13971" y="651509"/>
                  </a:lnTo>
                  <a:lnTo>
                    <a:pt x="13971" y="645159"/>
                  </a:lnTo>
                  <a:lnTo>
                    <a:pt x="15240" y="637540"/>
                  </a:lnTo>
                  <a:lnTo>
                    <a:pt x="17781" y="631190"/>
                  </a:lnTo>
                  <a:lnTo>
                    <a:pt x="19050" y="624840"/>
                  </a:lnTo>
                  <a:lnTo>
                    <a:pt x="21590" y="618490"/>
                  </a:lnTo>
                  <a:lnTo>
                    <a:pt x="25400" y="614679"/>
                  </a:lnTo>
                  <a:lnTo>
                    <a:pt x="29211" y="609600"/>
                  </a:lnTo>
                  <a:lnTo>
                    <a:pt x="31750" y="607059"/>
                  </a:lnTo>
                  <a:lnTo>
                    <a:pt x="43181" y="599440"/>
                  </a:lnTo>
                  <a:lnTo>
                    <a:pt x="54611" y="595629"/>
                  </a:lnTo>
                  <a:lnTo>
                    <a:pt x="67311" y="593090"/>
                  </a:lnTo>
                  <a:lnTo>
                    <a:pt x="73661" y="593090"/>
                  </a:lnTo>
                  <a:lnTo>
                    <a:pt x="78740" y="595629"/>
                  </a:lnTo>
                  <a:lnTo>
                    <a:pt x="86361" y="596900"/>
                  </a:lnTo>
                  <a:lnTo>
                    <a:pt x="90171" y="600709"/>
                  </a:lnTo>
                  <a:lnTo>
                    <a:pt x="101600" y="608329"/>
                  </a:lnTo>
                  <a:lnTo>
                    <a:pt x="110490" y="619759"/>
                  </a:lnTo>
                  <a:lnTo>
                    <a:pt x="119381" y="629920"/>
                  </a:lnTo>
                  <a:lnTo>
                    <a:pt x="129540" y="641350"/>
                  </a:lnTo>
                  <a:lnTo>
                    <a:pt x="137161" y="645159"/>
                  </a:lnTo>
                  <a:lnTo>
                    <a:pt x="143511" y="650240"/>
                  </a:lnTo>
                  <a:lnTo>
                    <a:pt x="151131" y="654050"/>
                  </a:lnTo>
                  <a:lnTo>
                    <a:pt x="158750" y="655320"/>
                  </a:lnTo>
                  <a:lnTo>
                    <a:pt x="166371" y="659129"/>
                  </a:lnTo>
                  <a:lnTo>
                    <a:pt x="176531" y="659129"/>
                  </a:lnTo>
                  <a:lnTo>
                    <a:pt x="194311" y="659129"/>
                  </a:lnTo>
                  <a:lnTo>
                    <a:pt x="213361" y="656590"/>
                  </a:lnTo>
                  <a:lnTo>
                    <a:pt x="231140" y="651509"/>
                  </a:lnTo>
                  <a:lnTo>
                    <a:pt x="240031" y="648970"/>
                  </a:lnTo>
                  <a:lnTo>
                    <a:pt x="247650" y="645159"/>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90"/>
            <p:cNvSpPr/>
            <p:nvPr/>
          </p:nvSpPr>
          <p:spPr>
            <a:xfrm>
              <a:off x="8502120" y="273780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2"/>
                  </a:lnTo>
                  <a:lnTo>
                    <a:pt x="108966" y="572135"/>
                  </a:lnTo>
                  <a:lnTo>
                    <a:pt x="102743" y="589914"/>
                  </a:lnTo>
                  <a:lnTo>
                    <a:pt x="94995" y="608330"/>
                  </a:lnTo>
                  <a:lnTo>
                    <a:pt x="86232" y="627380"/>
                  </a:lnTo>
                  <a:lnTo>
                    <a:pt x="76454" y="647445"/>
                  </a:lnTo>
                  <a:lnTo>
                    <a:pt x="71246" y="653287"/>
                  </a:lnTo>
                  <a:lnTo>
                    <a:pt x="65023" y="659383"/>
                  </a:lnTo>
                  <a:lnTo>
                    <a:pt x="57912" y="664972"/>
                  </a:lnTo>
                  <a:lnTo>
                    <a:pt x="50292" y="669670"/>
                  </a:lnTo>
                  <a:lnTo>
                    <a:pt x="42544" y="672973"/>
                  </a:lnTo>
                  <a:lnTo>
                    <a:pt x="35179" y="674369"/>
                  </a:lnTo>
                  <a:lnTo>
                    <a:pt x="28447" y="673862"/>
                  </a:lnTo>
                  <a:lnTo>
                    <a:pt x="25400" y="672464"/>
                  </a:lnTo>
                  <a:lnTo>
                    <a:pt x="22732" y="670179"/>
                  </a:lnTo>
                  <a:lnTo>
                    <a:pt x="21590" y="666114"/>
                  </a:lnTo>
                  <a:lnTo>
                    <a:pt x="22732" y="660018"/>
                  </a:lnTo>
                  <a:lnTo>
                    <a:pt x="26034" y="651891"/>
                  </a:lnTo>
                  <a:lnTo>
                    <a:pt x="30098" y="641985"/>
                  </a:lnTo>
                  <a:lnTo>
                    <a:pt x="35559" y="629157"/>
                  </a:lnTo>
                  <a:lnTo>
                    <a:pt x="41782" y="614172"/>
                  </a:lnTo>
                  <a:lnTo>
                    <a:pt x="48387" y="596645"/>
                  </a:lnTo>
                  <a:lnTo>
                    <a:pt x="54609" y="576072"/>
                  </a:lnTo>
                  <a:lnTo>
                    <a:pt x="61087" y="552449"/>
                  </a:lnTo>
                  <a:lnTo>
                    <a:pt x="63880" y="539368"/>
                  </a:lnTo>
                  <a:lnTo>
                    <a:pt x="66675" y="525399"/>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91"/>
            <p:cNvSpPr/>
            <p:nvPr/>
          </p:nvSpPr>
          <p:spPr>
            <a:xfrm>
              <a:off x="8299440" y="327096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2"/>
                  </a:lnTo>
                  <a:lnTo>
                    <a:pt x="70484" y="21970"/>
                  </a:lnTo>
                  <a:lnTo>
                    <a:pt x="82804" y="31114"/>
                  </a:lnTo>
                  <a:lnTo>
                    <a:pt x="95250" y="38862"/>
                  </a:lnTo>
                  <a:lnTo>
                    <a:pt x="107823" y="45846"/>
                  </a:lnTo>
                  <a:lnTo>
                    <a:pt x="120777" y="51308"/>
                  </a:lnTo>
                  <a:lnTo>
                    <a:pt x="133477" y="55499"/>
                  </a:lnTo>
                  <a:lnTo>
                    <a:pt x="146430" y="58293"/>
                  </a:lnTo>
                  <a:lnTo>
                    <a:pt x="159004" y="59689"/>
                  </a:lnTo>
                  <a:lnTo>
                    <a:pt x="171450" y="59689"/>
                  </a:lnTo>
                  <a:lnTo>
                    <a:pt x="183768" y="58293"/>
                  </a:lnTo>
                  <a:lnTo>
                    <a:pt x="195833" y="55245"/>
                  </a:lnTo>
                  <a:lnTo>
                    <a:pt x="207771" y="50800"/>
                  </a:lnTo>
                  <a:lnTo>
                    <a:pt x="218948" y="44703"/>
                  </a:lnTo>
                  <a:lnTo>
                    <a:pt x="229996" y="36957"/>
                  </a:lnTo>
                  <a:lnTo>
                    <a:pt x="240283" y="27432"/>
                  </a:lnTo>
                  <a:lnTo>
                    <a:pt x="237363" y="38862"/>
                  </a:lnTo>
                  <a:lnTo>
                    <a:pt x="233171" y="49149"/>
                  </a:lnTo>
                  <a:lnTo>
                    <a:pt x="228345" y="58674"/>
                  </a:lnTo>
                  <a:lnTo>
                    <a:pt x="222757" y="67437"/>
                  </a:lnTo>
                  <a:lnTo>
                    <a:pt x="211836" y="83820"/>
                  </a:lnTo>
                  <a:lnTo>
                    <a:pt x="202056" y="100583"/>
                  </a:lnTo>
                  <a:lnTo>
                    <a:pt x="194691" y="105028"/>
                  </a:lnTo>
                  <a:lnTo>
                    <a:pt x="186563" y="107822"/>
                  </a:lnTo>
                  <a:lnTo>
                    <a:pt x="178054" y="109220"/>
                  </a:lnTo>
                  <a:lnTo>
                    <a:pt x="169037" y="109474"/>
                  </a:lnTo>
                  <a:lnTo>
                    <a:pt x="150494" y="107822"/>
                  </a:lnTo>
                  <a:lnTo>
                    <a:pt x="132461" y="105283"/>
                  </a:lnTo>
                  <a:lnTo>
                    <a:pt x="100456" y="100583"/>
                  </a:lnTo>
                  <a:lnTo>
                    <a:pt x="84074" y="98044"/>
                  </a:lnTo>
                  <a:lnTo>
                    <a:pt x="68326" y="94107"/>
                  </a:lnTo>
                  <a:lnTo>
                    <a:pt x="52958" y="89153"/>
                  </a:lnTo>
                  <a:lnTo>
                    <a:pt x="38227" y="82803"/>
                  </a:lnTo>
                  <a:lnTo>
                    <a:pt x="25145" y="74421"/>
                  </a:lnTo>
                  <a:lnTo>
                    <a:pt x="19177" y="69722"/>
                  </a:lnTo>
                  <a:lnTo>
                    <a:pt x="13462" y="63881"/>
                  </a:lnTo>
                  <a:lnTo>
                    <a:pt x="6857" y="54990"/>
                  </a:lnTo>
                  <a:lnTo>
                    <a:pt x="2031" y="44450"/>
                  </a:lnTo>
                  <a:lnTo>
                    <a:pt x="0" y="33020"/>
                  </a:lnTo>
                  <a:lnTo>
                    <a:pt x="634" y="28066"/>
                  </a:lnTo>
                  <a:lnTo>
                    <a:pt x="2158" y="22987"/>
                  </a:lnTo>
                  <a:lnTo>
                    <a:pt x="5588" y="18033"/>
                  </a:lnTo>
                  <a:lnTo>
                    <a:pt x="9652" y="13843"/>
                  </a:lnTo>
                  <a:lnTo>
                    <a:pt x="15366" y="10287"/>
                  </a:lnTo>
                  <a:lnTo>
                    <a:pt x="21590" y="7112"/>
                  </a:lnTo>
                  <a:lnTo>
                    <a:pt x="35052"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Freeform 92"/>
            <p:cNvSpPr/>
            <p:nvPr/>
          </p:nvSpPr>
          <p:spPr>
            <a:xfrm>
              <a:off x="8274600" y="273348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3" name="Freeform 93"/>
            <p:cNvSpPr/>
            <p:nvPr/>
          </p:nvSpPr>
          <p:spPr>
            <a:xfrm>
              <a:off x="7567200" y="2272320"/>
              <a:ext cx="763200" cy="167040"/>
            </a:xfrm>
            <a:custGeom>
              <a:avLst/>
              <a:gdLst>
                <a:gd name="textAreaLeft" fmla="*/ 0 w 763200"/>
                <a:gd name="textAreaRight" fmla="*/ 763560 w 763200"/>
                <a:gd name="textAreaTop" fmla="*/ 0 h 167040"/>
                <a:gd name="textAreaBottom" fmla="*/ 167400 h 167040"/>
              </a:gdLst>
              <a:ahLst/>
              <a:rect l="textAreaLeft" t="textAreaTop" r="textAreaRight" b="textAreaBottom"/>
              <a:pathLst>
                <a:path w="762891" h="167260">
                  <a:moveTo>
                    <a:pt x="622046" y="148718"/>
                  </a:moveTo>
                  <a:lnTo>
                    <a:pt x="591185" y="153671"/>
                  </a:lnTo>
                  <a:lnTo>
                    <a:pt x="558673" y="157862"/>
                  </a:lnTo>
                  <a:lnTo>
                    <a:pt x="524892" y="161163"/>
                  </a:lnTo>
                  <a:lnTo>
                    <a:pt x="489967" y="163958"/>
                  </a:lnTo>
                  <a:lnTo>
                    <a:pt x="454153" y="165990"/>
                  </a:lnTo>
                  <a:lnTo>
                    <a:pt x="417831" y="167133"/>
                  </a:lnTo>
                  <a:lnTo>
                    <a:pt x="381508" y="167259"/>
                  </a:lnTo>
                  <a:lnTo>
                    <a:pt x="344679" y="167133"/>
                  </a:lnTo>
                  <a:lnTo>
                    <a:pt x="308610" y="165990"/>
                  </a:lnTo>
                  <a:lnTo>
                    <a:pt x="272670" y="163958"/>
                  </a:lnTo>
                  <a:lnTo>
                    <a:pt x="237745" y="161163"/>
                  </a:lnTo>
                  <a:lnTo>
                    <a:pt x="203835" y="157862"/>
                  </a:lnTo>
                  <a:lnTo>
                    <a:pt x="171323" y="153671"/>
                  </a:lnTo>
                  <a:lnTo>
                    <a:pt x="140844" y="148718"/>
                  </a:lnTo>
                  <a:lnTo>
                    <a:pt x="111507" y="142875"/>
                  </a:lnTo>
                  <a:lnTo>
                    <a:pt x="85598" y="136525"/>
                  </a:lnTo>
                  <a:lnTo>
                    <a:pt x="62738" y="129540"/>
                  </a:lnTo>
                  <a:lnTo>
                    <a:pt x="43561" y="122556"/>
                  </a:lnTo>
                  <a:lnTo>
                    <a:pt x="27813" y="115316"/>
                  </a:lnTo>
                  <a:lnTo>
                    <a:pt x="15495" y="107569"/>
                  </a:lnTo>
                  <a:lnTo>
                    <a:pt x="6985" y="99441"/>
                  </a:lnTo>
                  <a:lnTo>
                    <a:pt x="1524" y="91694"/>
                  </a:lnTo>
                  <a:lnTo>
                    <a:pt x="0" y="83693"/>
                  </a:lnTo>
                  <a:lnTo>
                    <a:pt x="1524" y="75565"/>
                  </a:lnTo>
                  <a:lnTo>
                    <a:pt x="6985" y="67818"/>
                  </a:lnTo>
                  <a:lnTo>
                    <a:pt x="15495" y="59818"/>
                  </a:lnTo>
                  <a:lnTo>
                    <a:pt x="27813" y="51943"/>
                  </a:lnTo>
                  <a:lnTo>
                    <a:pt x="43561" y="44450"/>
                  </a:lnTo>
                  <a:lnTo>
                    <a:pt x="62738" y="37465"/>
                  </a:lnTo>
                  <a:lnTo>
                    <a:pt x="85598" y="30862"/>
                  </a:lnTo>
                  <a:lnTo>
                    <a:pt x="111507" y="24512"/>
                  </a:lnTo>
                  <a:lnTo>
                    <a:pt x="140844" y="18543"/>
                  </a:lnTo>
                  <a:lnTo>
                    <a:pt x="171323" y="13590"/>
                  </a:lnTo>
                  <a:lnTo>
                    <a:pt x="203835" y="9399"/>
                  </a:lnTo>
                  <a:lnTo>
                    <a:pt x="237745" y="6096"/>
                  </a:lnTo>
                  <a:lnTo>
                    <a:pt x="272670" y="3303"/>
                  </a:lnTo>
                  <a:lnTo>
                    <a:pt x="308610" y="1397"/>
                  </a:lnTo>
                  <a:lnTo>
                    <a:pt x="344679" y="255"/>
                  </a:lnTo>
                  <a:lnTo>
                    <a:pt x="381508" y="0"/>
                  </a:lnTo>
                  <a:lnTo>
                    <a:pt x="417831" y="255"/>
                  </a:lnTo>
                  <a:lnTo>
                    <a:pt x="454153" y="1397"/>
                  </a:lnTo>
                  <a:lnTo>
                    <a:pt x="489967" y="3303"/>
                  </a:lnTo>
                  <a:lnTo>
                    <a:pt x="524892" y="6096"/>
                  </a:lnTo>
                  <a:lnTo>
                    <a:pt x="558673" y="9399"/>
                  </a:lnTo>
                  <a:lnTo>
                    <a:pt x="591185" y="13590"/>
                  </a:lnTo>
                  <a:lnTo>
                    <a:pt x="622046" y="18543"/>
                  </a:lnTo>
                  <a:lnTo>
                    <a:pt x="651003" y="24512"/>
                  </a:lnTo>
                  <a:lnTo>
                    <a:pt x="677292" y="30862"/>
                  </a:lnTo>
                  <a:lnTo>
                    <a:pt x="700152" y="37465"/>
                  </a:lnTo>
                  <a:lnTo>
                    <a:pt x="718947" y="44450"/>
                  </a:lnTo>
                  <a:lnTo>
                    <a:pt x="734822" y="51943"/>
                  </a:lnTo>
                  <a:lnTo>
                    <a:pt x="747142" y="59818"/>
                  </a:lnTo>
                  <a:lnTo>
                    <a:pt x="755778" y="67818"/>
                  </a:lnTo>
                  <a:lnTo>
                    <a:pt x="760984" y="75565"/>
                  </a:lnTo>
                  <a:lnTo>
                    <a:pt x="762890" y="83693"/>
                  </a:lnTo>
                  <a:lnTo>
                    <a:pt x="760984" y="91694"/>
                  </a:lnTo>
                  <a:lnTo>
                    <a:pt x="755778" y="99441"/>
                  </a:lnTo>
                  <a:lnTo>
                    <a:pt x="747142" y="107569"/>
                  </a:lnTo>
                  <a:lnTo>
                    <a:pt x="734822" y="115316"/>
                  </a:lnTo>
                  <a:lnTo>
                    <a:pt x="718947"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Freeform 94"/>
            <p:cNvSpPr/>
            <p:nvPr/>
          </p:nvSpPr>
          <p:spPr>
            <a:xfrm>
              <a:off x="8394840" y="2729880"/>
              <a:ext cx="64800" cy="32760"/>
            </a:xfrm>
            <a:custGeom>
              <a:avLst/>
              <a:gdLst>
                <a:gd name="textAreaLeft" fmla="*/ 0 w 64800"/>
                <a:gd name="textAreaRight" fmla="*/ 65160 w 6480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85" name="Freeform 95"/>
            <p:cNvSpPr/>
            <p:nvPr/>
          </p:nvSpPr>
          <p:spPr>
            <a:xfrm>
              <a:off x="8380800" y="336744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0"/>
                  </a:lnTo>
                  <a:lnTo>
                    <a:pt x="29210" y="11430"/>
                  </a:lnTo>
                  <a:lnTo>
                    <a:pt x="22860" y="7619"/>
                  </a:lnTo>
                  <a:lnTo>
                    <a:pt x="11429"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86" name="Freeform 96"/>
            <p:cNvSpPr/>
            <p:nvPr/>
          </p:nvSpPr>
          <p:spPr>
            <a:xfrm>
              <a:off x="7829280" y="245556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587" name="TextBox 98"/>
          <p:cNvSpPr/>
          <p:nvPr/>
        </p:nvSpPr>
        <p:spPr>
          <a:xfrm>
            <a:off x="3772080" y="2717640"/>
            <a:ext cx="58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588" name="TextBox 99"/>
          <p:cNvSpPr/>
          <p:nvPr/>
        </p:nvSpPr>
        <p:spPr>
          <a:xfrm>
            <a:off x="8750160" y="264168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589" name="Oval 100"/>
          <p:cNvSpPr/>
          <p:nvPr/>
        </p:nvSpPr>
        <p:spPr>
          <a:xfrm>
            <a:off x="4280040" y="250200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Oval 101"/>
          <p:cNvSpPr/>
          <p:nvPr/>
        </p:nvSpPr>
        <p:spPr>
          <a:xfrm>
            <a:off x="4280040" y="300996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Oval 102"/>
          <p:cNvSpPr/>
          <p:nvPr/>
        </p:nvSpPr>
        <p:spPr>
          <a:xfrm>
            <a:off x="9232920" y="245124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Oval 103"/>
          <p:cNvSpPr/>
          <p:nvPr/>
        </p:nvSpPr>
        <p:spPr>
          <a:xfrm>
            <a:off x="9232920" y="293364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TextBox 104"/>
          <p:cNvSpPr/>
          <p:nvPr/>
        </p:nvSpPr>
        <p:spPr>
          <a:xfrm>
            <a:off x="2197080" y="10288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ff"/>
                </a:solidFill>
                <a:uFillTx/>
                <a:latin typeface="Comic Sans MS - 24"/>
              </a:rPr>
              <a:t>Method 1: Use Cups and Counters</a:t>
            </a:r>
            <a:endParaRPr b="0" lang="en-US" sz="2400" spc="-1" strike="noStrike">
              <a:solidFill>
                <a:srgbClr val="000000"/>
              </a:solidFill>
              <a:latin typeface="Calibri"/>
            </a:endParaRPr>
          </a:p>
        </p:txBody>
      </p:sp>
      <p:sp>
        <p:nvSpPr>
          <p:cNvPr id="594" name="TextBox 105"/>
          <p:cNvSpPr/>
          <p:nvPr/>
        </p:nvSpPr>
        <p:spPr>
          <a:xfrm>
            <a:off x="1397160" y="1600200"/>
            <a:ext cx="20318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3</a:t>
            </a:r>
            <a:endParaRPr b="0" lang="en-US" sz="2300" spc="-1" strike="noStrike">
              <a:solidFill>
                <a:srgbClr val="000000"/>
              </a:solidFill>
              <a:latin typeface="Calibri"/>
            </a:endParaRPr>
          </a:p>
        </p:txBody>
      </p:sp>
      <p:sp>
        <p:nvSpPr>
          <p:cNvPr id="595" name="TextBox 106"/>
          <p:cNvSpPr/>
          <p:nvPr/>
        </p:nvSpPr>
        <p:spPr>
          <a:xfrm>
            <a:off x="6527880" y="1625760"/>
            <a:ext cx="20318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Group 3"/>
          <p:cNvGrpSpPr/>
          <p:nvPr/>
        </p:nvGrpSpPr>
        <p:grpSpPr>
          <a:xfrm>
            <a:off x="330120" y="304920"/>
            <a:ext cx="3835440" cy="878760"/>
            <a:chOff x="330120" y="304920"/>
            <a:chExt cx="3835440" cy="878760"/>
          </a:xfrm>
        </p:grpSpPr>
        <p:sp>
          <p:nvSpPr>
            <p:cNvPr id="597" name="TextBox 1"/>
            <p:cNvSpPr/>
            <p:nvPr/>
          </p:nvSpPr>
          <p:spPr>
            <a:xfrm>
              <a:off x="2616120" y="72396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 24"/>
                </a:rPr>
                <a:t>·</a:t>
              </a: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4</a:t>
              </a:r>
              <a:endParaRPr b="0" lang="en-US" sz="2400" spc="-1" strike="noStrike">
                <a:solidFill>
                  <a:srgbClr val="000000"/>
                </a:solidFill>
                <a:latin typeface="Calibri"/>
              </a:endParaRPr>
            </a:p>
          </p:txBody>
        </p:sp>
        <p:sp>
          <p:nvSpPr>
            <p:cNvPr id="598" name="TextBox 2"/>
            <p:cNvSpPr/>
            <p:nvPr/>
          </p:nvSpPr>
          <p:spPr>
            <a:xfrm>
              <a:off x="330120" y="304920"/>
              <a:ext cx="383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b) Evaluate 3</a:t>
              </a:r>
              <a:r>
                <a:rPr b="0" i="1" lang="en-US" sz="2400" spc="-1" strike="noStrike">
                  <a:solidFill>
                    <a:srgbClr val="0000ff"/>
                  </a:solidFill>
                  <a:latin typeface="Comic Sans MS - 24"/>
                </a:rPr>
                <a:t>x</a:t>
              </a:r>
              <a:r>
                <a:rPr b="0" lang="en-US" sz="2400" spc="-1" strike="noStrike">
                  <a:solidFill>
                    <a:srgbClr val="0000ff"/>
                  </a:solidFill>
                  <a:latin typeface="Comic Sans MS - 24"/>
                </a:rPr>
                <a:t> + 2 whe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3</a:t>
              </a:r>
              <a:endParaRPr b="0" lang="en-US" sz="2400" spc="-1" strike="noStrike">
                <a:solidFill>
                  <a:srgbClr val="000000"/>
                </a:solidFill>
                <a:latin typeface="Calibri"/>
              </a:endParaRPr>
            </a:p>
          </p:txBody>
        </p:sp>
      </p:grpSp>
      <p:sp>
        <p:nvSpPr>
          <p:cNvPr id="599" name="TextBox 4"/>
          <p:cNvSpPr/>
          <p:nvPr/>
        </p:nvSpPr>
        <p:spPr>
          <a:xfrm>
            <a:off x="291960" y="146052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ff"/>
                </a:solidFill>
                <a:uFillTx/>
                <a:latin typeface="Comic Sans MS - 24"/>
              </a:rPr>
              <a:t>Method 2: Substitute Into the Expression 3</a:t>
            </a:r>
            <a:r>
              <a:rPr b="0" i="1" lang="en-CA" sz="2400" spc="-1" strike="noStrike" u="sng">
                <a:solidFill>
                  <a:srgbClr val="0000ff"/>
                </a:solidFill>
                <a:uFillTx/>
                <a:latin typeface="Comic Sans MS - 24"/>
              </a:rPr>
              <a:t>x</a:t>
            </a:r>
            <a:r>
              <a:rPr b="0" lang="en-CA" sz="2400" spc="-1" strike="noStrike" u="sng">
                <a:solidFill>
                  <a:srgbClr val="0000ff"/>
                </a:solidFill>
                <a:uFillTx/>
                <a:latin typeface="Comic Sans MS - 24"/>
              </a:rPr>
              <a:t> + 2</a:t>
            </a:r>
            <a:endParaRPr b="0" lang="en-US" sz="2400" spc="-1" strike="noStrike">
              <a:solidFill>
                <a:srgbClr val="000000"/>
              </a:solidFill>
              <a:latin typeface="Calibri"/>
            </a:endParaRPr>
          </a:p>
        </p:txBody>
      </p:sp>
      <p:sp>
        <p:nvSpPr>
          <p:cNvPr id="600" name="TextBox 5"/>
          <p:cNvSpPr/>
          <p:nvPr/>
        </p:nvSpPr>
        <p:spPr>
          <a:xfrm>
            <a:off x="139680" y="2044800"/>
            <a:ext cx="20322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3</a:t>
            </a:r>
            <a:endParaRPr b="0" lang="en-US" sz="2300" spc="-1" strike="noStrike">
              <a:solidFill>
                <a:srgbClr val="000000"/>
              </a:solidFill>
              <a:latin typeface="Calibri"/>
            </a:endParaRPr>
          </a:p>
        </p:txBody>
      </p:sp>
      <p:sp>
        <p:nvSpPr>
          <p:cNvPr id="601" name="TextBox 6"/>
          <p:cNvSpPr/>
          <p:nvPr/>
        </p:nvSpPr>
        <p:spPr>
          <a:xfrm>
            <a:off x="5143680" y="2057400"/>
            <a:ext cx="20574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4</a:t>
            </a:r>
            <a:endParaRPr b="0" lang="en-US" sz="2300" spc="-1" strike="noStrike">
              <a:solidFill>
                <a:srgbClr val="000000"/>
              </a:solidFill>
              <a:latin typeface="Calibri"/>
            </a:endParaRPr>
          </a:p>
        </p:txBody>
      </p:sp>
      <p:sp>
        <p:nvSpPr>
          <p:cNvPr id="602" name="Freeform 7"/>
          <p:cNvSpPr/>
          <p:nvPr/>
        </p:nvSpPr>
        <p:spPr>
          <a:xfrm>
            <a:off x="88920" y="2006640"/>
            <a:ext cx="4826160" cy="2502000"/>
          </a:xfrm>
          <a:custGeom>
            <a:avLst/>
            <a:gdLst>
              <a:gd name="textAreaLeft" fmla="*/ 0 w 4826160"/>
              <a:gd name="textAreaRight" fmla="*/ 4826520 w 482616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3" name="Freeform 8"/>
          <p:cNvSpPr/>
          <p:nvPr/>
        </p:nvSpPr>
        <p:spPr>
          <a:xfrm>
            <a:off x="5067360" y="2006640"/>
            <a:ext cx="4825800" cy="2502000"/>
          </a:xfrm>
          <a:custGeom>
            <a:avLst/>
            <a:gdLst>
              <a:gd name="textAreaLeft" fmla="*/ 0 w 4825800"/>
              <a:gd name="textAreaRight" fmla="*/ 4826160 w 482580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TextBox 9"/>
          <p:cNvSpPr/>
          <p:nvPr/>
        </p:nvSpPr>
        <p:spPr>
          <a:xfrm>
            <a:off x="241200" y="2489040"/>
            <a:ext cx="15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3</a:t>
            </a:r>
            <a:r>
              <a:rPr b="0" i="1" lang="en-US" sz="2400" spc="-1" strike="noStrike">
                <a:solidFill>
                  <a:srgbClr val="0000ff"/>
                </a:solidFill>
                <a:latin typeface="Comic Sans MS - 24"/>
              </a:rPr>
              <a:t>x</a:t>
            </a:r>
            <a:r>
              <a:rPr b="0" lang="en-US" sz="2400" spc="-1" strike="noStrike">
                <a:solidFill>
                  <a:srgbClr val="0000ff"/>
                </a:solidFill>
                <a:latin typeface="Comic Sans MS - 24"/>
              </a:rPr>
              <a:t> + 2 =</a:t>
            </a:r>
            <a:endParaRPr b="0" lang="en-US" sz="2400" spc="-1" strike="noStrike">
              <a:solidFill>
                <a:srgbClr val="000000"/>
              </a:solidFill>
              <a:latin typeface="Calibri"/>
            </a:endParaRPr>
          </a:p>
        </p:txBody>
      </p:sp>
      <p:sp>
        <p:nvSpPr>
          <p:cNvPr id="605" name="TextBox 10"/>
          <p:cNvSpPr/>
          <p:nvPr/>
        </p:nvSpPr>
        <p:spPr>
          <a:xfrm>
            <a:off x="5232240" y="2476440"/>
            <a:ext cx="15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3</a:t>
            </a:r>
            <a:r>
              <a:rPr b="0" i="1" lang="en-US" sz="2400" spc="-1" strike="noStrike">
                <a:solidFill>
                  <a:srgbClr val="0000ff"/>
                </a:solidFill>
                <a:latin typeface="Comic Sans MS - 24"/>
              </a:rPr>
              <a:t>x</a:t>
            </a:r>
            <a:r>
              <a:rPr b="0" lang="en-US" sz="2400" spc="-1" strike="noStrike">
                <a:solidFill>
                  <a:srgbClr val="0000ff"/>
                </a:solidFill>
                <a:latin typeface="Comic Sans MS - 24"/>
              </a:rPr>
              <a:t> + 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TextBox 1"/>
          <p:cNvSpPr/>
          <p:nvPr/>
        </p:nvSpPr>
        <p:spPr>
          <a:xfrm>
            <a:off x="101520" y="38160"/>
            <a:ext cx="10083960" cy="764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ff"/>
                </a:solidFill>
                <a:uFillTx/>
                <a:latin typeface="Comic Sans MS - 36"/>
              </a:rPr>
              <a:t>Ex 2: Make a Table of Value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ff"/>
                </a:solidFill>
                <a:uFillTx/>
                <a:latin typeface="Comic Sans MS - 36"/>
              </a:rPr>
              <a:t>Lo</a:t>
            </a:r>
            <a:r>
              <a:rPr b="0" lang="en-CA" sz="2300" spc="-1" strike="noStrike">
                <a:solidFill>
                  <a:srgbClr val="0000ff"/>
                </a:solidFill>
                <a:latin typeface="Comic Sans MS - 24"/>
              </a:rPr>
              <a:t>ok at the pattern of squares.  It can be described using the expression 2</a:t>
            </a:r>
            <a:r>
              <a:rPr b="0" i="1" lang="en-CA" sz="2300" spc="-1" strike="noStrike">
                <a:solidFill>
                  <a:srgbClr val="0000ff"/>
                </a:solidFill>
                <a:latin typeface="Comic Sans MS - 24"/>
              </a:rPr>
              <a:t>n</a:t>
            </a:r>
            <a:r>
              <a:rPr b="0" lang="en-CA" sz="2300" spc="-1" strike="noStrike">
                <a:solidFill>
                  <a:srgbClr val="0000ff"/>
                </a:solidFill>
                <a:latin typeface="Comic Sans MS - 24"/>
              </a:rPr>
              <a:t> +1, where </a:t>
            </a:r>
            <a:r>
              <a:rPr b="0" i="1" lang="en-CA" sz="2300" spc="-1" strike="noStrike">
                <a:solidFill>
                  <a:srgbClr val="0000ff"/>
                </a:solidFill>
                <a:latin typeface="Comic Sans MS - 24"/>
              </a:rPr>
              <a:t>n</a:t>
            </a:r>
            <a:r>
              <a:rPr b="0" lang="en-CA" sz="2300" spc="-1" strike="noStrike">
                <a:solidFill>
                  <a:srgbClr val="0000ff"/>
                </a:solidFill>
                <a:latin typeface="Comic Sans MS - 24"/>
              </a:rPr>
              <a:t> is the figure numb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a) What does 2</a:t>
            </a:r>
            <a:r>
              <a:rPr b="0" i="1" lang="en-US" sz="2300" spc="-1" strike="noStrike">
                <a:solidFill>
                  <a:srgbClr val="0000ff"/>
                </a:solidFill>
                <a:latin typeface="Comic Sans MS - 24"/>
              </a:rPr>
              <a:t>n</a:t>
            </a:r>
            <a:r>
              <a:rPr b="0" lang="en-US" sz="2300" spc="-1" strike="noStrike">
                <a:solidFill>
                  <a:srgbClr val="0000ff"/>
                </a:solidFill>
                <a:latin typeface="Comic Sans MS - 24"/>
              </a:rPr>
              <a:t> +1 represen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b) Make a </a:t>
            </a:r>
            <a:r>
              <a:rPr b="1" i="1" lang="en-US" sz="2300" spc="-1" strike="noStrike">
                <a:solidFill>
                  <a:srgbClr val="0000ff"/>
                </a:solidFill>
                <a:latin typeface="Comic Sans MS - 24"/>
              </a:rPr>
              <a:t>table of values</a:t>
            </a:r>
            <a:r>
              <a:rPr b="0" lang="en-US" sz="2300" spc="-1" strike="noStrike">
                <a:solidFill>
                  <a:srgbClr val="0000ff"/>
                </a:solidFill>
                <a:latin typeface="Comic Sans MS - 24"/>
              </a:rPr>
              <a:t> for </a:t>
            </a:r>
            <a:r>
              <a:rPr b="0" i="1" lang="en-US" sz="2300" spc="-1" strike="noStrike">
                <a:solidFill>
                  <a:srgbClr val="0000ff"/>
                </a:solidFill>
                <a:latin typeface="Comic Sans MS - 24"/>
              </a:rPr>
              <a:t>n</a:t>
            </a:r>
            <a:r>
              <a:rPr b="0" lang="en-US" sz="2300" spc="-1" strike="noStrike">
                <a:solidFill>
                  <a:srgbClr val="0000ff"/>
                </a:solidFill>
                <a:latin typeface="Comic Sans MS - 24"/>
              </a:rPr>
              <a:t> and 2</a:t>
            </a:r>
            <a:r>
              <a:rPr b="0" i="1" lang="en-US" sz="2300" spc="-1" strike="noStrike">
                <a:solidFill>
                  <a:srgbClr val="0000ff"/>
                </a:solidFill>
                <a:latin typeface="Comic Sans MS - 24"/>
              </a:rPr>
              <a:t>n</a:t>
            </a:r>
            <a:r>
              <a:rPr b="0" lang="en-CA" sz="2300" spc="-1" strike="noStrike">
                <a:solidFill>
                  <a:srgbClr val="0000ff"/>
                </a:solidFill>
                <a:latin typeface="Comic Sans MS - 24"/>
              </a:rPr>
              <a:t> +1.  Use whole numbers from 1 to 6 for </a:t>
            </a:r>
            <a:r>
              <a:rPr b="0" i="1" lang="en-CA" sz="2300" spc="-1" strike="noStrike">
                <a:solidFill>
                  <a:srgbClr val="0000ff"/>
                </a:solidFill>
                <a:latin typeface="Comic Sans MS - 24"/>
              </a:rPr>
              <a:t>n</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How many squares are in Figure 30 of the pattern?</a:t>
            </a:r>
            <a:endParaRPr b="0" lang="en-US" sz="2300" spc="-1" strike="noStrike">
              <a:solidFill>
                <a:srgbClr val="000000"/>
              </a:solidFill>
              <a:latin typeface="Calibri"/>
            </a:endParaRPr>
          </a:p>
        </p:txBody>
      </p:sp>
      <p:grpSp>
        <p:nvGrpSpPr>
          <p:cNvPr id="607" name="Group 18"/>
          <p:cNvGrpSpPr/>
          <p:nvPr/>
        </p:nvGrpSpPr>
        <p:grpSpPr>
          <a:xfrm>
            <a:off x="6299280" y="1790640"/>
            <a:ext cx="3289320" cy="1558080"/>
            <a:chOff x="6299280" y="1790640"/>
            <a:chExt cx="3289320" cy="1558080"/>
          </a:xfrm>
        </p:grpSpPr>
        <p:sp>
          <p:nvSpPr>
            <p:cNvPr id="608" name="TextBox 2"/>
            <p:cNvSpPr/>
            <p:nvPr/>
          </p:nvSpPr>
          <p:spPr>
            <a:xfrm>
              <a:off x="6337080" y="2768040"/>
              <a:ext cx="325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Fig 1</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Fig 2</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Fig 3</a:t>
              </a:r>
              <a:endParaRPr b="0" lang="en-US" sz="1600" spc="-1" strike="noStrike">
                <a:solidFill>
                  <a:srgbClr val="000000"/>
                </a:solidFill>
                <a:latin typeface="Calibri"/>
              </a:endParaRPr>
            </a:p>
          </p:txBody>
        </p:sp>
        <p:sp>
          <p:nvSpPr>
            <p:cNvPr id="609" name="Freeform 3"/>
            <p:cNvSpPr/>
            <p:nvPr/>
          </p:nvSpPr>
          <p:spPr>
            <a:xfrm>
              <a:off x="629928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Freeform 4"/>
            <p:cNvSpPr/>
            <p:nvPr/>
          </p:nvSpPr>
          <p:spPr>
            <a:xfrm>
              <a:off x="656568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Freeform 5"/>
            <p:cNvSpPr/>
            <p:nvPr/>
          </p:nvSpPr>
          <p:spPr>
            <a:xfrm>
              <a:off x="758196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6"/>
            <p:cNvSpPr/>
            <p:nvPr/>
          </p:nvSpPr>
          <p:spPr>
            <a:xfrm>
              <a:off x="784872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3" name="Freeform 7"/>
            <p:cNvSpPr/>
            <p:nvPr/>
          </p:nvSpPr>
          <p:spPr>
            <a:xfrm>
              <a:off x="8826840" y="253980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4" name="Freeform 8"/>
            <p:cNvSpPr/>
            <p:nvPr/>
          </p:nvSpPr>
          <p:spPr>
            <a:xfrm>
              <a:off x="9093600" y="253980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9"/>
            <p:cNvSpPr/>
            <p:nvPr/>
          </p:nvSpPr>
          <p:spPr>
            <a:xfrm>
              <a:off x="7581960" y="22730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6" name="Freeform 10"/>
            <p:cNvSpPr/>
            <p:nvPr/>
          </p:nvSpPr>
          <p:spPr>
            <a:xfrm>
              <a:off x="7848720" y="22730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11"/>
            <p:cNvSpPr/>
            <p:nvPr/>
          </p:nvSpPr>
          <p:spPr>
            <a:xfrm>
              <a:off x="8826840" y="22982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12"/>
            <p:cNvSpPr/>
            <p:nvPr/>
          </p:nvSpPr>
          <p:spPr>
            <a:xfrm>
              <a:off x="9093600" y="22982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13"/>
            <p:cNvSpPr/>
            <p:nvPr/>
          </p:nvSpPr>
          <p:spPr>
            <a:xfrm>
              <a:off x="8826840" y="20444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14"/>
            <p:cNvSpPr/>
            <p:nvPr/>
          </p:nvSpPr>
          <p:spPr>
            <a:xfrm>
              <a:off x="9093600" y="20444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15"/>
            <p:cNvSpPr/>
            <p:nvPr/>
          </p:nvSpPr>
          <p:spPr>
            <a:xfrm>
              <a:off x="6299280" y="22730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16"/>
            <p:cNvSpPr/>
            <p:nvPr/>
          </p:nvSpPr>
          <p:spPr>
            <a:xfrm>
              <a:off x="7581960" y="201888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17"/>
            <p:cNvSpPr/>
            <p:nvPr/>
          </p:nvSpPr>
          <p:spPr>
            <a:xfrm>
              <a:off x="8826840" y="17906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aphicFrame>
        <p:nvGraphicFramePr>
          <p:cNvPr id="624" name=""/>
          <p:cNvGraphicFramePr/>
          <p:nvPr/>
        </p:nvGraphicFramePr>
        <p:xfrm>
          <a:off x="635040" y="4241880"/>
          <a:ext cx="7099200" cy="4190760"/>
        </p:xfrm>
        <a:graphic>
          <a:graphicData uri="http://schemas.openxmlformats.org/drawingml/2006/table">
            <a:tbl>
              <a:tblPr/>
              <a:tblGrid>
                <a:gridCol w="3543120"/>
                <a:gridCol w="3556080"/>
              </a:tblGrid>
              <a:tr h="114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mic Sans MS - 26"/>
                        </a:rPr>
                        <a:t>Figure Number (n)</a:t>
                      </a:r>
                      <a:endParaRPr b="0" lang="en-US" sz="26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0000"/>
                          </a:solidFill>
                          <a:latin typeface="Comic Sans MS - 26"/>
                        </a:rPr>
                        <a:t>Number of Squares (2n + 1) </a:t>
                      </a:r>
                      <a:endParaRPr b="0" lang="en-US" sz="26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TextBox 1"/>
          <p:cNvSpPr/>
          <p:nvPr/>
        </p:nvSpPr>
        <p:spPr>
          <a:xfrm>
            <a:off x="101520" y="12600"/>
            <a:ext cx="883944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u="sng">
                <a:solidFill>
                  <a:srgbClr val="0000ff"/>
                </a:solidFill>
                <a:uFillTx/>
                <a:latin typeface="Comic Sans MS - 24"/>
              </a:rPr>
              <a:t>10.4 Graph Linear Relations</a:t>
            </a:r>
            <a:endParaRPr b="0" lang="en-US" sz="4900" spc="-1" strike="noStrike">
              <a:solidFill>
                <a:srgbClr val="000000"/>
              </a:solidFill>
              <a:latin typeface="Calibri"/>
            </a:endParaRPr>
          </a:p>
        </p:txBody>
      </p:sp>
      <p:sp>
        <p:nvSpPr>
          <p:cNvPr id="626" name="TextBox 2"/>
          <p:cNvSpPr/>
          <p:nvPr/>
        </p:nvSpPr>
        <p:spPr>
          <a:xfrm>
            <a:off x="216000" y="1092240"/>
            <a:ext cx="955044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graph a linear rela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describe the relationship shown on a 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Linear Rela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ttern made by two sets of numbers that results in points along a straight line on a coordinate grid.</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visual way to show how two sets of numbers relate to each oth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Relationshi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ttern formed by two sets of numbe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TextBox 1"/>
          <p:cNvSpPr/>
          <p:nvPr/>
        </p:nvSpPr>
        <p:spPr>
          <a:xfrm>
            <a:off x="127080" y="3816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ff"/>
                </a:solidFill>
                <a:uFillTx/>
                <a:latin typeface="Comic Sans MS - 36"/>
              </a:rPr>
              <a:t>Ex 1: Plot Points and Describe Patterns</a:t>
            </a:r>
            <a:endParaRPr b="0" lang="en-US" sz="3600" spc="-1" strike="noStrike">
              <a:solidFill>
                <a:srgbClr val="000000"/>
              </a:solidFill>
              <a:latin typeface="Calibri"/>
            </a:endParaRPr>
          </a:p>
        </p:txBody>
      </p:sp>
      <p:sp>
        <p:nvSpPr>
          <p:cNvPr id="628" name="TextBox 2"/>
          <p:cNvSpPr/>
          <p:nvPr/>
        </p:nvSpPr>
        <p:spPr>
          <a:xfrm>
            <a:off x="152280" y="825480"/>
            <a:ext cx="93474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Dr. Seuss often describes patterns in unique ways.  He once wrote about a pup in a cup and three fish in a tre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Copy and complete the table.</a:t>
            </a:r>
            <a:endParaRPr b="0" lang="en-US" sz="2300" spc="-1" strike="noStrike">
              <a:solidFill>
                <a:srgbClr val="000000"/>
              </a:solidFill>
              <a:latin typeface="Calibri"/>
            </a:endParaRPr>
          </a:p>
        </p:txBody>
      </p:sp>
      <p:graphicFrame>
        <p:nvGraphicFramePr>
          <p:cNvPr id="629" name=""/>
          <p:cNvGraphicFramePr/>
          <p:nvPr/>
        </p:nvGraphicFramePr>
        <p:xfrm>
          <a:off x="317520" y="2959200"/>
          <a:ext cx="7086600" cy="3047760"/>
        </p:xfrm>
        <a:graphic>
          <a:graphicData uri="http://schemas.openxmlformats.org/drawingml/2006/table">
            <a:tbl>
              <a:tblPr/>
              <a:tblGrid>
                <a:gridCol w="2362320"/>
                <a:gridCol w="2361960"/>
                <a:gridCol w="236232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Pups, p</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Fish, f</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Ordered Pair, (p, f)</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 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 21"/>
          <p:cNvGrpSpPr/>
          <p:nvPr/>
        </p:nvGrpSpPr>
        <p:grpSpPr>
          <a:xfrm>
            <a:off x="-1701720" y="-139680"/>
            <a:ext cx="8712360" cy="8440560"/>
            <a:chOff x="-1701720" y="-139680"/>
            <a:chExt cx="8712360" cy="8440560"/>
          </a:xfrm>
        </p:grpSpPr>
        <p:pic>
          <p:nvPicPr>
            <p:cNvPr id="631" name="Picture 1" descr="tmpNBK(3).png"/>
            <p:cNvPicPr/>
            <p:nvPr/>
          </p:nvPicPr>
          <p:blipFill>
            <a:blip r:embed="rId1">
              <a:alphaModFix amt="0"/>
            </a:blip>
            <a:stretch/>
          </p:blipFill>
          <p:spPr>
            <a:xfrm>
              <a:off x="-1701720" y="-139680"/>
              <a:ext cx="8073720" cy="8440560"/>
            </a:xfrm>
            <a:prstGeom prst="rect">
              <a:avLst/>
            </a:prstGeom>
            <a:ln w="0">
              <a:noFill/>
            </a:ln>
          </p:spPr>
        </p:pic>
        <p:sp>
          <p:nvSpPr>
            <p:cNvPr id="632" name="TextBox 2"/>
            <p:cNvSpPr/>
            <p:nvPr/>
          </p:nvSpPr>
          <p:spPr>
            <a:xfrm>
              <a:off x="2247840" y="256500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3" name="TextBox 3"/>
            <p:cNvSpPr/>
            <p:nvPr/>
          </p:nvSpPr>
          <p:spPr>
            <a:xfrm>
              <a:off x="4991040" y="422856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4" name="TextBox 4"/>
            <p:cNvSpPr/>
            <p:nvPr/>
          </p:nvSpPr>
          <p:spPr>
            <a:xfrm>
              <a:off x="3568680" y="4228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35" name="TextBox 5"/>
            <p:cNvSpPr/>
            <p:nvPr/>
          </p:nvSpPr>
          <p:spPr>
            <a:xfrm>
              <a:off x="507960" y="426672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36" name="TextBox 6"/>
            <p:cNvSpPr/>
            <p:nvPr/>
          </p:nvSpPr>
          <p:spPr>
            <a:xfrm>
              <a:off x="2222640" y="554940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37" name="TextBox 7"/>
            <p:cNvSpPr/>
            <p:nvPr/>
          </p:nvSpPr>
          <p:spPr>
            <a:xfrm>
              <a:off x="0" y="425412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8" name="TextBox 8"/>
            <p:cNvSpPr/>
            <p:nvPr/>
          </p:nvSpPr>
          <p:spPr>
            <a:xfrm>
              <a:off x="2235240" y="704808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9" name="Straight Connector 9"/>
            <p:cNvSpPr/>
            <p:nvPr/>
          </p:nvSpPr>
          <p:spPr>
            <a:xfrm flipH="1">
              <a:off x="2133360" y="271764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0" name="Straight Connector 10"/>
            <p:cNvSpPr/>
            <p:nvPr/>
          </p:nvSpPr>
          <p:spPr>
            <a:xfrm flipH="1">
              <a:off x="2120400" y="120636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Straight Connector 11"/>
            <p:cNvSpPr/>
            <p:nvPr/>
          </p:nvSpPr>
          <p:spPr>
            <a:xfrm flipH="1">
              <a:off x="2095200" y="572724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2" name="Straight Connector 12"/>
            <p:cNvSpPr/>
            <p:nvPr/>
          </p:nvSpPr>
          <p:spPr>
            <a:xfrm flipH="1">
              <a:off x="2107800" y="722592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Straight Connector 13"/>
            <p:cNvSpPr/>
            <p:nvPr/>
          </p:nvSpPr>
          <p:spPr>
            <a:xfrm>
              <a:off x="373392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Straight Connector 14"/>
            <p:cNvSpPr/>
            <p:nvPr/>
          </p:nvSpPr>
          <p:spPr>
            <a:xfrm>
              <a:off x="523260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Straight Connector 15"/>
            <p:cNvSpPr/>
            <p:nvPr/>
          </p:nvSpPr>
          <p:spPr>
            <a:xfrm>
              <a:off x="-74916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Straight Connector 16"/>
            <p:cNvSpPr/>
            <p:nvPr/>
          </p:nvSpPr>
          <p:spPr>
            <a:xfrm>
              <a:off x="74916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Freeform 17"/>
            <p:cNvSpPr/>
            <p:nvPr/>
          </p:nvSpPr>
          <p:spPr>
            <a:xfrm>
              <a:off x="-1320480" y="1130040"/>
              <a:ext cx="3378240" cy="6489360"/>
            </a:xfrm>
            <a:custGeom>
              <a:avLst/>
              <a:gdLst>
                <a:gd name="textAreaLeft" fmla="*/ 0 w 3378240"/>
                <a:gd name="textAreaRight" fmla="*/ 3378600 w 3378240"/>
                <a:gd name="textAreaTop" fmla="*/ 0 h 6489360"/>
                <a:gd name="textAreaBottom" fmla="*/ 6489720 h 6489360"/>
              </a:gdLst>
              <a:ahLst/>
              <a:rect l="textAreaLeft" t="textAreaTop" r="textAreaRight" b="textAreaBottom"/>
              <a:pathLst>
                <a:path w="3378201" h="6489701">
                  <a:moveTo>
                    <a:pt x="0" y="0"/>
                  </a:moveTo>
                  <a:lnTo>
                    <a:pt x="3378200" y="0"/>
                  </a:lnTo>
                  <a:lnTo>
                    <a:pt x="3378200" y="6489700"/>
                  </a:lnTo>
                  <a:lnTo>
                    <a:pt x="0" y="64897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8" name="Freeform 18"/>
            <p:cNvSpPr/>
            <p:nvPr/>
          </p:nvSpPr>
          <p:spPr>
            <a:xfrm>
              <a:off x="-291960" y="4508280"/>
              <a:ext cx="7302600" cy="3301560"/>
            </a:xfrm>
            <a:custGeom>
              <a:avLst/>
              <a:gdLst>
                <a:gd name="textAreaLeft" fmla="*/ 0 w 7302600"/>
                <a:gd name="textAreaRight" fmla="*/ 7302960 w 7302600"/>
                <a:gd name="textAreaTop" fmla="*/ 0 h 3301560"/>
                <a:gd name="textAreaBottom" fmla="*/ 3301920 h 3301560"/>
              </a:gdLst>
              <a:ahLst/>
              <a:rect l="textAreaLeft" t="textAreaTop" r="textAreaRight" b="textAreaBottom"/>
              <a:pathLst>
                <a:path w="7302501" h="3302001">
                  <a:moveTo>
                    <a:pt x="0" y="0"/>
                  </a:moveTo>
                  <a:lnTo>
                    <a:pt x="7302500" y="0"/>
                  </a:lnTo>
                  <a:lnTo>
                    <a:pt x="7302500" y="3302000"/>
                  </a:lnTo>
                  <a:lnTo>
                    <a:pt x="0" y="33020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9" name="Freeform 19"/>
            <p:cNvSpPr/>
            <p:nvPr/>
          </p:nvSpPr>
          <p:spPr>
            <a:xfrm>
              <a:off x="1955880" y="4343040"/>
              <a:ext cx="1485720" cy="241200"/>
            </a:xfrm>
            <a:custGeom>
              <a:avLst/>
              <a:gdLst>
                <a:gd name="textAreaLeft" fmla="*/ 0 w 1485720"/>
                <a:gd name="textAreaRight" fmla="*/ 1486080 w 1485720"/>
                <a:gd name="textAreaTop" fmla="*/ 0 h 241200"/>
                <a:gd name="textAreaBottom" fmla="*/ 241560 h 241200"/>
              </a:gdLst>
              <a:ahLst/>
              <a:rect l="textAreaLeft" t="textAreaTop" r="textAreaRight" b="textAreaBottom"/>
              <a:pathLst>
                <a:path w="1485901" h="241301">
                  <a:moveTo>
                    <a:pt x="0" y="0"/>
                  </a:moveTo>
                  <a:lnTo>
                    <a:pt x="1485900" y="0"/>
                  </a:lnTo>
                  <a:lnTo>
                    <a:pt x="1485900" y="241300"/>
                  </a:lnTo>
                  <a:lnTo>
                    <a:pt x="0" y="2413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TextBox 20"/>
            <p:cNvSpPr/>
            <p:nvPr/>
          </p:nvSpPr>
          <p:spPr>
            <a:xfrm>
              <a:off x="2273400" y="106668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20</a:t>
              </a:r>
              <a:endParaRPr b="0" lang="en-US" sz="2400" spc="-1" strike="noStrike">
                <a:solidFill>
                  <a:srgbClr val="000000"/>
                </a:solidFill>
                <a:latin typeface="Calibri"/>
              </a:endParaRPr>
            </a:p>
          </p:txBody>
        </p:sp>
      </p:grpSp>
      <p:sp>
        <p:nvSpPr>
          <p:cNvPr id="651" name="TextBox 22"/>
          <p:cNvSpPr/>
          <p:nvPr/>
        </p:nvSpPr>
        <p:spPr>
          <a:xfrm>
            <a:off x="177840" y="317520"/>
            <a:ext cx="94489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b) Make a </a:t>
            </a:r>
            <a:r>
              <a:rPr b="0" lang="en-US" sz="2400" spc="-1" strike="noStrike">
                <a:solidFill>
                  <a:srgbClr val="ff0000"/>
                </a:solidFill>
                <a:latin typeface="Comic Sans MS - 24"/>
              </a:rPr>
              <a:t>graph</a:t>
            </a:r>
            <a:r>
              <a:rPr b="0" lang="en-CA" sz="2400" spc="-1" strike="noStrike">
                <a:solidFill>
                  <a:srgbClr val="0000ff"/>
                </a:solidFill>
                <a:latin typeface="Comic Sans MS - 24"/>
              </a:rPr>
              <a:t> using the ordered pairs in your tab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c) Describe the pattern of points on your grap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CA" sz="2400" spc="-1" strike="noStrike">
                <a:solidFill>
                  <a:srgbClr val="0000ff"/>
                </a:solidFill>
                <a:latin typeface="Comic Sans MS - 24"/>
              </a:rPr>
              <a:t>Method 1: Describe using word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CA" sz="2400" spc="-1" strike="noStrike">
                <a:solidFill>
                  <a:srgbClr val="0000ff"/>
                </a:solidFill>
                <a:latin typeface="Comic Sans MS - 24"/>
              </a:rPr>
              <a:t>Method 2: Describe using horizontal and vertical dista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CA" sz="2400" spc="-1" strike="noStrike">
                <a:solidFill>
                  <a:srgbClr val="0000ff"/>
                </a:solidFill>
                <a:latin typeface="Comic Sans MS - 24"/>
              </a:rPr>
              <a:t>Method 3: Describe using a </a:t>
            </a:r>
            <a:r>
              <a:rPr b="0" lang="en-CA" sz="2400" spc="-1" strike="noStrike">
                <a:solidFill>
                  <a:srgbClr val="ff0000"/>
                </a:solidFill>
                <a:latin typeface="Comic Sans MS - 24"/>
              </a:rPr>
              <a:t>relationship</a:t>
            </a:r>
            <a:r>
              <a:rPr b="0" lang="en-CA" sz="2400" spc="-1" strike="noStrike">
                <a:solidFill>
                  <a:srgbClr val="0000ff"/>
                </a:solidFill>
                <a:latin typeface="Comic Sans MS - 24"/>
              </a:rPr>
              <a:t>.</a:t>
            </a:r>
            <a:endParaRPr b="0" lang="en-US" sz="2400" spc="-1" strike="noStrike">
              <a:solidFill>
                <a:srgbClr val="000000"/>
              </a:solidFill>
              <a:latin typeface="Calibri"/>
            </a:endParaRPr>
          </a:p>
        </p:txBody>
      </p:sp>
      <p:sp>
        <p:nvSpPr>
          <p:cNvPr id="652" name="TextBox 23"/>
          <p:cNvSpPr/>
          <p:nvPr/>
        </p:nvSpPr>
        <p:spPr>
          <a:xfrm>
            <a:off x="6502320" y="172728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Labels?</a:t>
            </a:r>
            <a:endParaRPr b="0" lang="en-US" sz="2400" spc="-1" strike="noStrike">
              <a:solidFill>
                <a:srgbClr val="000000"/>
              </a:solidFill>
              <a:latin typeface="Calibri"/>
            </a:endParaRPr>
          </a:p>
        </p:txBody>
      </p:sp>
      <p:sp>
        <p:nvSpPr>
          <p:cNvPr id="653" name="TextBox 24"/>
          <p:cNvSpPr/>
          <p:nvPr/>
        </p:nvSpPr>
        <p:spPr>
          <a:xfrm>
            <a:off x="1015920" y="5562720"/>
            <a:ext cx="789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attern of points forms a straight line, starting at (1, 3).  The f-coordinate is 3 times the p-coordinate.</a:t>
            </a:r>
            <a:endParaRPr b="0" lang="en-US" sz="2000" spc="-1" strike="noStrike">
              <a:solidFill>
                <a:srgbClr val="000000"/>
              </a:solidFill>
              <a:latin typeface="Calibri"/>
            </a:endParaRPr>
          </a:p>
        </p:txBody>
      </p:sp>
      <p:sp>
        <p:nvSpPr>
          <p:cNvPr id="654" name="TextBox 25"/>
          <p:cNvSpPr/>
          <p:nvPr/>
        </p:nvSpPr>
        <p:spPr>
          <a:xfrm>
            <a:off x="1015920" y="6896160"/>
            <a:ext cx="795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oints increase by 1 unit to the right, then 3 units up, starting at (1, 3).</a:t>
            </a:r>
            <a:endParaRPr b="0" lang="en-US" sz="2000" spc="-1" strike="noStrike">
              <a:solidFill>
                <a:srgbClr val="000000"/>
              </a:solidFill>
              <a:latin typeface="Calibri"/>
            </a:endParaRPr>
          </a:p>
        </p:txBody>
      </p:sp>
      <p:sp>
        <p:nvSpPr>
          <p:cNvPr id="655" name="TextBox 26"/>
          <p:cNvSpPr/>
          <p:nvPr/>
        </p:nvSpPr>
        <p:spPr>
          <a:xfrm>
            <a:off x="939960" y="811548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number of pups is </a:t>
            </a:r>
            <a:r>
              <a:rPr b="0" i="1" lang="en-CA" sz="2000" spc="-1" strike="noStrike">
                <a:solidFill>
                  <a:srgbClr val="ff0000"/>
                </a:solidFill>
                <a:latin typeface="Comic Sans MS - 20"/>
              </a:rPr>
              <a:t>p</a:t>
            </a:r>
            <a:r>
              <a:rPr b="0" lang="en-CA" sz="2000" spc="-1" strike="noStrike">
                <a:solidFill>
                  <a:srgbClr val="ff0000"/>
                </a:solidFill>
                <a:latin typeface="Comic Sans MS - 20"/>
              </a:rPr>
              <a:t>.  The number of fish is </a:t>
            </a:r>
            <a:r>
              <a:rPr b="0" i="1" lang="en-CA" sz="2000" spc="-1" strike="noStrike">
                <a:solidFill>
                  <a:srgbClr val="ff0000"/>
                </a:solidFill>
                <a:latin typeface="Comic Sans MS - 20"/>
              </a:rPr>
              <a:t>f</a:t>
            </a:r>
            <a:r>
              <a:rPr b="0" lang="en-CA" sz="2000" spc="-1" strike="noStrike">
                <a:solidFill>
                  <a:srgbClr val="ff0000"/>
                </a:solidFill>
                <a:latin typeface="Comic Sans MS - 20"/>
              </a:rPr>
              <a:t>.  The coordinates of the points are (</a:t>
            </a:r>
            <a:r>
              <a:rPr b="0" i="1" lang="en-CA" sz="2000" spc="-1" strike="noStrike">
                <a:solidFill>
                  <a:srgbClr val="ff0000"/>
                </a:solidFill>
                <a:latin typeface="Comic Sans MS - 20"/>
              </a:rPr>
              <a:t>p</a:t>
            </a:r>
            <a:r>
              <a:rPr b="0" lang="en-CA" sz="2000" spc="-1" strike="noStrike">
                <a:solidFill>
                  <a:srgbClr val="ff0000"/>
                </a:solidFill>
                <a:latin typeface="Comic Sans MS - 20"/>
              </a:rPr>
              <a:t>, </a:t>
            </a:r>
            <a:r>
              <a:rPr b="0" i="1" lang="en-CA" sz="2000" spc="-1" strike="noStrike">
                <a:solidFill>
                  <a:srgbClr val="ff0000"/>
                </a:solidFill>
                <a:latin typeface="Comic Sans MS - 20"/>
              </a:rPr>
              <a:t>f</a:t>
            </a:r>
            <a:r>
              <a:rPr b="0" lang="en-CA" sz="2000" spc="-1" strike="noStrike">
                <a:solidFill>
                  <a:srgbClr val="ff0000"/>
                </a:solidFill>
                <a:latin typeface="Comic Sans MS - 20"/>
              </a:rPr>
              <a:t>).  The relationship between </a:t>
            </a:r>
            <a:r>
              <a:rPr b="0" i="1" lang="en-CA" sz="2000" spc="-1" strike="noStrike">
                <a:solidFill>
                  <a:srgbClr val="ff0000"/>
                </a:solidFill>
                <a:latin typeface="Comic Sans MS - 20"/>
              </a:rPr>
              <a:t>p</a:t>
            </a:r>
            <a:r>
              <a:rPr b="0" lang="en-CA" sz="2000" spc="-1" strike="noStrike">
                <a:solidFill>
                  <a:srgbClr val="ff0000"/>
                </a:solidFill>
                <a:latin typeface="Comic Sans MS - 20"/>
              </a:rPr>
              <a:t> and </a:t>
            </a:r>
            <a:r>
              <a:rPr b="0" i="1" lang="en-CA" sz="2000" spc="-1" strike="noStrike">
                <a:solidFill>
                  <a:srgbClr val="ff0000"/>
                </a:solidFill>
                <a:latin typeface="Comic Sans MS - 20"/>
              </a:rPr>
              <a:t>f</a:t>
            </a:r>
            <a:r>
              <a:rPr b="0" lang="en-CA" sz="2000" spc="-1" strike="noStrike">
                <a:solidFill>
                  <a:srgbClr val="ff0000"/>
                </a:solidFill>
                <a:latin typeface="Comic Sans MS - 20"/>
              </a:rPr>
              <a:t> is linear and can be expressed as (</a:t>
            </a:r>
            <a:r>
              <a:rPr b="0" i="1" lang="en-CA" sz="2000" spc="-1" strike="noStrike">
                <a:solidFill>
                  <a:srgbClr val="ff0000"/>
                </a:solidFill>
                <a:latin typeface="Comic Sans MS - 20"/>
              </a:rPr>
              <a:t>p</a:t>
            </a:r>
            <a:r>
              <a:rPr b="0" lang="en-CA" sz="2000" spc="-1" strike="noStrike">
                <a:solidFill>
                  <a:srgbClr val="ff0000"/>
                </a:solidFill>
                <a:latin typeface="Comic Sans MS - 20"/>
              </a:rPr>
              <a:t>, 3</a:t>
            </a:r>
            <a:r>
              <a:rPr b="0" i="1" lang="en-CA" sz="2000" spc="-1" strike="noStrike">
                <a:solidFill>
                  <a:srgbClr val="ff0000"/>
                </a:solidFill>
                <a:latin typeface="Comic Sans MS - 20"/>
              </a:rPr>
              <a:t>p</a:t>
            </a:r>
            <a:r>
              <a:rPr b="0" lang="en-CA" sz="2000" spc="-1" strike="noStrike">
                <a:solidFill>
                  <a:srgbClr val="ff0000"/>
                </a:solidFill>
                <a:latin typeface="Comic Sans MS - 20"/>
              </a:rPr>
              <a:t>) or </a:t>
            </a:r>
            <a:r>
              <a:rPr b="0" i="1" lang="en-CA" sz="2000" spc="-1" strike="noStrike">
                <a:solidFill>
                  <a:srgbClr val="ff0000"/>
                </a:solidFill>
                <a:latin typeface="Comic Sans MS - 20"/>
              </a:rPr>
              <a:t>f</a:t>
            </a:r>
            <a:r>
              <a:rPr b="0" lang="en-CA" sz="2000" spc="-1" strike="noStrike">
                <a:solidFill>
                  <a:srgbClr val="ff0000"/>
                </a:solidFill>
                <a:latin typeface="Comic Sans MS - 20"/>
              </a:rPr>
              <a:t> = 3</a:t>
            </a:r>
            <a:r>
              <a:rPr b="0" i="1" lang="en-CA" sz="2000" spc="-1" strike="noStrike">
                <a:solidFill>
                  <a:srgbClr val="ff0000"/>
                </a:solidFill>
                <a:latin typeface="Comic Sans MS - 20"/>
              </a:rPr>
              <a:t>p</a:t>
            </a:r>
            <a:r>
              <a:rPr b="0" lang="en-CA" sz="2000" spc="-1" strike="noStrike">
                <a:solidFill>
                  <a:srgbClr val="ff0000"/>
                </a:solidFill>
                <a:latin typeface="Comic Sans MS - 20"/>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Group 21"/>
          <p:cNvGrpSpPr/>
          <p:nvPr/>
        </p:nvGrpSpPr>
        <p:grpSpPr>
          <a:xfrm>
            <a:off x="-2425680" y="1549440"/>
            <a:ext cx="8712720" cy="8440560"/>
            <a:chOff x="-2425680" y="1549440"/>
            <a:chExt cx="8712720" cy="8440560"/>
          </a:xfrm>
        </p:grpSpPr>
        <p:pic>
          <p:nvPicPr>
            <p:cNvPr id="657" name="Picture 1" descr="tmpNBK(3).png"/>
            <p:cNvPicPr/>
            <p:nvPr/>
          </p:nvPicPr>
          <p:blipFill>
            <a:blip r:embed="rId1">
              <a:alphaModFix amt="0"/>
            </a:blip>
            <a:stretch/>
          </p:blipFill>
          <p:spPr>
            <a:xfrm>
              <a:off x="-2425680" y="1549440"/>
              <a:ext cx="8074080" cy="8440560"/>
            </a:xfrm>
            <a:prstGeom prst="rect">
              <a:avLst/>
            </a:prstGeom>
            <a:ln w="0">
              <a:noFill/>
            </a:ln>
          </p:spPr>
        </p:pic>
        <p:sp>
          <p:nvSpPr>
            <p:cNvPr id="658" name="TextBox 2"/>
            <p:cNvSpPr/>
            <p:nvPr/>
          </p:nvSpPr>
          <p:spPr>
            <a:xfrm>
              <a:off x="1536840" y="275580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59" name="TextBox 3"/>
            <p:cNvSpPr/>
            <p:nvPr/>
          </p:nvSpPr>
          <p:spPr>
            <a:xfrm>
              <a:off x="4267440" y="591768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60" name="TextBox 4"/>
            <p:cNvSpPr/>
            <p:nvPr/>
          </p:nvSpPr>
          <p:spPr>
            <a:xfrm>
              <a:off x="2845080" y="591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61" name="TextBox 5"/>
            <p:cNvSpPr/>
            <p:nvPr/>
          </p:nvSpPr>
          <p:spPr>
            <a:xfrm>
              <a:off x="0" y="595584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62" name="TextBox 6"/>
            <p:cNvSpPr/>
            <p:nvPr/>
          </p:nvSpPr>
          <p:spPr>
            <a:xfrm>
              <a:off x="1498680" y="723852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63" name="TextBox 7"/>
            <p:cNvSpPr/>
            <p:nvPr/>
          </p:nvSpPr>
          <p:spPr>
            <a:xfrm>
              <a:off x="0" y="594324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64" name="TextBox 8"/>
            <p:cNvSpPr/>
            <p:nvPr/>
          </p:nvSpPr>
          <p:spPr>
            <a:xfrm>
              <a:off x="1511280" y="873720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65" name="Straight Connector 9"/>
            <p:cNvSpPr/>
            <p:nvPr/>
          </p:nvSpPr>
          <p:spPr>
            <a:xfrm flipH="1">
              <a:off x="1409400" y="440676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Straight Connector 10"/>
            <p:cNvSpPr/>
            <p:nvPr/>
          </p:nvSpPr>
          <p:spPr>
            <a:xfrm flipH="1">
              <a:off x="1396800" y="289548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Straight Connector 11"/>
            <p:cNvSpPr/>
            <p:nvPr/>
          </p:nvSpPr>
          <p:spPr>
            <a:xfrm flipH="1">
              <a:off x="1371240" y="741636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Straight Connector 12"/>
            <p:cNvSpPr/>
            <p:nvPr/>
          </p:nvSpPr>
          <p:spPr>
            <a:xfrm flipH="1">
              <a:off x="1383840" y="891504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Straight Connector 13"/>
            <p:cNvSpPr/>
            <p:nvPr/>
          </p:nvSpPr>
          <p:spPr>
            <a:xfrm>
              <a:off x="300996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Straight Connector 14"/>
            <p:cNvSpPr/>
            <p:nvPr/>
          </p:nvSpPr>
          <p:spPr>
            <a:xfrm>
              <a:off x="450864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Straight Connector 15"/>
            <p:cNvSpPr/>
            <p:nvPr/>
          </p:nvSpPr>
          <p:spPr>
            <a:xfrm>
              <a:off x="-147312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Straight Connector 16"/>
            <p:cNvSpPr/>
            <p:nvPr/>
          </p:nvSpPr>
          <p:spPr>
            <a:xfrm>
              <a:off x="2556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Freeform 17"/>
            <p:cNvSpPr/>
            <p:nvPr/>
          </p:nvSpPr>
          <p:spPr>
            <a:xfrm>
              <a:off x="-2044440" y="2819160"/>
              <a:ext cx="3378240" cy="6489360"/>
            </a:xfrm>
            <a:custGeom>
              <a:avLst/>
              <a:gdLst>
                <a:gd name="textAreaLeft" fmla="*/ 0 w 3378240"/>
                <a:gd name="textAreaRight" fmla="*/ 3378600 w 3378240"/>
                <a:gd name="textAreaTop" fmla="*/ 0 h 6489360"/>
                <a:gd name="textAreaBottom" fmla="*/ 6489720 h 6489360"/>
              </a:gdLst>
              <a:ahLst/>
              <a:rect l="textAreaLeft" t="textAreaTop" r="textAreaRight" b="textAreaBottom"/>
              <a:pathLst>
                <a:path w="3378201" h="6489701">
                  <a:moveTo>
                    <a:pt x="0" y="0"/>
                  </a:moveTo>
                  <a:lnTo>
                    <a:pt x="3378200" y="0"/>
                  </a:lnTo>
                  <a:lnTo>
                    <a:pt x="3378200" y="6489700"/>
                  </a:lnTo>
                  <a:lnTo>
                    <a:pt x="0" y="64897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4" name="Freeform 18"/>
            <p:cNvSpPr/>
            <p:nvPr/>
          </p:nvSpPr>
          <p:spPr>
            <a:xfrm>
              <a:off x="-1015560" y="6197400"/>
              <a:ext cx="7302600" cy="3301560"/>
            </a:xfrm>
            <a:custGeom>
              <a:avLst/>
              <a:gdLst>
                <a:gd name="textAreaLeft" fmla="*/ 0 w 7302600"/>
                <a:gd name="textAreaRight" fmla="*/ 7302960 w 7302600"/>
                <a:gd name="textAreaTop" fmla="*/ 0 h 3301560"/>
                <a:gd name="textAreaBottom" fmla="*/ 3301920 h 3301560"/>
              </a:gdLst>
              <a:ahLst/>
              <a:rect l="textAreaLeft" t="textAreaTop" r="textAreaRight" b="textAreaBottom"/>
              <a:pathLst>
                <a:path w="7302501" h="3302001">
                  <a:moveTo>
                    <a:pt x="0" y="0"/>
                  </a:moveTo>
                  <a:lnTo>
                    <a:pt x="7302500" y="0"/>
                  </a:lnTo>
                  <a:lnTo>
                    <a:pt x="7302500" y="3302000"/>
                  </a:lnTo>
                  <a:lnTo>
                    <a:pt x="0" y="33020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5" name="Freeform 19"/>
            <p:cNvSpPr/>
            <p:nvPr/>
          </p:nvSpPr>
          <p:spPr>
            <a:xfrm>
              <a:off x="1231920" y="6032160"/>
              <a:ext cx="1485720" cy="241200"/>
            </a:xfrm>
            <a:custGeom>
              <a:avLst/>
              <a:gdLst>
                <a:gd name="textAreaLeft" fmla="*/ 0 w 1485720"/>
                <a:gd name="textAreaRight" fmla="*/ 1486080 w 1485720"/>
                <a:gd name="textAreaTop" fmla="*/ 0 h 241200"/>
                <a:gd name="textAreaBottom" fmla="*/ 241560 h 241200"/>
              </a:gdLst>
              <a:ahLst/>
              <a:rect l="textAreaLeft" t="textAreaTop" r="textAreaRight" b="textAreaBottom"/>
              <a:pathLst>
                <a:path w="1485901" h="241301">
                  <a:moveTo>
                    <a:pt x="0" y="0"/>
                  </a:moveTo>
                  <a:lnTo>
                    <a:pt x="1485900" y="0"/>
                  </a:lnTo>
                  <a:lnTo>
                    <a:pt x="1485900" y="241300"/>
                  </a:lnTo>
                  <a:lnTo>
                    <a:pt x="0" y="2413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6" name="TextBox 20"/>
            <p:cNvSpPr/>
            <p:nvPr/>
          </p:nvSpPr>
          <p:spPr>
            <a:xfrm>
              <a:off x="1549440" y="4215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grpSp>
      <p:sp>
        <p:nvSpPr>
          <p:cNvPr id="677" name="TextBox 22"/>
          <p:cNvSpPr/>
          <p:nvPr/>
        </p:nvSpPr>
        <p:spPr>
          <a:xfrm>
            <a:off x="216000" y="114480"/>
            <a:ext cx="96012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Ex 2: Describe a Graph to Solve a Problem</a:t>
            </a:r>
            <a:endParaRPr b="0" lang="en-US" sz="3500" spc="-1" strike="noStrike">
              <a:solidFill>
                <a:srgbClr val="000000"/>
              </a:solidFill>
              <a:latin typeface="Calibri"/>
            </a:endParaRPr>
          </a:p>
        </p:txBody>
      </p:sp>
      <p:sp>
        <p:nvSpPr>
          <p:cNvPr id="678" name="TextBox 23"/>
          <p:cNvSpPr/>
          <p:nvPr/>
        </p:nvSpPr>
        <p:spPr>
          <a:xfrm>
            <a:off x="216000" y="990720"/>
            <a:ext cx="91440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rmand is four years old.  His allowance starts at $2 per week.  Each year he will get a $1 per week increase.  The graph shows what his total allowance will be after the increase each year.</a:t>
            </a:r>
            <a:endParaRPr b="0" lang="en-US" sz="2300" spc="-1" strike="noStrike">
              <a:solidFill>
                <a:srgbClr val="000000"/>
              </a:solidFill>
              <a:latin typeface="Calibri"/>
            </a:endParaRPr>
          </a:p>
        </p:txBody>
      </p:sp>
      <p:sp>
        <p:nvSpPr>
          <p:cNvPr id="679" name="TextBox 24"/>
          <p:cNvSpPr/>
          <p:nvPr/>
        </p:nvSpPr>
        <p:spPr>
          <a:xfrm>
            <a:off x="266760" y="6527880"/>
            <a:ext cx="967752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Continue the pattern.  Make a table of values for the first 6 values of </a:t>
            </a:r>
            <a:r>
              <a:rPr b="0" i="1" lang="en-CA" sz="2300" spc="-1" strike="noStrike">
                <a:solidFill>
                  <a:srgbClr val="0000ff"/>
                </a:solidFill>
                <a:latin typeface="Comic Sans MS - 24"/>
              </a:rPr>
              <a:t>x</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b) Describe the pattern of points on the 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Word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Horizontal/Vertical Distanc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Relationshi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What will Armand's allowance be when he is 15?</a:t>
            </a:r>
            <a:endParaRPr b="0" lang="en-US" sz="2300" spc="-1" strike="noStrike">
              <a:solidFill>
                <a:srgbClr val="000000"/>
              </a:solidFill>
              <a:latin typeface="Calibri"/>
            </a:endParaRPr>
          </a:p>
        </p:txBody>
      </p:sp>
      <p:graphicFrame>
        <p:nvGraphicFramePr>
          <p:cNvPr id="680" name=""/>
          <p:cNvGraphicFramePr/>
          <p:nvPr/>
        </p:nvGraphicFramePr>
        <p:xfrm>
          <a:off x="5943600" y="2629080"/>
          <a:ext cx="3314880" cy="3233520"/>
        </p:xfrm>
        <a:graphic>
          <a:graphicData uri="http://schemas.openxmlformats.org/drawingml/2006/table">
            <a:tbl>
              <a:tblPr/>
              <a:tblGrid>
                <a:gridCol w="1689120"/>
                <a:gridCol w="16257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Age (x)</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otal Allowance (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8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681" name="TextBox 26"/>
          <p:cNvSpPr/>
          <p:nvPr/>
        </p:nvSpPr>
        <p:spPr>
          <a:xfrm>
            <a:off x="2451240" y="6184800"/>
            <a:ext cx="1396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omic Sans MS - 16"/>
              </a:rPr>
              <a:t>Age (years)</a:t>
            </a:r>
            <a:endParaRPr b="0" lang="en-US" sz="1500" spc="-1" strike="noStrike">
              <a:solidFill>
                <a:srgbClr val="000000"/>
              </a:solidFill>
              <a:latin typeface="Calibri"/>
            </a:endParaRPr>
          </a:p>
        </p:txBody>
      </p:sp>
      <p:sp>
        <p:nvSpPr>
          <p:cNvPr id="682" name="TextBox 27"/>
          <p:cNvSpPr/>
          <p:nvPr/>
        </p:nvSpPr>
        <p:spPr>
          <a:xfrm rot="10800000">
            <a:off x="572760" y="2997000"/>
            <a:ext cx="423720" cy="206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Total Allowance ($)</a:t>
            </a:r>
            <a:endParaRPr b="0" lang="en-US" sz="1600" spc="-1" strike="noStrike">
              <a:solidFill>
                <a:srgbClr val="000000"/>
              </a:solidFill>
              <a:latin typeface="Calibri"/>
            </a:endParaRPr>
          </a:p>
        </p:txBody>
      </p:sp>
      <p:grpSp>
        <p:nvGrpSpPr>
          <p:cNvPr id="683" name="Group 30"/>
          <p:cNvGrpSpPr/>
          <p:nvPr/>
        </p:nvGrpSpPr>
        <p:grpSpPr>
          <a:xfrm>
            <a:off x="2701800" y="4991040"/>
            <a:ext cx="320760" cy="336600"/>
            <a:chOff x="2701800" y="4991040"/>
            <a:chExt cx="320760" cy="336600"/>
          </a:xfrm>
        </p:grpSpPr>
        <p:sp>
          <p:nvSpPr>
            <p:cNvPr id="684" name="Freeform 28"/>
            <p:cNvSpPr/>
            <p:nvPr/>
          </p:nvSpPr>
          <p:spPr>
            <a:xfrm>
              <a:off x="2701800" y="5294880"/>
              <a:ext cx="29160" cy="32760"/>
            </a:xfrm>
            <a:custGeom>
              <a:avLst/>
              <a:gdLst>
                <a:gd name="textAreaLeft" fmla="*/ 0 w 29160"/>
                <a:gd name="textAreaRight" fmla="*/ 29520 w 29160"/>
                <a:gd name="textAreaTop" fmla="*/ 0 h 32760"/>
                <a:gd name="textAreaBottom" fmla="*/ 33120 h 32760"/>
              </a:gdLst>
              <a:ahLst/>
              <a:rect l="textAreaLeft" t="textAreaTop" r="textAreaRight" b="textAreaBottom"/>
              <a:pathLst>
                <a:path w="29212" h="33022">
                  <a:moveTo>
                    <a:pt x="16511" y="13971"/>
                  </a:moveTo>
                  <a:lnTo>
                    <a:pt x="22861" y="7621"/>
                  </a:lnTo>
                  <a:lnTo>
                    <a:pt x="22861" y="5080"/>
                  </a:lnTo>
                  <a:lnTo>
                    <a:pt x="19050" y="3811"/>
                  </a:lnTo>
                  <a:lnTo>
                    <a:pt x="13971" y="2541"/>
                  </a:lnTo>
                  <a:lnTo>
                    <a:pt x="11431" y="5080"/>
                  </a:lnTo>
                  <a:lnTo>
                    <a:pt x="12700" y="10161"/>
                  </a:lnTo>
                  <a:lnTo>
                    <a:pt x="13971" y="15241"/>
                  </a:lnTo>
                  <a:lnTo>
                    <a:pt x="16511" y="17780"/>
                  </a:lnTo>
                  <a:lnTo>
                    <a:pt x="19050" y="17780"/>
                  </a:lnTo>
                  <a:lnTo>
                    <a:pt x="22861" y="16511"/>
                  </a:lnTo>
                  <a:lnTo>
                    <a:pt x="22861" y="12700"/>
                  </a:lnTo>
                  <a:lnTo>
                    <a:pt x="22861" y="7621"/>
                  </a:lnTo>
                  <a:lnTo>
                    <a:pt x="20321" y="1271"/>
                  </a:lnTo>
                  <a:lnTo>
                    <a:pt x="19050" y="0"/>
                  </a:lnTo>
                  <a:lnTo>
                    <a:pt x="17781" y="1271"/>
                  </a:lnTo>
                  <a:lnTo>
                    <a:pt x="17781" y="6350"/>
                  </a:lnTo>
                  <a:lnTo>
                    <a:pt x="13971" y="8891"/>
                  </a:lnTo>
                  <a:lnTo>
                    <a:pt x="8890" y="10161"/>
                  </a:lnTo>
                  <a:lnTo>
                    <a:pt x="3811" y="11430"/>
                  </a:lnTo>
                  <a:lnTo>
                    <a:pt x="1271" y="13971"/>
                  </a:lnTo>
                  <a:lnTo>
                    <a:pt x="0" y="16511"/>
                  </a:lnTo>
                  <a:lnTo>
                    <a:pt x="1271" y="20321"/>
                  </a:lnTo>
                  <a:lnTo>
                    <a:pt x="3811" y="24130"/>
                  </a:lnTo>
                  <a:lnTo>
                    <a:pt x="6350" y="27941"/>
                  </a:lnTo>
                  <a:lnTo>
                    <a:pt x="10161" y="31750"/>
                  </a:lnTo>
                  <a:lnTo>
                    <a:pt x="13971" y="-32515"/>
                  </a:lnTo>
                  <a:lnTo>
                    <a:pt x="17781" y="31750"/>
                  </a:lnTo>
                  <a:lnTo>
                    <a:pt x="29211" y="26671"/>
                  </a:lnTo>
                </a:path>
              </a:pathLst>
            </a:custGeom>
            <a:noFill/>
            <a:ln w="38160">
              <a:solidFill>
                <a:srgbClr val="ff0000"/>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685" name="Freeform 29"/>
            <p:cNvSpPr/>
            <p:nvPr/>
          </p:nvSpPr>
          <p:spPr>
            <a:xfrm>
              <a:off x="3009960" y="499104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12701" h="31751">
                  <a:moveTo>
                    <a:pt x="0" y="0"/>
                  </a:moveTo>
                  <a:lnTo>
                    <a:pt x="6350" y="6350"/>
                  </a:lnTo>
                  <a:lnTo>
                    <a:pt x="7620" y="10159"/>
                  </a:lnTo>
                  <a:lnTo>
                    <a:pt x="6350" y="13970"/>
                  </a:lnTo>
                  <a:lnTo>
                    <a:pt x="3810" y="17779"/>
                  </a:lnTo>
                  <a:lnTo>
                    <a:pt x="2539" y="21590"/>
                  </a:lnTo>
                  <a:lnTo>
                    <a:pt x="1270" y="25400"/>
                  </a:lnTo>
                  <a:lnTo>
                    <a:pt x="1270" y="30479"/>
                  </a:lnTo>
                  <a:lnTo>
                    <a:pt x="2539" y="31750"/>
                  </a:lnTo>
                  <a:lnTo>
                    <a:pt x="3810" y="30479"/>
                  </a:lnTo>
                  <a:lnTo>
                    <a:pt x="7620" y="29209"/>
                  </a:lnTo>
                  <a:lnTo>
                    <a:pt x="8889" y="25400"/>
                  </a:lnTo>
                  <a:lnTo>
                    <a:pt x="10160" y="19050"/>
                  </a:lnTo>
                  <a:lnTo>
                    <a:pt x="12700" y="0"/>
                  </a:lnTo>
                </a:path>
              </a:pathLst>
            </a:custGeom>
            <a:noFill/>
            <a:ln w="38160">
              <a:solidFill>
                <a:srgbClr val="ff0000"/>
              </a:solidFill>
              <a:round/>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Calibri"/>
              </a:endParaRPr>
            </a:p>
          </p:txBody>
        </p:sp>
      </p:grpSp>
      <p:sp>
        <p:nvSpPr>
          <p:cNvPr id="686" name="Freeform 31"/>
          <p:cNvSpPr/>
          <p:nvPr/>
        </p:nvSpPr>
        <p:spPr>
          <a:xfrm>
            <a:off x="3619440" y="4381560"/>
            <a:ext cx="12600" cy="22320"/>
          </a:xfrm>
          <a:custGeom>
            <a:avLst/>
            <a:gdLst>
              <a:gd name="textAreaLeft" fmla="*/ 0 w 12600"/>
              <a:gd name="textAreaRight" fmla="*/ 12960 w 12600"/>
              <a:gd name="textAreaTop" fmla="*/ 0 h 22320"/>
              <a:gd name="textAreaBottom" fmla="*/ 22320 h 22320"/>
            </a:gdLst>
            <a:ahLst/>
            <a:rect l="textAreaLeft" t="textAreaTop" r="textAreaRight" b="textAreaBottom"/>
            <a:pathLst>
              <a:path w="12701" h="21591">
                <a:moveTo>
                  <a:pt x="0" y="0"/>
                </a:moveTo>
                <a:lnTo>
                  <a:pt x="0" y="13970"/>
                </a:lnTo>
                <a:lnTo>
                  <a:pt x="1270" y="17779"/>
                </a:lnTo>
                <a:lnTo>
                  <a:pt x="3809" y="20320"/>
                </a:lnTo>
                <a:lnTo>
                  <a:pt x="6350" y="21590"/>
                </a:lnTo>
                <a:lnTo>
                  <a:pt x="8890" y="21590"/>
                </a:lnTo>
                <a:lnTo>
                  <a:pt x="10159" y="20320"/>
                </a:lnTo>
                <a:lnTo>
                  <a:pt x="12700" y="0"/>
                </a:lnTo>
              </a:path>
            </a:pathLst>
          </a:custGeom>
          <a:noFill/>
          <a:ln w="38160">
            <a:solidFill>
              <a:srgbClr val="ff0000"/>
            </a:solidFill>
            <a:roun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87" name="Freeform 32"/>
          <p:cNvSpPr/>
          <p:nvPr/>
        </p:nvSpPr>
        <p:spPr>
          <a:xfrm>
            <a:off x="3314880" y="4699080"/>
            <a:ext cx="15840" cy="38160"/>
          </a:xfrm>
          <a:custGeom>
            <a:avLst/>
            <a:gdLst>
              <a:gd name="textAreaLeft" fmla="*/ 0 w 15840"/>
              <a:gd name="textAreaRight" fmla="*/ 16200 w 15840"/>
              <a:gd name="textAreaTop" fmla="*/ 0 h 38160"/>
              <a:gd name="textAreaBottom" fmla="*/ 38520 h 38160"/>
            </a:gdLst>
            <a:ahLst/>
            <a:rect l="textAreaLeft" t="textAreaTop" r="textAreaRight" b="textAreaBottom"/>
            <a:pathLst>
              <a:path w="15241" h="38101">
                <a:moveTo>
                  <a:pt x="0" y="0"/>
                </a:moveTo>
                <a:lnTo>
                  <a:pt x="13970" y="6350"/>
                </a:lnTo>
                <a:lnTo>
                  <a:pt x="15240" y="8890"/>
                </a:lnTo>
                <a:lnTo>
                  <a:pt x="12700" y="10159"/>
                </a:lnTo>
                <a:lnTo>
                  <a:pt x="8890" y="11429"/>
                </a:lnTo>
                <a:lnTo>
                  <a:pt x="7620" y="12700"/>
                </a:lnTo>
                <a:lnTo>
                  <a:pt x="7620" y="15240"/>
                </a:lnTo>
                <a:lnTo>
                  <a:pt x="12700" y="-27436"/>
                </a:lnTo>
              </a:path>
            </a:pathLst>
          </a:custGeom>
          <a:noFill/>
          <a:ln w="38160">
            <a:solidFill>
              <a:srgbClr val="ff0000"/>
            </a:solidFill>
            <a:round/>
          </a:ln>
        </p:spPr>
        <p:style>
          <a:lnRef idx="0"/>
          <a:fillRef idx="0"/>
          <a:effectRef idx="0"/>
          <a:fontRef idx="minor"/>
        </p:style>
        <p:txBody>
          <a:bodyPr lIns="90000" rIns="90000" tIns="-8280" bIns="-8280" anchor="ctr">
            <a:noAutofit/>
          </a:bodyPr>
          <a:p>
            <a:endParaRPr b="0" lang="en-US" sz="1800" spc="-1" strike="noStrike">
              <a:solidFill>
                <a:srgbClr val="000000"/>
              </a:solidFill>
              <a:latin typeface="Calibri"/>
            </a:endParaRPr>
          </a:p>
        </p:txBody>
      </p:sp>
      <p:grpSp>
        <p:nvGrpSpPr>
          <p:cNvPr id="688" name="Group 36"/>
          <p:cNvGrpSpPr/>
          <p:nvPr/>
        </p:nvGrpSpPr>
        <p:grpSpPr>
          <a:xfrm>
            <a:off x="2660760" y="4673520"/>
            <a:ext cx="707760" cy="665280"/>
            <a:chOff x="2660760" y="4673520"/>
            <a:chExt cx="707760" cy="665280"/>
          </a:xfrm>
        </p:grpSpPr>
        <p:sp>
          <p:nvSpPr>
            <p:cNvPr id="689" name="Freeform 33"/>
            <p:cNvSpPr/>
            <p:nvPr/>
          </p:nvSpPr>
          <p:spPr>
            <a:xfrm>
              <a:off x="2660760" y="5270400"/>
              <a:ext cx="92520" cy="68400"/>
            </a:xfrm>
            <a:custGeom>
              <a:avLst/>
              <a:gdLst>
                <a:gd name="textAreaLeft" fmla="*/ 0 w 92520"/>
                <a:gd name="textAreaRight" fmla="*/ 92880 w 92520"/>
                <a:gd name="textAreaTop" fmla="*/ 0 h 68400"/>
                <a:gd name="textAreaBottom" fmla="*/ 68760 h 68400"/>
              </a:gdLst>
              <a:ahLst/>
              <a:rect l="textAreaLeft" t="textAreaTop" r="textAreaRight" b="textAreaBottom"/>
              <a:pathLst>
                <a:path w="92711" h="68580">
                  <a:moveTo>
                    <a:pt x="31750" y="0"/>
                  </a:moveTo>
                  <a:lnTo>
                    <a:pt x="17779" y="13970"/>
                  </a:lnTo>
                  <a:lnTo>
                    <a:pt x="13970" y="20320"/>
                  </a:lnTo>
                  <a:lnTo>
                    <a:pt x="11429" y="27940"/>
                  </a:lnTo>
                  <a:lnTo>
                    <a:pt x="10160" y="35559"/>
                  </a:lnTo>
                  <a:lnTo>
                    <a:pt x="7620" y="41909"/>
                  </a:lnTo>
                  <a:lnTo>
                    <a:pt x="3810" y="48259"/>
                  </a:lnTo>
                  <a:lnTo>
                    <a:pt x="1270" y="53340"/>
                  </a:lnTo>
                  <a:lnTo>
                    <a:pt x="0" y="58420"/>
                  </a:lnTo>
                  <a:lnTo>
                    <a:pt x="0" y="62229"/>
                  </a:lnTo>
                  <a:lnTo>
                    <a:pt x="2539" y="67309"/>
                  </a:lnTo>
                  <a:lnTo>
                    <a:pt x="6350" y="68579"/>
                  </a:lnTo>
                  <a:lnTo>
                    <a:pt x="12700" y="68579"/>
                  </a:lnTo>
                  <a:lnTo>
                    <a:pt x="19050" y="67309"/>
                  </a:lnTo>
                  <a:lnTo>
                    <a:pt x="22860" y="64770"/>
                  </a:lnTo>
                  <a:lnTo>
                    <a:pt x="25400" y="60959"/>
                  </a:lnTo>
                  <a:lnTo>
                    <a:pt x="27939" y="57150"/>
                  </a:lnTo>
                  <a:lnTo>
                    <a:pt x="30479" y="54609"/>
                  </a:lnTo>
                  <a:lnTo>
                    <a:pt x="34289" y="49529"/>
                  </a:lnTo>
                  <a:lnTo>
                    <a:pt x="36829" y="45720"/>
                  </a:lnTo>
                  <a:lnTo>
                    <a:pt x="44450" y="38100"/>
                  </a:lnTo>
                  <a:lnTo>
                    <a:pt x="49529" y="34290"/>
                  </a:lnTo>
                  <a:lnTo>
                    <a:pt x="49529" y="30479"/>
                  </a:lnTo>
                  <a:lnTo>
                    <a:pt x="45720" y="29209"/>
                  </a:lnTo>
                  <a:lnTo>
                    <a:pt x="41910" y="27940"/>
                  </a:lnTo>
                  <a:lnTo>
                    <a:pt x="38100" y="30479"/>
                  </a:lnTo>
                  <a:lnTo>
                    <a:pt x="35560" y="34290"/>
                  </a:lnTo>
                  <a:lnTo>
                    <a:pt x="34289" y="39370"/>
                  </a:lnTo>
                  <a:lnTo>
                    <a:pt x="33020" y="44450"/>
                  </a:lnTo>
                  <a:lnTo>
                    <a:pt x="33020" y="49529"/>
                  </a:lnTo>
                  <a:lnTo>
                    <a:pt x="33020" y="54609"/>
                  </a:lnTo>
                  <a:lnTo>
                    <a:pt x="35560" y="57150"/>
                  </a:lnTo>
                  <a:lnTo>
                    <a:pt x="39370" y="59690"/>
                  </a:lnTo>
                  <a:lnTo>
                    <a:pt x="45720" y="60959"/>
                  </a:lnTo>
                  <a:lnTo>
                    <a:pt x="52070" y="59690"/>
                  </a:lnTo>
                  <a:lnTo>
                    <a:pt x="59689" y="58420"/>
                  </a:lnTo>
                  <a:lnTo>
                    <a:pt x="67310" y="55879"/>
                  </a:lnTo>
                  <a:lnTo>
                    <a:pt x="73660" y="50800"/>
                  </a:lnTo>
                  <a:lnTo>
                    <a:pt x="80010" y="45720"/>
                  </a:lnTo>
                  <a:lnTo>
                    <a:pt x="85089" y="39370"/>
                  </a:lnTo>
                  <a:lnTo>
                    <a:pt x="87629" y="31750"/>
                  </a:lnTo>
                  <a:lnTo>
                    <a:pt x="90170" y="24129"/>
                  </a:lnTo>
                  <a:lnTo>
                    <a:pt x="92710" y="16509"/>
                  </a:lnTo>
                  <a:lnTo>
                    <a:pt x="90170" y="10159"/>
                  </a:lnTo>
                  <a:lnTo>
                    <a:pt x="86360" y="7620"/>
                  </a:lnTo>
                  <a:lnTo>
                    <a:pt x="57150" y="0"/>
                  </a:lnTo>
                </a:path>
              </a:pathLst>
            </a:custGeom>
            <a:noFill/>
            <a:ln w="38160">
              <a:solidFill>
                <a:srgbClr val="ff0000"/>
              </a:solidFill>
              <a:roun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Calibri"/>
              </a:endParaRPr>
            </a:p>
          </p:txBody>
        </p:sp>
        <p:sp>
          <p:nvSpPr>
            <p:cNvPr id="690" name="Freeform 34"/>
            <p:cNvSpPr/>
            <p:nvPr/>
          </p:nvSpPr>
          <p:spPr>
            <a:xfrm>
              <a:off x="2990520" y="4952880"/>
              <a:ext cx="64440" cy="105120"/>
            </a:xfrm>
            <a:custGeom>
              <a:avLst/>
              <a:gdLst>
                <a:gd name="textAreaLeft" fmla="*/ 0 w 64440"/>
                <a:gd name="textAreaRight" fmla="*/ 64800 w 64440"/>
                <a:gd name="textAreaTop" fmla="*/ 0 h 105120"/>
                <a:gd name="textAreaBottom" fmla="*/ 105480 h 105120"/>
              </a:gdLst>
              <a:ahLst/>
              <a:rect l="textAreaLeft" t="textAreaTop" r="textAreaRight" b="textAreaBottom"/>
              <a:pathLst>
                <a:path w="64771" h="105410">
                  <a:moveTo>
                    <a:pt x="44450" y="0"/>
                  </a:moveTo>
                  <a:lnTo>
                    <a:pt x="38100" y="6350"/>
                  </a:lnTo>
                  <a:lnTo>
                    <a:pt x="34289" y="11429"/>
                  </a:lnTo>
                  <a:lnTo>
                    <a:pt x="30479" y="17779"/>
                  </a:lnTo>
                  <a:lnTo>
                    <a:pt x="26670" y="24129"/>
                  </a:lnTo>
                  <a:lnTo>
                    <a:pt x="24129" y="30479"/>
                  </a:lnTo>
                  <a:lnTo>
                    <a:pt x="22860" y="35559"/>
                  </a:lnTo>
                  <a:lnTo>
                    <a:pt x="21589" y="40640"/>
                  </a:lnTo>
                  <a:lnTo>
                    <a:pt x="19050" y="46990"/>
                  </a:lnTo>
                  <a:lnTo>
                    <a:pt x="16510" y="53340"/>
                  </a:lnTo>
                  <a:lnTo>
                    <a:pt x="12700" y="60959"/>
                  </a:lnTo>
                  <a:lnTo>
                    <a:pt x="5079" y="77470"/>
                  </a:lnTo>
                  <a:lnTo>
                    <a:pt x="1270" y="85090"/>
                  </a:lnTo>
                  <a:lnTo>
                    <a:pt x="0" y="92709"/>
                  </a:lnTo>
                  <a:lnTo>
                    <a:pt x="1270" y="97790"/>
                  </a:lnTo>
                  <a:lnTo>
                    <a:pt x="2539" y="102870"/>
                  </a:lnTo>
                  <a:lnTo>
                    <a:pt x="5079" y="105409"/>
                  </a:lnTo>
                  <a:lnTo>
                    <a:pt x="8889" y="105409"/>
                  </a:lnTo>
                  <a:lnTo>
                    <a:pt x="11429" y="104140"/>
                  </a:lnTo>
                  <a:lnTo>
                    <a:pt x="15239" y="100329"/>
                  </a:lnTo>
                  <a:lnTo>
                    <a:pt x="20320" y="95250"/>
                  </a:lnTo>
                  <a:lnTo>
                    <a:pt x="24129" y="88900"/>
                  </a:lnTo>
                  <a:lnTo>
                    <a:pt x="27939" y="81279"/>
                  </a:lnTo>
                  <a:lnTo>
                    <a:pt x="35560" y="66040"/>
                  </a:lnTo>
                  <a:lnTo>
                    <a:pt x="39370" y="58420"/>
                  </a:lnTo>
                  <a:lnTo>
                    <a:pt x="40639" y="50800"/>
                  </a:lnTo>
                  <a:lnTo>
                    <a:pt x="41910" y="41909"/>
                  </a:lnTo>
                  <a:lnTo>
                    <a:pt x="39370" y="36829"/>
                  </a:lnTo>
                  <a:lnTo>
                    <a:pt x="35560" y="33020"/>
                  </a:lnTo>
                  <a:lnTo>
                    <a:pt x="30479" y="30479"/>
                  </a:lnTo>
                  <a:lnTo>
                    <a:pt x="25400" y="31750"/>
                  </a:lnTo>
                  <a:lnTo>
                    <a:pt x="20320" y="35559"/>
                  </a:lnTo>
                  <a:lnTo>
                    <a:pt x="15239" y="40640"/>
                  </a:lnTo>
                  <a:lnTo>
                    <a:pt x="13970" y="44450"/>
                  </a:lnTo>
                  <a:lnTo>
                    <a:pt x="13970" y="45720"/>
                  </a:lnTo>
                  <a:lnTo>
                    <a:pt x="15239" y="48259"/>
                  </a:lnTo>
                  <a:lnTo>
                    <a:pt x="20320" y="48259"/>
                  </a:lnTo>
                  <a:lnTo>
                    <a:pt x="25400" y="49529"/>
                  </a:lnTo>
                  <a:lnTo>
                    <a:pt x="31750" y="49529"/>
                  </a:lnTo>
                  <a:lnTo>
                    <a:pt x="38100" y="46990"/>
                  </a:lnTo>
                  <a:lnTo>
                    <a:pt x="45720" y="43179"/>
                  </a:lnTo>
                  <a:lnTo>
                    <a:pt x="54610" y="36829"/>
                  </a:lnTo>
                  <a:lnTo>
                    <a:pt x="59689" y="30479"/>
                  </a:lnTo>
                  <a:lnTo>
                    <a:pt x="62229" y="22859"/>
                  </a:lnTo>
                  <a:lnTo>
                    <a:pt x="64770" y="15240"/>
                  </a:lnTo>
                  <a:lnTo>
                    <a:pt x="63500" y="10159"/>
                  </a:lnTo>
                  <a:lnTo>
                    <a:pt x="59689" y="6350"/>
                  </a:lnTo>
                  <a:lnTo>
                    <a:pt x="54610" y="5079"/>
                  </a:lnTo>
                  <a:lnTo>
                    <a:pt x="48260" y="2540"/>
                  </a:lnTo>
                  <a:lnTo>
                    <a:pt x="41910" y="2540"/>
                  </a:lnTo>
                  <a:lnTo>
                    <a:pt x="6350" y="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Freeform 35"/>
            <p:cNvSpPr/>
            <p:nvPr/>
          </p:nvSpPr>
          <p:spPr>
            <a:xfrm>
              <a:off x="3296520" y="4673520"/>
              <a:ext cx="72000" cy="67320"/>
            </a:xfrm>
            <a:custGeom>
              <a:avLst/>
              <a:gdLst>
                <a:gd name="textAreaLeft" fmla="*/ 0 w 72000"/>
                <a:gd name="textAreaRight" fmla="*/ 72360 w 72000"/>
                <a:gd name="textAreaTop" fmla="*/ 0 h 67320"/>
                <a:gd name="textAreaBottom" fmla="*/ 67680 h 67320"/>
              </a:gdLst>
              <a:ahLst/>
              <a:rect l="textAreaLeft" t="textAreaTop" r="textAreaRight" b="textAreaBottom"/>
              <a:pathLst>
                <a:path w="72390" h="67310">
                  <a:moveTo>
                    <a:pt x="43180" y="0"/>
                  </a:moveTo>
                  <a:lnTo>
                    <a:pt x="36830" y="6350"/>
                  </a:lnTo>
                  <a:lnTo>
                    <a:pt x="31750" y="10159"/>
                  </a:lnTo>
                  <a:lnTo>
                    <a:pt x="25400" y="13970"/>
                  </a:lnTo>
                  <a:lnTo>
                    <a:pt x="19050" y="17779"/>
                  </a:lnTo>
                  <a:lnTo>
                    <a:pt x="13970" y="21590"/>
                  </a:lnTo>
                  <a:lnTo>
                    <a:pt x="11430" y="25400"/>
                  </a:lnTo>
                  <a:lnTo>
                    <a:pt x="0" y="49529"/>
                  </a:lnTo>
                  <a:lnTo>
                    <a:pt x="0" y="53340"/>
                  </a:lnTo>
                  <a:lnTo>
                    <a:pt x="2539" y="57150"/>
                  </a:lnTo>
                  <a:lnTo>
                    <a:pt x="7620" y="59690"/>
                  </a:lnTo>
                  <a:lnTo>
                    <a:pt x="12700" y="60959"/>
                  </a:lnTo>
                  <a:lnTo>
                    <a:pt x="17780" y="62229"/>
                  </a:lnTo>
                  <a:lnTo>
                    <a:pt x="21589" y="62229"/>
                  </a:lnTo>
                  <a:lnTo>
                    <a:pt x="27939" y="60959"/>
                  </a:lnTo>
                  <a:lnTo>
                    <a:pt x="34289" y="59690"/>
                  </a:lnTo>
                  <a:lnTo>
                    <a:pt x="41909" y="55879"/>
                  </a:lnTo>
                  <a:lnTo>
                    <a:pt x="46989" y="53340"/>
                  </a:lnTo>
                  <a:lnTo>
                    <a:pt x="53339" y="49529"/>
                  </a:lnTo>
                  <a:lnTo>
                    <a:pt x="58420" y="45720"/>
                  </a:lnTo>
                  <a:lnTo>
                    <a:pt x="63500" y="40640"/>
                  </a:lnTo>
                  <a:lnTo>
                    <a:pt x="67309" y="34290"/>
                  </a:lnTo>
                  <a:lnTo>
                    <a:pt x="72389" y="26670"/>
                  </a:lnTo>
                  <a:lnTo>
                    <a:pt x="72389" y="21590"/>
                  </a:lnTo>
                  <a:lnTo>
                    <a:pt x="69850" y="19050"/>
                  </a:lnTo>
                  <a:lnTo>
                    <a:pt x="64770" y="16509"/>
                  </a:lnTo>
                  <a:lnTo>
                    <a:pt x="59689" y="17779"/>
                  </a:lnTo>
                  <a:lnTo>
                    <a:pt x="52070" y="21590"/>
                  </a:lnTo>
                  <a:lnTo>
                    <a:pt x="45720" y="27940"/>
                  </a:lnTo>
                  <a:lnTo>
                    <a:pt x="40639" y="34290"/>
                  </a:lnTo>
                  <a:lnTo>
                    <a:pt x="36830" y="40640"/>
                  </a:lnTo>
                  <a:lnTo>
                    <a:pt x="34289" y="48259"/>
                  </a:lnTo>
                  <a:lnTo>
                    <a:pt x="33020" y="54609"/>
                  </a:lnTo>
                  <a:lnTo>
                    <a:pt x="33020" y="60959"/>
                  </a:lnTo>
                  <a:lnTo>
                    <a:pt x="31750" y="66040"/>
                  </a:lnTo>
                  <a:lnTo>
                    <a:pt x="33020" y="67309"/>
                  </a:lnTo>
                  <a:lnTo>
                    <a:pt x="34289" y="67309"/>
                  </a:lnTo>
                  <a:lnTo>
                    <a:pt x="38100" y="66040"/>
                  </a:lnTo>
                  <a:lnTo>
                    <a:pt x="40639" y="62229"/>
                  </a:lnTo>
                  <a:lnTo>
                    <a:pt x="44450" y="57150"/>
                  </a:lnTo>
                  <a:lnTo>
                    <a:pt x="68580" y="38100"/>
                  </a:lnTo>
                </a:path>
              </a:pathLst>
            </a:custGeom>
            <a:noFill/>
            <a:ln w="38160">
              <a:solidFill>
                <a:srgbClr val="ff0000"/>
              </a:solidFill>
              <a:round/>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Calibri"/>
              </a:endParaRPr>
            </a:p>
          </p:txBody>
        </p:sp>
      </p:grpSp>
      <p:sp>
        <p:nvSpPr>
          <p:cNvPr id="692" name="Freeform 37"/>
          <p:cNvSpPr/>
          <p:nvPr/>
        </p:nvSpPr>
        <p:spPr>
          <a:xfrm>
            <a:off x="3594240" y="436896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41910" h="55880">
                <a:moveTo>
                  <a:pt x="25400" y="0"/>
                </a:moveTo>
                <a:lnTo>
                  <a:pt x="11429" y="6350"/>
                </a:lnTo>
                <a:lnTo>
                  <a:pt x="7620" y="10159"/>
                </a:lnTo>
                <a:lnTo>
                  <a:pt x="5079" y="13970"/>
                </a:lnTo>
                <a:lnTo>
                  <a:pt x="3809" y="17779"/>
                </a:lnTo>
                <a:lnTo>
                  <a:pt x="2540" y="22859"/>
                </a:lnTo>
                <a:lnTo>
                  <a:pt x="1270" y="29209"/>
                </a:lnTo>
                <a:lnTo>
                  <a:pt x="1270" y="-28707"/>
                </a:lnTo>
                <a:lnTo>
                  <a:pt x="2540" y="-22357"/>
                </a:lnTo>
                <a:lnTo>
                  <a:pt x="3809" y="-17277"/>
                </a:lnTo>
                <a:lnTo>
                  <a:pt x="7620" y="-12196"/>
                </a:lnTo>
                <a:lnTo>
                  <a:pt x="10159" y="-9657"/>
                </a:lnTo>
                <a:lnTo>
                  <a:pt x="13970" y="-10927"/>
                </a:lnTo>
                <a:lnTo>
                  <a:pt x="17779" y="-12196"/>
                </a:lnTo>
                <a:lnTo>
                  <a:pt x="21590" y="-14736"/>
                </a:lnTo>
                <a:lnTo>
                  <a:pt x="25400" y="-17277"/>
                </a:lnTo>
                <a:lnTo>
                  <a:pt x="30479" y="-21086"/>
                </a:lnTo>
                <a:lnTo>
                  <a:pt x="-31246" y="-24896"/>
                </a:lnTo>
                <a:lnTo>
                  <a:pt x="-23627" y="-32516"/>
                </a:lnTo>
                <a:lnTo>
                  <a:pt x="-23627" y="29209"/>
                </a:lnTo>
                <a:lnTo>
                  <a:pt x="-26166" y="25400"/>
                </a:lnTo>
                <a:lnTo>
                  <a:pt x="-31246" y="21590"/>
                </a:lnTo>
                <a:lnTo>
                  <a:pt x="31750" y="19050"/>
                </a:lnTo>
                <a:lnTo>
                  <a:pt x="29209" y="20320"/>
                </a:lnTo>
                <a:lnTo>
                  <a:pt x="27940" y="21590"/>
                </a:lnTo>
                <a:lnTo>
                  <a:pt x="26670" y="25400"/>
                </a:lnTo>
                <a:lnTo>
                  <a:pt x="26670" y="31750"/>
                </a:lnTo>
                <a:lnTo>
                  <a:pt x="26670" y="-27436"/>
                </a:lnTo>
                <a:lnTo>
                  <a:pt x="27940" y="-26166"/>
                </a:lnTo>
                <a:lnTo>
                  <a:pt x="29209" y="-27436"/>
                </a:lnTo>
                <a:lnTo>
                  <a:pt x="-32516" y="-32516"/>
                </a:lnTo>
                <a:lnTo>
                  <a:pt x="-32516" y="29209"/>
                </a:lnTo>
                <a:lnTo>
                  <a:pt x="31750" y="25400"/>
                </a:lnTo>
                <a:lnTo>
                  <a:pt x="29209" y="21590"/>
                </a:lnTo>
                <a:lnTo>
                  <a:pt x="25400" y="17779"/>
                </a:lnTo>
                <a:lnTo>
                  <a:pt x="20320" y="16509"/>
                </a:lnTo>
                <a:lnTo>
                  <a:pt x="0" y="12700"/>
                </a:lnTo>
              </a:path>
            </a:pathLst>
          </a:custGeom>
          <a:noFill/>
          <a:ln w="38160">
            <a:solidFill>
              <a:srgbClr val="ff0000"/>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Calibri"/>
            </a:endParaRPr>
          </a:p>
        </p:txBody>
      </p:sp>
      <p:sp>
        <p:nvSpPr>
          <p:cNvPr id="693" name="TextBox 38"/>
          <p:cNvSpPr/>
          <p:nvPr/>
        </p:nvSpPr>
        <p:spPr>
          <a:xfrm>
            <a:off x="2006640" y="8344080"/>
            <a:ext cx="795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attern of points forms a straight line, starting at (4, 2).  The y-coordinate is 2 fewer than the x-coordinate.</a:t>
            </a:r>
            <a:endParaRPr b="0" lang="en-US" sz="2000" spc="-1" strike="noStrike">
              <a:solidFill>
                <a:srgbClr val="000000"/>
              </a:solidFill>
              <a:latin typeface="Calibri"/>
            </a:endParaRPr>
          </a:p>
        </p:txBody>
      </p:sp>
      <p:sp>
        <p:nvSpPr>
          <p:cNvPr id="694" name="TextBox 39"/>
          <p:cNvSpPr/>
          <p:nvPr/>
        </p:nvSpPr>
        <p:spPr>
          <a:xfrm>
            <a:off x="812880" y="9588600"/>
            <a:ext cx="9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oints increase by 1 unit to the right, then 1 unit up, starting at (4, 2).</a:t>
            </a:r>
            <a:endParaRPr b="0" lang="en-US" sz="2000" spc="-1" strike="noStrike">
              <a:solidFill>
                <a:srgbClr val="000000"/>
              </a:solidFill>
              <a:latin typeface="Calibri"/>
            </a:endParaRPr>
          </a:p>
        </p:txBody>
      </p:sp>
      <p:sp>
        <p:nvSpPr>
          <p:cNvPr id="695" name="TextBox 40"/>
          <p:cNvSpPr/>
          <p:nvPr/>
        </p:nvSpPr>
        <p:spPr>
          <a:xfrm>
            <a:off x="927000" y="1041408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number of years is </a:t>
            </a:r>
            <a:r>
              <a:rPr b="0" i="1" lang="en-CA" sz="2000" spc="-1" strike="noStrike">
                <a:solidFill>
                  <a:srgbClr val="ff0000"/>
                </a:solidFill>
                <a:latin typeface="Comic Sans MS - 20"/>
              </a:rPr>
              <a:t>x</a:t>
            </a:r>
            <a:r>
              <a:rPr b="0" lang="en-CA" sz="2000" spc="-1" strike="noStrike">
                <a:solidFill>
                  <a:srgbClr val="ff0000"/>
                </a:solidFill>
                <a:latin typeface="Comic Sans MS - 20"/>
              </a:rPr>
              <a:t>.  The total allowance is </a:t>
            </a:r>
            <a:r>
              <a:rPr b="0" i="1" lang="en-CA" sz="2000" spc="-1" strike="noStrike">
                <a:solidFill>
                  <a:srgbClr val="ff0000"/>
                </a:solidFill>
                <a:latin typeface="Comic Sans MS - 20"/>
              </a:rPr>
              <a:t>y</a:t>
            </a:r>
            <a:r>
              <a:rPr b="0" lang="en-CA" sz="2000" spc="-1" strike="noStrike">
                <a:solidFill>
                  <a:srgbClr val="ff0000"/>
                </a:solidFill>
                <a:latin typeface="Comic Sans MS - 20"/>
              </a:rPr>
              <a:t>.  The coordinates of the points are (</a:t>
            </a:r>
            <a:r>
              <a:rPr b="0" i="1" lang="en-CA" sz="2000" spc="-1" strike="noStrike">
                <a:solidFill>
                  <a:srgbClr val="ff0000"/>
                </a:solidFill>
                <a:latin typeface="Comic Sans MS - 20"/>
              </a:rPr>
              <a:t>x</a:t>
            </a:r>
            <a:r>
              <a:rPr b="0" lang="en-CA" sz="2000" spc="-1" strike="noStrike">
                <a:solidFill>
                  <a:srgbClr val="ff0000"/>
                </a:solidFill>
                <a:latin typeface="Comic Sans MS - 20"/>
              </a:rPr>
              <a:t>, </a:t>
            </a:r>
            <a:r>
              <a:rPr b="0" i="1" lang="en-CA" sz="2000" spc="-1" strike="noStrike">
                <a:solidFill>
                  <a:srgbClr val="ff0000"/>
                </a:solidFill>
                <a:latin typeface="Comic Sans MS - 20"/>
              </a:rPr>
              <a:t>y</a:t>
            </a:r>
            <a:r>
              <a:rPr b="0" lang="en-CA" sz="2000" spc="-1" strike="noStrike">
                <a:solidFill>
                  <a:srgbClr val="ff0000"/>
                </a:solidFill>
                <a:latin typeface="Comic Sans MS - 20"/>
              </a:rPr>
              <a:t>).  The relationship is linear and can be expressed as (</a:t>
            </a:r>
            <a:r>
              <a:rPr b="0" i="1" lang="en-CA" sz="2000" spc="-1" strike="noStrike">
                <a:solidFill>
                  <a:srgbClr val="ff0000"/>
                </a:solidFill>
                <a:latin typeface="Comic Sans MS - 20"/>
              </a:rPr>
              <a:t>x</a:t>
            </a:r>
            <a:r>
              <a:rPr b="0" lang="en-CA" sz="2000" spc="-1" strike="noStrike">
                <a:solidFill>
                  <a:srgbClr val="ff0000"/>
                </a:solidFill>
                <a:latin typeface="Comic Sans MS - 20"/>
              </a:rPr>
              <a:t>, </a:t>
            </a:r>
            <a:r>
              <a:rPr b="0" i="1" lang="en-CA" sz="2000" spc="-1" strike="noStrike">
                <a:solidFill>
                  <a:srgbClr val="ff0000"/>
                </a:solidFill>
                <a:latin typeface="Comic Sans MS - 20"/>
              </a:rPr>
              <a:t>x</a:t>
            </a:r>
            <a:r>
              <a:rPr b="0" lang="en-CA" sz="2000" spc="-1" strike="noStrike">
                <a:solidFill>
                  <a:srgbClr val="ff0000"/>
                </a:solidFill>
                <a:latin typeface="Comic Sans MS - 20"/>
              </a:rPr>
              <a:t>-2) or y = </a:t>
            </a:r>
            <a:r>
              <a:rPr b="0" i="1" lang="en-CA" sz="2000" spc="-1" strike="noStrike">
                <a:solidFill>
                  <a:srgbClr val="ff0000"/>
                </a:solidFill>
                <a:latin typeface="Comic Sans MS - 20"/>
              </a:rPr>
              <a:t>x</a:t>
            </a:r>
            <a:r>
              <a:rPr b="0" lang="en-CA" sz="2000" spc="-1" strike="noStrike">
                <a:solidFill>
                  <a:srgbClr val="ff0000"/>
                </a:solidFill>
                <a:latin typeface="Comic Sans MS - 20"/>
              </a:rPr>
              <a:t>-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3"/>
          <p:cNvGrpSpPr/>
          <p:nvPr/>
        </p:nvGrpSpPr>
        <p:grpSpPr>
          <a:xfrm>
            <a:off x="7480440" y="165240"/>
            <a:ext cx="2235240" cy="1663560"/>
            <a:chOff x="7480440" y="165240"/>
            <a:chExt cx="2235240" cy="1663560"/>
          </a:xfrm>
        </p:grpSpPr>
        <p:grpSp>
          <p:nvGrpSpPr>
            <p:cNvPr id="44" name="Group 15"/>
            <p:cNvGrpSpPr/>
            <p:nvPr/>
          </p:nvGrpSpPr>
          <p:grpSpPr>
            <a:xfrm>
              <a:off x="7480440" y="165240"/>
              <a:ext cx="2235240" cy="1117440"/>
              <a:chOff x="7480440" y="165240"/>
              <a:chExt cx="2235240" cy="1117440"/>
            </a:xfrm>
          </p:grpSpPr>
          <p:grpSp>
            <p:nvGrpSpPr>
              <p:cNvPr id="45" name="Group 7"/>
              <p:cNvGrpSpPr/>
              <p:nvPr/>
            </p:nvGrpSpPr>
            <p:grpSpPr>
              <a:xfrm>
                <a:off x="7480440" y="165240"/>
                <a:ext cx="2235240" cy="558720"/>
                <a:chOff x="7480440" y="165240"/>
                <a:chExt cx="2235240" cy="558720"/>
              </a:xfrm>
            </p:grpSpPr>
            <p:grpSp>
              <p:nvGrpSpPr>
                <p:cNvPr id="46" name="Group 3"/>
                <p:cNvGrpSpPr/>
                <p:nvPr/>
              </p:nvGrpSpPr>
              <p:grpSpPr>
                <a:xfrm>
                  <a:off x="7480440" y="165240"/>
                  <a:ext cx="1117800" cy="558720"/>
                  <a:chOff x="7480440" y="165240"/>
                  <a:chExt cx="1117800" cy="558720"/>
                </a:xfrm>
              </p:grpSpPr>
              <p:sp>
                <p:nvSpPr>
                  <p:cNvPr id="47" name="Freeform 1"/>
                  <p:cNvSpPr/>
                  <p:nvPr/>
                </p:nvSpPr>
                <p:spPr>
                  <a:xfrm>
                    <a:off x="748044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 name="Freeform 2"/>
                  <p:cNvSpPr/>
                  <p:nvPr/>
                </p:nvSpPr>
                <p:spPr>
                  <a:xfrm>
                    <a:off x="803916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9" name="Group 6"/>
                <p:cNvGrpSpPr/>
                <p:nvPr/>
              </p:nvGrpSpPr>
              <p:grpSpPr>
                <a:xfrm>
                  <a:off x="8597880" y="165240"/>
                  <a:ext cx="1117800" cy="558720"/>
                  <a:chOff x="8597880" y="165240"/>
                  <a:chExt cx="1117800" cy="558720"/>
                </a:xfrm>
              </p:grpSpPr>
              <p:sp>
                <p:nvSpPr>
                  <p:cNvPr id="50" name="Freeform 4"/>
                  <p:cNvSpPr/>
                  <p:nvPr/>
                </p:nvSpPr>
                <p:spPr>
                  <a:xfrm>
                    <a:off x="859788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Freeform 5"/>
                  <p:cNvSpPr/>
                  <p:nvPr/>
                </p:nvSpPr>
                <p:spPr>
                  <a:xfrm>
                    <a:off x="915660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52" name="Group 14"/>
              <p:cNvGrpSpPr/>
              <p:nvPr/>
            </p:nvGrpSpPr>
            <p:grpSpPr>
              <a:xfrm>
                <a:off x="7480440" y="723960"/>
                <a:ext cx="2235240" cy="558720"/>
                <a:chOff x="7480440" y="723960"/>
                <a:chExt cx="2235240" cy="558720"/>
              </a:xfrm>
            </p:grpSpPr>
            <p:grpSp>
              <p:nvGrpSpPr>
                <p:cNvPr id="53" name="Group 10"/>
                <p:cNvGrpSpPr/>
                <p:nvPr/>
              </p:nvGrpSpPr>
              <p:grpSpPr>
                <a:xfrm>
                  <a:off x="7480440" y="723960"/>
                  <a:ext cx="1117800" cy="558720"/>
                  <a:chOff x="7480440" y="723960"/>
                  <a:chExt cx="1117800" cy="558720"/>
                </a:xfrm>
              </p:grpSpPr>
              <p:sp>
                <p:nvSpPr>
                  <p:cNvPr id="54" name="Freeform 8"/>
                  <p:cNvSpPr/>
                  <p:nvPr/>
                </p:nvSpPr>
                <p:spPr>
                  <a:xfrm>
                    <a:off x="748044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Freeform 9"/>
                  <p:cNvSpPr/>
                  <p:nvPr/>
                </p:nvSpPr>
                <p:spPr>
                  <a:xfrm>
                    <a:off x="803916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6" name="Group 13"/>
                <p:cNvGrpSpPr/>
                <p:nvPr/>
              </p:nvGrpSpPr>
              <p:grpSpPr>
                <a:xfrm>
                  <a:off x="8597880" y="723960"/>
                  <a:ext cx="1117800" cy="558720"/>
                  <a:chOff x="8597880" y="723960"/>
                  <a:chExt cx="1117800" cy="558720"/>
                </a:xfrm>
              </p:grpSpPr>
              <p:sp>
                <p:nvSpPr>
                  <p:cNvPr id="57" name="Freeform 11"/>
                  <p:cNvSpPr/>
                  <p:nvPr/>
                </p:nvSpPr>
                <p:spPr>
                  <a:xfrm>
                    <a:off x="859788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 name="Freeform 12"/>
                  <p:cNvSpPr/>
                  <p:nvPr/>
                </p:nvSpPr>
                <p:spPr>
                  <a:xfrm>
                    <a:off x="915660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59" name="Group 22"/>
            <p:cNvGrpSpPr/>
            <p:nvPr/>
          </p:nvGrpSpPr>
          <p:grpSpPr>
            <a:xfrm>
              <a:off x="7480440" y="1270080"/>
              <a:ext cx="2235240" cy="558720"/>
              <a:chOff x="7480440" y="1270080"/>
              <a:chExt cx="2235240" cy="558720"/>
            </a:xfrm>
          </p:grpSpPr>
          <p:grpSp>
            <p:nvGrpSpPr>
              <p:cNvPr id="60" name="Group 18"/>
              <p:cNvGrpSpPr/>
              <p:nvPr/>
            </p:nvGrpSpPr>
            <p:grpSpPr>
              <a:xfrm>
                <a:off x="7480440" y="1270080"/>
                <a:ext cx="1117800" cy="558720"/>
                <a:chOff x="7480440" y="1270080"/>
                <a:chExt cx="1117800" cy="558720"/>
              </a:xfrm>
            </p:grpSpPr>
            <p:sp>
              <p:nvSpPr>
                <p:cNvPr id="61" name="Freeform 16"/>
                <p:cNvSpPr/>
                <p:nvPr/>
              </p:nvSpPr>
              <p:spPr>
                <a:xfrm>
                  <a:off x="748044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Freeform 17"/>
                <p:cNvSpPr/>
                <p:nvPr/>
              </p:nvSpPr>
              <p:spPr>
                <a:xfrm>
                  <a:off x="803916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3" name="Group 21"/>
              <p:cNvGrpSpPr/>
              <p:nvPr/>
            </p:nvGrpSpPr>
            <p:grpSpPr>
              <a:xfrm>
                <a:off x="8597880" y="1270080"/>
                <a:ext cx="1117800" cy="558720"/>
                <a:chOff x="8597880" y="1270080"/>
                <a:chExt cx="1117800" cy="558720"/>
              </a:xfrm>
            </p:grpSpPr>
            <p:sp>
              <p:nvSpPr>
                <p:cNvPr id="64" name="Freeform 19"/>
                <p:cNvSpPr/>
                <p:nvPr/>
              </p:nvSpPr>
              <p:spPr>
                <a:xfrm>
                  <a:off x="859788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Freeform 20"/>
                <p:cNvSpPr/>
                <p:nvPr/>
              </p:nvSpPr>
              <p:spPr>
                <a:xfrm>
                  <a:off x="915660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sp>
        <p:nvSpPr>
          <p:cNvPr id="66" name="TextBox 24"/>
          <p:cNvSpPr/>
          <p:nvPr/>
        </p:nvSpPr>
        <p:spPr>
          <a:xfrm>
            <a:off x="393840" y="812880"/>
            <a:ext cx="589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A kitchen is being covered with red and white tiles.  The basic design is shown.</a:t>
            </a:r>
            <a:endParaRPr b="0" lang="en-US" sz="2400" spc="-1" strike="noStrike">
              <a:solidFill>
                <a:srgbClr val="000000"/>
              </a:solidFill>
              <a:latin typeface="Calibri"/>
            </a:endParaRPr>
          </a:p>
        </p:txBody>
      </p:sp>
      <p:sp>
        <p:nvSpPr>
          <p:cNvPr id="67" name="TextBox 25"/>
          <p:cNvSpPr/>
          <p:nvPr/>
        </p:nvSpPr>
        <p:spPr>
          <a:xfrm>
            <a:off x="291960" y="1917720"/>
            <a:ext cx="9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Several of these basic designs fitted together to make a pattern.</a:t>
            </a:r>
            <a:endParaRPr b="0" lang="en-US" sz="2400" spc="-1" strike="noStrike">
              <a:solidFill>
                <a:srgbClr val="000000"/>
              </a:solidFill>
              <a:latin typeface="Calibri"/>
            </a:endParaRPr>
          </a:p>
        </p:txBody>
      </p:sp>
      <p:grpSp>
        <p:nvGrpSpPr>
          <p:cNvPr id="68" name="Group 170"/>
          <p:cNvGrpSpPr/>
          <p:nvPr/>
        </p:nvGrpSpPr>
        <p:grpSpPr>
          <a:xfrm>
            <a:off x="927000" y="2502000"/>
            <a:ext cx="7581960" cy="4324680"/>
            <a:chOff x="927000" y="2502000"/>
            <a:chExt cx="7581960" cy="4324680"/>
          </a:xfrm>
        </p:grpSpPr>
        <p:grpSp>
          <p:nvGrpSpPr>
            <p:cNvPr id="69" name="Group 48"/>
            <p:cNvGrpSpPr/>
            <p:nvPr/>
          </p:nvGrpSpPr>
          <p:grpSpPr>
            <a:xfrm>
              <a:off x="927000" y="2502000"/>
              <a:ext cx="2235240" cy="1663560"/>
              <a:chOff x="927000" y="2502000"/>
              <a:chExt cx="2235240" cy="1663560"/>
            </a:xfrm>
          </p:grpSpPr>
          <p:grpSp>
            <p:nvGrpSpPr>
              <p:cNvPr id="70" name="Group 40"/>
              <p:cNvGrpSpPr/>
              <p:nvPr/>
            </p:nvGrpSpPr>
            <p:grpSpPr>
              <a:xfrm>
                <a:off x="927000" y="2502000"/>
                <a:ext cx="2235240" cy="1117440"/>
                <a:chOff x="927000" y="2502000"/>
                <a:chExt cx="2235240" cy="1117440"/>
              </a:xfrm>
            </p:grpSpPr>
            <p:grpSp>
              <p:nvGrpSpPr>
                <p:cNvPr id="71" name="Group 32"/>
                <p:cNvGrpSpPr/>
                <p:nvPr/>
              </p:nvGrpSpPr>
              <p:grpSpPr>
                <a:xfrm>
                  <a:off x="927000" y="2502000"/>
                  <a:ext cx="2235240" cy="558720"/>
                  <a:chOff x="927000" y="2502000"/>
                  <a:chExt cx="2235240" cy="558720"/>
                </a:xfrm>
              </p:grpSpPr>
              <p:grpSp>
                <p:nvGrpSpPr>
                  <p:cNvPr id="72" name="Group 28"/>
                  <p:cNvGrpSpPr/>
                  <p:nvPr/>
                </p:nvGrpSpPr>
                <p:grpSpPr>
                  <a:xfrm>
                    <a:off x="927000" y="2502000"/>
                    <a:ext cx="1117800" cy="558720"/>
                    <a:chOff x="927000" y="2502000"/>
                    <a:chExt cx="1117800" cy="558720"/>
                  </a:xfrm>
                </p:grpSpPr>
                <p:sp>
                  <p:nvSpPr>
                    <p:cNvPr id="73" name="Freeform 26"/>
                    <p:cNvSpPr/>
                    <p:nvPr/>
                  </p:nvSpPr>
                  <p:spPr>
                    <a:xfrm>
                      <a:off x="92700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 name="Freeform 27"/>
                    <p:cNvSpPr/>
                    <p:nvPr/>
                  </p:nvSpPr>
                  <p:spPr>
                    <a:xfrm>
                      <a:off x="148572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5" name="Group 31"/>
                  <p:cNvGrpSpPr/>
                  <p:nvPr/>
                </p:nvGrpSpPr>
                <p:grpSpPr>
                  <a:xfrm>
                    <a:off x="2044440" y="2502000"/>
                    <a:ext cx="1117800" cy="558720"/>
                    <a:chOff x="2044440" y="2502000"/>
                    <a:chExt cx="1117800" cy="558720"/>
                  </a:xfrm>
                </p:grpSpPr>
                <p:sp>
                  <p:nvSpPr>
                    <p:cNvPr id="76" name="Freeform 29"/>
                    <p:cNvSpPr/>
                    <p:nvPr/>
                  </p:nvSpPr>
                  <p:spPr>
                    <a:xfrm>
                      <a:off x="204444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30"/>
                    <p:cNvSpPr/>
                    <p:nvPr/>
                  </p:nvSpPr>
                  <p:spPr>
                    <a:xfrm>
                      <a:off x="260316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78" name="Group 39"/>
                <p:cNvGrpSpPr/>
                <p:nvPr/>
              </p:nvGrpSpPr>
              <p:grpSpPr>
                <a:xfrm>
                  <a:off x="927000" y="3060720"/>
                  <a:ext cx="2235240" cy="558720"/>
                  <a:chOff x="927000" y="3060720"/>
                  <a:chExt cx="2235240" cy="558720"/>
                </a:xfrm>
              </p:grpSpPr>
              <p:grpSp>
                <p:nvGrpSpPr>
                  <p:cNvPr id="79" name="Group 35"/>
                  <p:cNvGrpSpPr/>
                  <p:nvPr/>
                </p:nvGrpSpPr>
                <p:grpSpPr>
                  <a:xfrm>
                    <a:off x="927000" y="3060720"/>
                    <a:ext cx="1117800" cy="558720"/>
                    <a:chOff x="927000" y="3060720"/>
                    <a:chExt cx="1117800" cy="558720"/>
                  </a:xfrm>
                </p:grpSpPr>
                <p:sp>
                  <p:nvSpPr>
                    <p:cNvPr id="80" name="Freeform 33"/>
                    <p:cNvSpPr/>
                    <p:nvPr/>
                  </p:nvSpPr>
                  <p:spPr>
                    <a:xfrm>
                      <a:off x="92700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 name="Freeform 34"/>
                    <p:cNvSpPr/>
                    <p:nvPr/>
                  </p:nvSpPr>
                  <p:spPr>
                    <a:xfrm>
                      <a:off x="148572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2" name="Group 38"/>
                  <p:cNvGrpSpPr/>
                  <p:nvPr/>
                </p:nvGrpSpPr>
                <p:grpSpPr>
                  <a:xfrm>
                    <a:off x="2044440" y="3060720"/>
                    <a:ext cx="1117800" cy="558720"/>
                    <a:chOff x="2044440" y="3060720"/>
                    <a:chExt cx="1117800" cy="558720"/>
                  </a:xfrm>
                </p:grpSpPr>
                <p:sp>
                  <p:nvSpPr>
                    <p:cNvPr id="83" name="Freeform 36"/>
                    <p:cNvSpPr/>
                    <p:nvPr/>
                  </p:nvSpPr>
                  <p:spPr>
                    <a:xfrm>
                      <a:off x="204444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 name="Freeform 37"/>
                    <p:cNvSpPr/>
                    <p:nvPr/>
                  </p:nvSpPr>
                  <p:spPr>
                    <a:xfrm>
                      <a:off x="260316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85" name="Group 47"/>
              <p:cNvGrpSpPr/>
              <p:nvPr/>
            </p:nvGrpSpPr>
            <p:grpSpPr>
              <a:xfrm>
                <a:off x="927000" y="3606840"/>
                <a:ext cx="2235240" cy="558720"/>
                <a:chOff x="927000" y="3606840"/>
                <a:chExt cx="2235240" cy="558720"/>
              </a:xfrm>
            </p:grpSpPr>
            <p:grpSp>
              <p:nvGrpSpPr>
                <p:cNvPr id="86" name="Group 43"/>
                <p:cNvGrpSpPr/>
                <p:nvPr/>
              </p:nvGrpSpPr>
              <p:grpSpPr>
                <a:xfrm>
                  <a:off x="927000" y="3606840"/>
                  <a:ext cx="1117800" cy="558720"/>
                  <a:chOff x="927000" y="3606840"/>
                  <a:chExt cx="1117800" cy="558720"/>
                </a:xfrm>
              </p:grpSpPr>
              <p:sp>
                <p:nvSpPr>
                  <p:cNvPr id="87" name="Freeform 41"/>
                  <p:cNvSpPr/>
                  <p:nvPr/>
                </p:nvSpPr>
                <p:spPr>
                  <a:xfrm>
                    <a:off x="92700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Freeform 42"/>
                  <p:cNvSpPr/>
                  <p:nvPr/>
                </p:nvSpPr>
                <p:spPr>
                  <a:xfrm>
                    <a:off x="148572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9" name="Group 46"/>
                <p:cNvGrpSpPr/>
                <p:nvPr/>
              </p:nvGrpSpPr>
              <p:grpSpPr>
                <a:xfrm>
                  <a:off x="2044440" y="3606840"/>
                  <a:ext cx="1117800" cy="558720"/>
                  <a:chOff x="2044440" y="3606840"/>
                  <a:chExt cx="1117800" cy="558720"/>
                </a:xfrm>
              </p:grpSpPr>
              <p:sp>
                <p:nvSpPr>
                  <p:cNvPr id="90" name="Freeform 44"/>
                  <p:cNvSpPr/>
                  <p:nvPr/>
                </p:nvSpPr>
                <p:spPr>
                  <a:xfrm>
                    <a:off x="204444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Freeform 45"/>
                  <p:cNvSpPr/>
                  <p:nvPr/>
                </p:nvSpPr>
                <p:spPr>
                  <a:xfrm>
                    <a:off x="260316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92" name="Group 95"/>
            <p:cNvGrpSpPr/>
            <p:nvPr/>
          </p:nvGrpSpPr>
          <p:grpSpPr>
            <a:xfrm>
              <a:off x="4038480" y="2502000"/>
              <a:ext cx="4470480" cy="1663560"/>
              <a:chOff x="4038480" y="2502000"/>
              <a:chExt cx="4470480" cy="1663560"/>
            </a:xfrm>
          </p:grpSpPr>
          <p:grpSp>
            <p:nvGrpSpPr>
              <p:cNvPr id="93" name="Group 71"/>
              <p:cNvGrpSpPr/>
              <p:nvPr/>
            </p:nvGrpSpPr>
            <p:grpSpPr>
              <a:xfrm>
                <a:off x="4038480" y="2502000"/>
                <a:ext cx="2235240" cy="1663560"/>
                <a:chOff x="4038480" y="2502000"/>
                <a:chExt cx="2235240" cy="1663560"/>
              </a:xfrm>
            </p:grpSpPr>
            <p:grpSp>
              <p:nvGrpSpPr>
                <p:cNvPr id="94" name="Group 63"/>
                <p:cNvGrpSpPr/>
                <p:nvPr/>
              </p:nvGrpSpPr>
              <p:grpSpPr>
                <a:xfrm>
                  <a:off x="4038480" y="2502000"/>
                  <a:ext cx="2235240" cy="1117440"/>
                  <a:chOff x="4038480" y="2502000"/>
                  <a:chExt cx="2235240" cy="1117440"/>
                </a:xfrm>
              </p:grpSpPr>
              <p:grpSp>
                <p:nvGrpSpPr>
                  <p:cNvPr id="95" name="Group 55"/>
                  <p:cNvGrpSpPr/>
                  <p:nvPr/>
                </p:nvGrpSpPr>
                <p:grpSpPr>
                  <a:xfrm>
                    <a:off x="4038480" y="2502000"/>
                    <a:ext cx="2235240" cy="558720"/>
                    <a:chOff x="4038480" y="2502000"/>
                    <a:chExt cx="2235240" cy="558720"/>
                  </a:xfrm>
                </p:grpSpPr>
                <p:grpSp>
                  <p:nvGrpSpPr>
                    <p:cNvPr id="96" name="Group 51"/>
                    <p:cNvGrpSpPr/>
                    <p:nvPr/>
                  </p:nvGrpSpPr>
                  <p:grpSpPr>
                    <a:xfrm>
                      <a:off x="4038480" y="2502000"/>
                      <a:ext cx="1117800" cy="558720"/>
                      <a:chOff x="4038480" y="2502000"/>
                      <a:chExt cx="1117800" cy="558720"/>
                    </a:xfrm>
                  </p:grpSpPr>
                  <p:sp>
                    <p:nvSpPr>
                      <p:cNvPr id="97" name="Freeform 49"/>
                      <p:cNvSpPr/>
                      <p:nvPr/>
                    </p:nvSpPr>
                    <p:spPr>
                      <a:xfrm>
                        <a:off x="403848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Freeform 50"/>
                      <p:cNvSpPr/>
                      <p:nvPr/>
                    </p:nvSpPr>
                    <p:spPr>
                      <a:xfrm>
                        <a:off x="459720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9" name="Group 54"/>
                    <p:cNvGrpSpPr/>
                    <p:nvPr/>
                  </p:nvGrpSpPr>
                  <p:grpSpPr>
                    <a:xfrm>
                      <a:off x="5155920" y="2502000"/>
                      <a:ext cx="1117800" cy="558720"/>
                      <a:chOff x="5155920" y="2502000"/>
                      <a:chExt cx="1117800" cy="558720"/>
                    </a:xfrm>
                  </p:grpSpPr>
                  <p:sp>
                    <p:nvSpPr>
                      <p:cNvPr id="100" name="Freeform 52"/>
                      <p:cNvSpPr/>
                      <p:nvPr/>
                    </p:nvSpPr>
                    <p:spPr>
                      <a:xfrm>
                        <a:off x="515592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Freeform 53"/>
                      <p:cNvSpPr/>
                      <p:nvPr/>
                    </p:nvSpPr>
                    <p:spPr>
                      <a:xfrm>
                        <a:off x="571464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02" name="Group 62"/>
                  <p:cNvGrpSpPr/>
                  <p:nvPr/>
                </p:nvGrpSpPr>
                <p:grpSpPr>
                  <a:xfrm>
                    <a:off x="4038480" y="3060720"/>
                    <a:ext cx="2235240" cy="558720"/>
                    <a:chOff x="4038480" y="3060720"/>
                    <a:chExt cx="2235240" cy="558720"/>
                  </a:xfrm>
                </p:grpSpPr>
                <p:grpSp>
                  <p:nvGrpSpPr>
                    <p:cNvPr id="103" name="Group 58"/>
                    <p:cNvGrpSpPr/>
                    <p:nvPr/>
                  </p:nvGrpSpPr>
                  <p:grpSpPr>
                    <a:xfrm>
                      <a:off x="4038480" y="3060720"/>
                      <a:ext cx="1117800" cy="558720"/>
                      <a:chOff x="4038480" y="3060720"/>
                      <a:chExt cx="1117800" cy="558720"/>
                    </a:xfrm>
                  </p:grpSpPr>
                  <p:sp>
                    <p:nvSpPr>
                      <p:cNvPr id="104" name="Freeform 56"/>
                      <p:cNvSpPr/>
                      <p:nvPr/>
                    </p:nvSpPr>
                    <p:spPr>
                      <a:xfrm>
                        <a:off x="403848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Freeform 57"/>
                      <p:cNvSpPr/>
                      <p:nvPr/>
                    </p:nvSpPr>
                    <p:spPr>
                      <a:xfrm>
                        <a:off x="459720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6" name="Group 61"/>
                    <p:cNvGrpSpPr/>
                    <p:nvPr/>
                  </p:nvGrpSpPr>
                  <p:grpSpPr>
                    <a:xfrm>
                      <a:off x="5155920" y="3060720"/>
                      <a:ext cx="1117800" cy="558720"/>
                      <a:chOff x="5155920" y="3060720"/>
                      <a:chExt cx="1117800" cy="558720"/>
                    </a:xfrm>
                  </p:grpSpPr>
                  <p:sp>
                    <p:nvSpPr>
                      <p:cNvPr id="107" name="Freeform 59"/>
                      <p:cNvSpPr/>
                      <p:nvPr/>
                    </p:nvSpPr>
                    <p:spPr>
                      <a:xfrm>
                        <a:off x="515592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Freeform 60"/>
                      <p:cNvSpPr/>
                      <p:nvPr/>
                    </p:nvSpPr>
                    <p:spPr>
                      <a:xfrm>
                        <a:off x="571464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09" name="Group 70"/>
                <p:cNvGrpSpPr/>
                <p:nvPr/>
              </p:nvGrpSpPr>
              <p:grpSpPr>
                <a:xfrm>
                  <a:off x="4038480" y="3606840"/>
                  <a:ext cx="2235240" cy="558720"/>
                  <a:chOff x="4038480" y="3606840"/>
                  <a:chExt cx="2235240" cy="558720"/>
                </a:xfrm>
              </p:grpSpPr>
              <p:grpSp>
                <p:nvGrpSpPr>
                  <p:cNvPr id="110" name="Group 66"/>
                  <p:cNvGrpSpPr/>
                  <p:nvPr/>
                </p:nvGrpSpPr>
                <p:grpSpPr>
                  <a:xfrm>
                    <a:off x="4038480" y="3606840"/>
                    <a:ext cx="1117800" cy="558720"/>
                    <a:chOff x="4038480" y="3606840"/>
                    <a:chExt cx="1117800" cy="558720"/>
                  </a:xfrm>
                </p:grpSpPr>
                <p:sp>
                  <p:nvSpPr>
                    <p:cNvPr id="111" name="Freeform 64"/>
                    <p:cNvSpPr/>
                    <p:nvPr/>
                  </p:nvSpPr>
                  <p:spPr>
                    <a:xfrm>
                      <a:off x="403848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Freeform 65"/>
                    <p:cNvSpPr/>
                    <p:nvPr/>
                  </p:nvSpPr>
                  <p:spPr>
                    <a:xfrm>
                      <a:off x="459720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3" name="Group 69"/>
                  <p:cNvGrpSpPr/>
                  <p:nvPr/>
                </p:nvGrpSpPr>
                <p:grpSpPr>
                  <a:xfrm>
                    <a:off x="5155920" y="3606840"/>
                    <a:ext cx="1117800" cy="558720"/>
                    <a:chOff x="5155920" y="3606840"/>
                    <a:chExt cx="1117800" cy="558720"/>
                  </a:xfrm>
                </p:grpSpPr>
                <p:sp>
                  <p:nvSpPr>
                    <p:cNvPr id="114" name="Freeform 67"/>
                    <p:cNvSpPr/>
                    <p:nvPr/>
                  </p:nvSpPr>
                  <p:spPr>
                    <a:xfrm>
                      <a:off x="515592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Freeform 68"/>
                    <p:cNvSpPr/>
                    <p:nvPr/>
                  </p:nvSpPr>
                  <p:spPr>
                    <a:xfrm>
                      <a:off x="571464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16" name="Group 94"/>
              <p:cNvGrpSpPr/>
              <p:nvPr/>
            </p:nvGrpSpPr>
            <p:grpSpPr>
              <a:xfrm>
                <a:off x="6273720" y="2502000"/>
                <a:ext cx="2235240" cy="1663560"/>
                <a:chOff x="6273720" y="2502000"/>
                <a:chExt cx="2235240" cy="1663560"/>
              </a:xfrm>
            </p:grpSpPr>
            <p:grpSp>
              <p:nvGrpSpPr>
                <p:cNvPr id="117" name="Group 86"/>
                <p:cNvGrpSpPr/>
                <p:nvPr/>
              </p:nvGrpSpPr>
              <p:grpSpPr>
                <a:xfrm>
                  <a:off x="6273720" y="2502000"/>
                  <a:ext cx="2235240" cy="1117440"/>
                  <a:chOff x="6273720" y="2502000"/>
                  <a:chExt cx="2235240" cy="1117440"/>
                </a:xfrm>
              </p:grpSpPr>
              <p:grpSp>
                <p:nvGrpSpPr>
                  <p:cNvPr id="118" name="Group 78"/>
                  <p:cNvGrpSpPr/>
                  <p:nvPr/>
                </p:nvGrpSpPr>
                <p:grpSpPr>
                  <a:xfrm>
                    <a:off x="6273720" y="2502000"/>
                    <a:ext cx="2235240" cy="558720"/>
                    <a:chOff x="6273720" y="2502000"/>
                    <a:chExt cx="2235240" cy="558720"/>
                  </a:xfrm>
                </p:grpSpPr>
                <p:grpSp>
                  <p:nvGrpSpPr>
                    <p:cNvPr id="119" name="Group 74"/>
                    <p:cNvGrpSpPr/>
                    <p:nvPr/>
                  </p:nvGrpSpPr>
                  <p:grpSpPr>
                    <a:xfrm>
                      <a:off x="6273720" y="2502000"/>
                      <a:ext cx="1117800" cy="558720"/>
                      <a:chOff x="6273720" y="2502000"/>
                      <a:chExt cx="1117800" cy="558720"/>
                    </a:xfrm>
                  </p:grpSpPr>
                  <p:sp>
                    <p:nvSpPr>
                      <p:cNvPr id="120" name="Freeform 72"/>
                      <p:cNvSpPr/>
                      <p:nvPr/>
                    </p:nvSpPr>
                    <p:spPr>
                      <a:xfrm>
                        <a:off x="627372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Freeform 73"/>
                      <p:cNvSpPr/>
                      <p:nvPr/>
                    </p:nvSpPr>
                    <p:spPr>
                      <a:xfrm>
                        <a:off x="683244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2" name="Group 77"/>
                    <p:cNvGrpSpPr/>
                    <p:nvPr/>
                  </p:nvGrpSpPr>
                  <p:grpSpPr>
                    <a:xfrm>
                      <a:off x="7391160" y="2502000"/>
                      <a:ext cx="1117800" cy="558720"/>
                      <a:chOff x="7391160" y="2502000"/>
                      <a:chExt cx="1117800" cy="558720"/>
                    </a:xfrm>
                  </p:grpSpPr>
                  <p:sp>
                    <p:nvSpPr>
                      <p:cNvPr id="123" name="Freeform 75"/>
                      <p:cNvSpPr/>
                      <p:nvPr/>
                    </p:nvSpPr>
                    <p:spPr>
                      <a:xfrm>
                        <a:off x="739116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Freeform 76"/>
                      <p:cNvSpPr/>
                      <p:nvPr/>
                    </p:nvSpPr>
                    <p:spPr>
                      <a:xfrm>
                        <a:off x="794988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25" name="Group 85"/>
                  <p:cNvGrpSpPr/>
                  <p:nvPr/>
                </p:nvGrpSpPr>
                <p:grpSpPr>
                  <a:xfrm>
                    <a:off x="6273720" y="3060720"/>
                    <a:ext cx="2235240" cy="558720"/>
                    <a:chOff x="6273720" y="3060720"/>
                    <a:chExt cx="2235240" cy="558720"/>
                  </a:xfrm>
                </p:grpSpPr>
                <p:grpSp>
                  <p:nvGrpSpPr>
                    <p:cNvPr id="126" name="Group 81"/>
                    <p:cNvGrpSpPr/>
                    <p:nvPr/>
                  </p:nvGrpSpPr>
                  <p:grpSpPr>
                    <a:xfrm>
                      <a:off x="6273720" y="3060720"/>
                      <a:ext cx="1117800" cy="558720"/>
                      <a:chOff x="6273720" y="3060720"/>
                      <a:chExt cx="1117800" cy="558720"/>
                    </a:xfrm>
                  </p:grpSpPr>
                  <p:sp>
                    <p:nvSpPr>
                      <p:cNvPr id="127" name="Freeform 79"/>
                      <p:cNvSpPr/>
                      <p:nvPr/>
                    </p:nvSpPr>
                    <p:spPr>
                      <a:xfrm>
                        <a:off x="627372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Freeform 80"/>
                      <p:cNvSpPr/>
                      <p:nvPr/>
                    </p:nvSpPr>
                    <p:spPr>
                      <a:xfrm>
                        <a:off x="683244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9" name="Group 84"/>
                    <p:cNvGrpSpPr/>
                    <p:nvPr/>
                  </p:nvGrpSpPr>
                  <p:grpSpPr>
                    <a:xfrm>
                      <a:off x="7391160" y="3060720"/>
                      <a:ext cx="1117800" cy="558720"/>
                      <a:chOff x="7391160" y="3060720"/>
                      <a:chExt cx="1117800" cy="558720"/>
                    </a:xfrm>
                  </p:grpSpPr>
                  <p:sp>
                    <p:nvSpPr>
                      <p:cNvPr id="130" name="Freeform 82"/>
                      <p:cNvSpPr/>
                      <p:nvPr/>
                    </p:nvSpPr>
                    <p:spPr>
                      <a:xfrm>
                        <a:off x="739116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Freeform 83"/>
                      <p:cNvSpPr/>
                      <p:nvPr/>
                    </p:nvSpPr>
                    <p:spPr>
                      <a:xfrm>
                        <a:off x="794988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32" name="Group 93"/>
                <p:cNvGrpSpPr/>
                <p:nvPr/>
              </p:nvGrpSpPr>
              <p:grpSpPr>
                <a:xfrm>
                  <a:off x="6273720" y="3606840"/>
                  <a:ext cx="2235240" cy="558720"/>
                  <a:chOff x="6273720" y="3606840"/>
                  <a:chExt cx="2235240" cy="558720"/>
                </a:xfrm>
              </p:grpSpPr>
              <p:grpSp>
                <p:nvGrpSpPr>
                  <p:cNvPr id="133" name="Group 89"/>
                  <p:cNvGrpSpPr/>
                  <p:nvPr/>
                </p:nvGrpSpPr>
                <p:grpSpPr>
                  <a:xfrm>
                    <a:off x="6273720" y="3606840"/>
                    <a:ext cx="1117800" cy="558720"/>
                    <a:chOff x="6273720" y="3606840"/>
                    <a:chExt cx="1117800" cy="558720"/>
                  </a:xfrm>
                </p:grpSpPr>
                <p:sp>
                  <p:nvSpPr>
                    <p:cNvPr id="134" name="Freeform 87"/>
                    <p:cNvSpPr/>
                    <p:nvPr/>
                  </p:nvSpPr>
                  <p:spPr>
                    <a:xfrm>
                      <a:off x="627372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Freeform 88"/>
                    <p:cNvSpPr/>
                    <p:nvPr/>
                  </p:nvSpPr>
                  <p:spPr>
                    <a:xfrm>
                      <a:off x="683244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 name="Group 92"/>
                  <p:cNvGrpSpPr/>
                  <p:nvPr/>
                </p:nvGrpSpPr>
                <p:grpSpPr>
                  <a:xfrm>
                    <a:off x="7391160" y="3606840"/>
                    <a:ext cx="1117800" cy="558720"/>
                    <a:chOff x="7391160" y="3606840"/>
                    <a:chExt cx="1117800" cy="558720"/>
                  </a:xfrm>
                </p:grpSpPr>
                <p:sp>
                  <p:nvSpPr>
                    <p:cNvPr id="137" name="Freeform 90"/>
                    <p:cNvSpPr/>
                    <p:nvPr/>
                  </p:nvSpPr>
                  <p:spPr>
                    <a:xfrm>
                      <a:off x="739116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Freeform 91"/>
                    <p:cNvSpPr/>
                    <p:nvPr/>
                  </p:nvSpPr>
                  <p:spPr>
                    <a:xfrm>
                      <a:off x="794988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nvGrpSpPr>
            <p:cNvPr id="139" name="Group 166"/>
            <p:cNvGrpSpPr/>
            <p:nvPr/>
          </p:nvGrpSpPr>
          <p:grpSpPr>
            <a:xfrm>
              <a:off x="1574640" y="4762440"/>
              <a:ext cx="6705720" cy="1663560"/>
              <a:chOff x="1574640" y="4762440"/>
              <a:chExt cx="6705720" cy="1663560"/>
            </a:xfrm>
          </p:grpSpPr>
          <p:grpSp>
            <p:nvGrpSpPr>
              <p:cNvPr id="140" name="Group 118"/>
              <p:cNvGrpSpPr/>
              <p:nvPr/>
            </p:nvGrpSpPr>
            <p:grpSpPr>
              <a:xfrm>
                <a:off x="1574640" y="4762440"/>
                <a:ext cx="2235240" cy="1663560"/>
                <a:chOff x="1574640" y="4762440"/>
                <a:chExt cx="2235240" cy="1663560"/>
              </a:xfrm>
            </p:grpSpPr>
            <p:grpSp>
              <p:nvGrpSpPr>
                <p:cNvPr id="141" name="Group 110"/>
                <p:cNvGrpSpPr/>
                <p:nvPr/>
              </p:nvGrpSpPr>
              <p:grpSpPr>
                <a:xfrm>
                  <a:off x="1574640" y="4762440"/>
                  <a:ext cx="2235240" cy="1117440"/>
                  <a:chOff x="1574640" y="4762440"/>
                  <a:chExt cx="2235240" cy="1117440"/>
                </a:xfrm>
              </p:grpSpPr>
              <p:grpSp>
                <p:nvGrpSpPr>
                  <p:cNvPr id="142" name="Group 102"/>
                  <p:cNvGrpSpPr/>
                  <p:nvPr/>
                </p:nvGrpSpPr>
                <p:grpSpPr>
                  <a:xfrm>
                    <a:off x="1574640" y="4762440"/>
                    <a:ext cx="2235240" cy="558720"/>
                    <a:chOff x="1574640" y="4762440"/>
                    <a:chExt cx="2235240" cy="558720"/>
                  </a:xfrm>
                </p:grpSpPr>
                <p:grpSp>
                  <p:nvGrpSpPr>
                    <p:cNvPr id="143" name="Group 98"/>
                    <p:cNvGrpSpPr/>
                    <p:nvPr/>
                  </p:nvGrpSpPr>
                  <p:grpSpPr>
                    <a:xfrm>
                      <a:off x="1574640" y="4762440"/>
                      <a:ext cx="1117800" cy="558720"/>
                      <a:chOff x="1574640" y="4762440"/>
                      <a:chExt cx="1117800" cy="558720"/>
                    </a:xfrm>
                  </p:grpSpPr>
                  <p:sp>
                    <p:nvSpPr>
                      <p:cNvPr id="144" name="Freeform 96"/>
                      <p:cNvSpPr/>
                      <p:nvPr/>
                    </p:nvSpPr>
                    <p:spPr>
                      <a:xfrm>
                        <a:off x="157464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Freeform 97"/>
                      <p:cNvSpPr/>
                      <p:nvPr/>
                    </p:nvSpPr>
                    <p:spPr>
                      <a:xfrm>
                        <a:off x="213336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46" name="Group 101"/>
                    <p:cNvGrpSpPr/>
                    <p:nvPr/>
                  </p:nvGrpSpPr>
                  <p:grpSpPr>
                    <a:xfrm>
                      <a:off x="2692080" y="4762440"/>
                      <a:ext cx="1117800" cy="558720"/>
                      <a:chOff x="2692080" y="4762440"/>
                      <a:chExt cx="1117800" cy="558720"/>
                    </a:xfrm>
                  </p:grpSpPr>
                  <p:sp>
                    <p:nvSpPr>
                      <p:cNvPr id="147" name="Freeform 99"/>
                      <p:cNvSpPr/>
                      <p:nvPr/>
                    </p:nvSpPr>
                    <p:spPr>
                      <a:xfrm>
                        <a:off x="269208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100"/>
                      <p:cNvSpPr/>
                      <p:nvPr/>
                    </p:nvSpPr>
                    <p:spPr>
                      <a:xfrm>
                        <a:off x="325080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49" name="Group 109"/>
                  <p:cNvGrpSpPr/>
                  <p:nvPr/>
                </p:nvGrpSpPr>
                <p:grpSpPr>
                  <a:xfrm>
                    <a:off x="1574640" y="5321160"/>
                    <a:ext cx="2235240" cy="558720"/>
                    <a:chOff x="1574640" y="5321160"/>
                    <a:chExt cx="2235240" cy="558720"/>
                  </a:xfrm>
                </p:grpSpPr>
                <p:grpSp>
                  <p:nvGrpSpPr>
                    <p:cNvPr id="150" name="Group 105"/>
                    <p:cNvGrpSpPr/>
                    <p:nvPr/>
                  </p:nvGrpSpPr>
                  <p:grpSpPr>
                    <a:xfrm>
                      <a:off x="1574640" y="5321160"/>
                      <a:ext cx="1117800" cy="558720"/>
                      <a:chOff x="1574640" y="5321160"/>
                      <a:chExt cx="1117800" cy="558720"/>
                    </a:xfrm>
                  </p:grpSpPr>
                  <p:sp>
                    <p:nvSpPr>
                      <p:cNvPr id="151" name="Freeform 103"/>
                      <p:cNvSpPr/>
                      <p:nvPr/>
                    </p:nvSpPr>
                    <p:spPr>
                      <a:xfrm>
                        <a:off x="157464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104"/>
                      <p:cNvSpPr/>
                      <p:nvPr/>
                    </p:nvSpPr>
                    <p:spPr>
                      <a:xfrm>
                        <a:off x="213336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3" name="Group 108"/>
                    <p:cNvGrpSpPr/>
                    <p:nvPr/>
                  </p:nvGrpSpPr>
                  <p:grpSpPr>
                    <a:xfrm>
                      <a:off x="2692080" y="5321160"/>
                      <a:ext cx="1117800" cy="558720"/>
                      <a:chOff x="2692080" y="5321160"/>
                      <a:chExt cx="1117800" cy="558720"/>
                    </a:xfrm>
                  </p:grpSpPr>
                  <p:sp>
                    <p:nvSpPr>
                      <p:cNvPr id="154" name="Freeform 106"/>
                      <p:cNvSpPr/>
                      <p:nvPr/>
                    </p:nvSpPr>
                    <p:spPr>
                      <a:xfrm>
                        <a:off x="269208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 name="Freeform 107"/>
                      <p:cNvSpPr/>
                      <p:nvPr/>
                    </p:nvSpPr>
                    <p:spPr>
                      <a:xfrm>
                        <a:off x="325080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56" name="Group 117"/>
                <p:cNvGrpSpPr/>
                <p:nvPr/>
              </p:nvGrpSpPr>
              <p:grpSpPr>
                <a:xfrm>
                  <a:off x="1574640" y="5867280"/>
                  <a:ext cx="2235240" cy="558720"/>
                  <a:chOff x="1574640" y="5867280"/>
                  <a:chExt cx="2235240" cy="558720"/>
                </a:xfrm>
              </p:grpSpPr>
              <p:grpSp>
                <p:nvGrpSpPr>
                  <p:cNvPr id="157" name="Group 113"/>
                  <p:cNvGrpSpPr/>
                  <p:nvPr/>
                </p:nvGrpSpPr>
                <p:grpSpPr>
                  <a:xfrm>
                    <a:off x="1574640" y="5867280"/>
                    <a:ext cx="1117800" cy="558720"/>
                    <a:chOff x="1574640" y="5867280"/>
                    <a:chExt cx="1117800" cy="558720"/>
                  </a:xfrm>
                </p:grpSpPr>
                <p:sp>
                  <p:nvSpPr>
                    <p:cNvPr id="158" name="Freeform 111"/>
                    <p:cNvSpPr/>
                    <p:nvPr/>
                  </p:nvSpPr>
                  <p:spPr>
                    <a:xfrm>
                      <a:off x="157464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Freeform 112"/>
                    <p:cNvSpPr/>
                    <p:nvPr/>
                  </p:nvSpPr>
                  <p:spPr>
                    <a:xfrm>
                      <a:off x="213336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0" name="Group 116"/>
                  <p:cNvGrpSpPr/>
                  <p:nvPr/>
                </p:nvGrpSpPr>
                <p:grpSpPr>
                  <a:xfrm>
                    <a:off x="2692080" y="5867280"/>
                    <a:ext cx="1117800" cy="558720"/>
                    <a:chOff x="2692080" y="5867280"/>
                    <a:chExt cx="1117800" cy="558720"/>
                  </a:xfrm>
                </p:grpSpPr>
                <p:sp>
                  <p:nvSpPr>
                    <p:cNvPr id="161" name="Freeform 114"/>
                    <p:cNvSpPr/>
                    <p:nvPr/>
                  </p:nvSpPr>
                  <p:spPr>
                    <a:xfrm>
                      <a:off x="269208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Freeform 115"/>
                    <p:cNvSpPr/>
                    <p:nvPr/>
                  </p:nvSpPr>
                  <p:spPr>
                    <a:xfrm>
                      <a:off x="325080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63" name="Group 165"/>
              <p:cNvGrpSpPr/>
              <p:nvPr/>
            </p:nvGrpSpPr>
            <p:grpSpPr>
              <a:xfrm>
                <a:off x="3809880" y="4762440"/>
                <a:ext cx="4470480" cy="1663560"/>
                <a:chOff x="3809880" y="4762440"/>
                <a:chExt cx="4470480" cy="1663560"/>
              </a:xfrm>
            </p:grpSpPr>
            <p:grpSp>
              <p:nvGrpSpPr>
                <p:cNvPr id="164" name="Group 141"/>
                <p:cNvGrpSpPr/>
                <p:nvPr/>
              </p:nvGrpSpPr>
              <p:grpSpPr>
                <a:xfrm>
                  <a:off x="3809880" y="4762440"/>
                  <a:ext cx="2235240" cy="1663560"/>
                  <a:chOff x="3809880" y="4762440"/>
                  <a:chExt cx="2235240" cy="1663560"/>
                </a:xfrm>
              </p:grpSpPr>
              <p:grpSp>
                <p:nvGrpSpPr>
                  <p:cNvPr id="165" name="Group 133"/>
                  <p:cNvGrpSpPr/>
                  <p:nvPr/>
                </p:nvGrpSpPr>
                <p:grpSpPr>
                  <a:xfrm>
                    <a:off x="3809880" y="4762440"/>
                    <a:ext cx="2235240" cy="1117440"/>
                    <a:chOff x="3809880" y="4762440"/>
                    <a:chExt cx="2235240" cy="1117440"/>
                  </a:xfrm>
                </p:grpSpPr>
                <p:grpSp>
                  <p:nvGrpSpPr>
                    <p:cNvPr id="166" name="Group 125"/>
                    <p:cNvGrpSpPr/>
                    <p:nvPr/>
                  </p:nvGrpSpPr>
                  <p:grpSpPr>
                    <a:xfrm>
                      <a:off x="3809880" y="4762440"/>
                      <a:ext cx="2235240" cy="558720"/>
                      <a:chOff x="3809880" y="4762440"/>
                      <a:chExt cx="2235240" cy="558720"/>
                    </a:xfrm>
                  </p:grpSpPr>
                  <p:grpSp>
                    <p:nvGrpSpPr>
                      <p:cNvPr id="167" name="Group 121"/>
                      <p:cNvGrpSpPr/>
                      <p:nvPr/>
                    </p:nvGrpSpPr>
                    <p:grpSpPr>
                      <a:xfrm>
                        <a:off x="3809880" y="4762440"/>
                        <a:ext cx="1117800" cy="558720"/>
                        <a:chOff x="3809880" y="4762440"/>
                        <a:chExt cx="1117800" cy="558720"/>
                      </a:xfrm>
                    </p:grpSpPr>
                    <p:sp>
                      <p:nvSpPr>
                        <p:cNvPr id="168" name="Freeform 119"/>
                        <p:cNvSpPr/>
                        <p:nvPr/>
                      </p:nvSpPr>
                      <p:spPr>
                        <a:xfrm>
                          <a:off x="380988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9" name="Freeform 120"/>
                        <p:cNvSpPr/>
                        <p:nvPr/>
                      </p:nvSpPr>
                      <p:spPr>
                        <a:xfrm>
                          <a:off x="436860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0" name="Group 124"/>
                      <p:cNvGrpSpPr/>
                      <p:nvPr/>
                    </p:nvGrpSpPr>
                    <p:grpSpPr>
                      <a:xfrm>
                        <a:off x="4927320" y="4762440"/>
                        <a:ext cx="1117800" cy="558720"/>
                        <a:chOff x="4927320" y="4762440"/>
                        <a:chExt cx="1117800" cy="558720"/>
                      </a:xfrm>
                    </p:grpSpPr>
                    <p:sp>
                      <p:nvSpPr>
                        <p:cNvPr id="171" name="Freeform 122"/>
                        <p:cNvSpPr/>
                        <p:nvPr/>
                      </p:nvSpPr>
                      <p:spPr>
                        <a:xfrm>
                          <a:off x="492732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2" name="Freeform 123"/>
                        <p:cNvSpPr/>
                        <p:nvPr/>
                      </p:nvSpPr>
                      <p:spPr>
                        <a:xfrm>
                          <a:off x="548604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73" name="Group 132"/>
                    <p:cNvGrpSpPr/>
                    <p:nvPr/>
                  </p:nvGrpSpPr>
                  <p:grpSpPr>
                    <a:xfrm>
                      <a:off x="3809880" y="5321160"/>
                      <a:ext cx="2235240" cy="558720"/>
                      <a:chOff x="3809880" y="5321160"/>
                      <a:chExt cx="2235240" cy="558720"/>
                    </a:xfrm>
                  </p:grpSpPr>
                  <p:grpSp>
                    <p:nvGrpSpPr>
                      <p:cNvPr id="174" name="Group 128"/>
                      <p:cNvGrpSpPr/>
                      <p:nvPr/>
                    </p:nvGrpSpPr>
                    <p:grpSpPr>
                      <a:xfrm>
                        <a:off x="3809880" y="5321160"/>
                        <a:ext cx="1117800" cy="558720"/>
                        <a:chOff x="3809880" y="5321160"/>
                        <a:chExt cx="1117800" cy="558720"/>
                      </a:xfrm>
                    </p:grpSpPr>
                    <p:sp>
                      <p:nvSpPr>
                        <p:cNvPr id="175" name="Freeform 126"/>
                        <p:cNvSpPr/>
                        <p:nvPr/>
                      </p:nvSpPr>
                      <p:spPr>
                        <a:xfrm>
                          <a:off x="380988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Freeform 127"/>
                        <p:cNvSpPr/>
                        <p:nvPr/>
                      </p:nvSpPr>
                      <p:spPr>
                        <a:xfrm>
                          <a:off x="436860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7" name="Group 131"/>
                      <p:cNvGrpSpPr/>
                      <p:nvPr/>
                    </p:nvGrpSpPr>
                    <p:grpSpPr>
                      <a:xfrm>
                        <a:off x="4927320" y="5321160"/>
                        <a:ext cx="1117800" cy="558720"/>
                        <a:chOff x="4927320" y="5321160"/>
                        <a:chExt cx="1117800" cy="558720"/>
                      </a:xfrm>
                    </p:grpSpPr>
                    <p:sp>
                      <p:nvSpPr>
                        <p:cNvPr id="178" name="Freeform 129"/>
                        <p:cNvSpPr/>
                        <p:nvPr/>
                      </p:nvSpPr>
                      <p:spPr>
                        <a:xfrm>
                          <a:off x="492732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9" name="Freeform 130"/>
                        <p:cNvSpPr/>
                        <p:nvPr/>
                      </p:nvSpPr>
                      <p:spPr>
                        <a:xfrm>
                          <a:off x="548604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80" name="Group 140"/>
                  <p:cNvGrpSpPr/>
                  <p:nvPr/>
                </p:nvGrpSpPr>
                <p:grpSpPr>
                  <a:xfrm>
                    <a:off x="3809880" y="5867280"/>
                    <a:ext cx="2235240" cy="558720"/>
                    <a:chOff x="3809880" y="5867280"/>
                    <a:chExt cx="2235240" cy="558720"/>
                  </a:xfrm>
                </p:grpSpPr>
                <p:grpSp>
                  <p:nvGrpSpPr>
                    <p:cNvPr id="181" name="Group 136"/>
                    <p:cNvGrpSpPr/>
                    <p:nvPr/>
                  </p:nvGrpSpPr>
                  <p:grpSpPr>
                    <a:xfrm>
                      <a:off x="3809880" y="5867280"/>
                      <a:ext cx="1117800" cy="558720"/>
                      <a:chOff x="3809880" y="5867280"/>
                      <a:chExt cx="1117800" cy="558720"/>
                    </a:xfrm>
                  </p:grpSpPr>
                  <p:sp>
                    <p:nvSpPr>
                      <p:cNvPr id="182" name="Freeform 134"/>
                      <p:cNvSpPr/>
                      <p:nvPr/>
                    </p:nvSpPr>
                    <p:spPr>
                      <a:xfrm>
                        <a:off x="380988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Freeform 135"/>
                      <p:cNvSpPr/>
                      <p:nvPr/>
                    </p:nvSpPr>
                    <p:spPr>
                      <a:xfrm>
                        <a:off x="436860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4" name="Group 139"/>
                    <p:cNvGrpSpPr/>
                    <p:nvPr/>
                  </p:nvGrpSpPr>
                  <p:grpSpPr>
                    <a:xfrm>
                      <a:off x="4927320" y="5867280"/>
                      <a:ext cx="1117800" cy="558720"/>
                      <a:chOff x="4927320" y="5867280"/>
                      <a:chExt cx="1117800" cy="558720"/>
                    </a:xfrm>
                  </p:grpSpPr>
                  <p:sp>
                    <p:nvSpPr>
                      <p:cNvPr id="185" name="Freeform 137"/>
                      <p:cNvSpPr/>
                      <p:nvPr/>
                    </p:nvSpPr>
                    <p:spPr>
                      <a:xfrm>
                        <a:off x="492732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Freeform 138"/>
                      <p:cNvSpPr/>
                      <p:nvPr/>
                    </p:nvSpPr>
                    <p:spPr>
                      <a:xfrm>
                        <a:off x="548604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87" name="Group 164"/>
                <p:cNvGrpSpPr/>
                <p:nvPr/>
              </p:nvGrpSpPr>
              <p:grpSpPr>
                <a:xfrm>
                  <a:off x="6045120" y="4762440"/>
                  <a:ext cx="2235240" cy="1663560"/>
                  <a:chOff x="6045120" y="4762440"/>
                  <a:chExt cx="2235240" cy="1663560"/>
                </a:xfrm>
              </p:grpSpPr>
              <p:grpSp>
                <p:nvGrpSpPr>
                  <p:cNvPr id="188" name="Group 156"/>
                  <p:cNvGrpSpPr/>
                  <p:nvPr/>
                </p:nvGrpSpPr>
                <p:grpSpPr>
                  <a:xfrm>
                    <a:off x="6045120" y="4762440"/>
                    <a:ext cx="2235240" cy="1117440"/>
                    <a:chOff x="6045120" y="4762440"/>
                    <a:chExt cx="2235240" cy="1117440"/>
                  </a:xfrm>
                </p:grpSpPr>
                <p:grpSp>
                  <p:nvGrpSpPr>
                    <p:cNvPr id="189" name="Group 148"/>
                    <p:cNvGrpSpPr/>
                    <p:nvPr/>
                  </p:nvGrpSpPr>
                  <p:grpSpPr>
                    <a:xfrm>
                      <a:off x="6045120" y="4762440"/>
                      <a:ext cx="2235240" cy="558720"/>
                      <a:chOff x="6045120" y="4762440"/>
                      <a:chExt cx="2235240" cy="558720"/>
                    </a:xfrm>
                  </p:grpSpPr>
                  <p:grpSp>
                    <p:nvGrpSpPr>
                      <p:cNvPr id="190" name="Group 144"/>
                      <p:cNvGrpSpPr/>
                      <p:nvPr/>
                    </p:nvGrpSpPr>
                    <p:grpSpPr>
                      <a:xfrm>
                        <a:off x="6045120" y="4762440"/>
                        <a:ext cx="1117800" cy="558720"/>
                        <a:chOff x="6045120" y="4762440"/>
                        <a:chExt cx="1117800" cy="558720"/>
                      </a:xfrm>
                    </p:grpSpPr>
                    <p:sp>
                      <p:nvSpPr>
                        <p:cNvPr id="191" name="Freeform 142"/>
                        <p:cNvSpPr/>
                        <p:nvPr/>
                      </p:nvSpPr>
                      <p:spPr>
                        <a:xfrm>
                          <a:off x="604512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Freeform 143"/>
                        <p:cNvSpPr/>
                        <p:nvPr/>
                      </p:nvSpPr>
                      <p:spPr>
                        <a:xfrm>
                          <a:off x="660384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3" name="Group 147"/>
                      <p:cNvGrpSpPr/>
                      <p:nvPr/>
                    </p:nvGrpSpPr>
                    <p:grpSpPr>
                      <a:xfrm>
                        <a:off x="7162560" y="4762440"/>
                        <a:ext cx="1117800" cy="558720"/>
                        <a:chOff x="7162560" y="4762440"/>
                        <a:chExt cx="1117800" cy="558720"/>
                      </a:xfrm>
                    </p:grpSpPr>
                    <p:sp>
                      <p:nvSpPr>
                        <p:cNvPr id="194" name="Freeform 145"/>
                        <p:cNvSpPr/>
                        <p:nvPr/>
                      </p:nvSpPr>
                      <p:spPr>
                        <a:xfrm>
                          <a:off x="716256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Freeform 146"/>
                        <p:cNvSpPr/>
                        <p:nvPr/>
                      </p:nvSpPr>
                      <p:spPr>
                        <a:xfrm>
                          <a:off x="772128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96" name="Group 155"/>
                    <p:cNvGrpSpPr/>
                    <p:nvPr/>
                  </p:nvGrpSpPr>
                  <p:grpSpPr>
                    <a:xfrm>
                      <a:off x="6045120" y="5321160"/>
                      <a:ext cx="2235240" cy="558720"/>
                      <a:chOff x="6045120" y="5321160"/>
                      <a:chExt cx="2235240" cy="558720"/>
                    </a:xfrm>
                  </p:grpSpPr>
                  <p:grpSp>
                    <p:nvGrpSpPr>
                      <p:cNvPr id="197" name="Group 151"/>
                      <p:cNvGrpSpPr/>
                      <p:nvPr/>
                    </p:nvGrpSpPr>
                    <p:grpSpPr>
                      <a:xfrm>
                        <a:off x="6045120" y="5321160"/>
                        <a:ext cx="1117800" cy="558720"/>
                        <a:chOff x="6045120" y="5321160"/>
                        <a:chExt cx="1117800" cy="558720"/>
                      </a:xfrm>
                    </p:grpSpPr>
                    <p:sp>
                      <p:nvSpPr>
                        <p:cNvPr id="198" name="Freeform 149"/>
                        <p:cNvSpPr/>
                        <p:nvPr/>
                      </p:nvSpPr>
                      <p:spPr>
                        <a:xfrm>
                          <a:off x="604512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Freeform 150"/>
                        <p:cNvSpPr/>
                        <p:nvPr/>
                      </p:nvSpPr>
                      <p:spPr>
                        <a:xfrm>
                          <a:off x="660384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00" name="Group 154"/>
                      <p:cNvGrpSpPr/>
                      <p:nvPr/>
                    </p:nvGrpSpPr>
                    <p:grpSpPr>
                      <a:xfrm>
                        <a:off x="7162560" y="5321160"/>
                        <a:ext cx="1117800" cy="558720"/>
                        <a:chOff x="7162560" y="5321160"/>
                        <a:chExt cx="1117800" cy="558720"/>
                      </a:xfrm>
                    </p:grpSpPr>
                    <p:sp>
                      <p:nvSpPr>
                        <p:cNvPr id="201" name="Freeform 152"/>
                        <p:cNvSpPr/>
                        <p:nvPr/>
                      </p:nvSpPr>
                      <p:spPr>
                        <a:xfrm>
                          <a:off x="716256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2" name="Freeform 153"/>
                        <p:cNvSpPr/>
                        <p:nvPr/>
                      </p:nvSpPr>
                      <p:spPr>
                        <a:xfrm>
                          <a:off x="772128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03" name="Group 163"/>
                  <p:cNvGrpSpPr/>
                  <p:nvPr/>
                </p:nvGrpSpPr>
                <p:grpSpPr>
                  <a:xfrm>
                    <a:off x="6045120" y="5867280"/>
                    <a:ext cx="2235240" cy="558720"/>
                    <a:chOff x="6045120" y="5867280"/>
                    <a:chExt cx="2235240" cy="558720"/>
                  </a:xfrm>
                </p:grpSpPr>
                <p:grpSp>
                  <p:nvGrpSpPr>
                    <p:cNvPr id="204" name="Group 159"/>
                    <p:cNvGrpSpPr/>
                    <p:nvPr/>
                  </p:nvGrpSpPr>
                  <p:grpSpPr>
                    <a:xfrm>
                      <a:off x="6045120" y="5867280"/>
                      <a:ext cx="1117800" cy="558720"/>
                      <a:chOff x="6045120" y="5867280"/>
                      <a:chExt cx="1117800" cy="558720"/>
                    </a:xfrm>
                  </p:grpSpPr>
                  <p:sp>
                    <p:nvSpPr>
                      <p:cNvPr id="205" name="Freeform 157"/>
                      <p:cNvSpPr/>
                      <p:nvPr/>
                    </p:nvSpPr>
                    <p:spPr>
                      <a:xfrm>
                        <a:off x="604512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Freeform 158"/>
                      <p:cNvSpPr/>
                      <p:nvPr/>
                    </p:nvSpPr>
                    <p:spPr>
                      <a:xfrm>
                        <a:off x="660384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07" name="Group 162"/>
                    <p:cNvGrpSpPr/>
                    <p:nvPr/>
                  </p:nvGrpSpPr>
                  <p:grpSpPr>
                    <a:xfrm>
                      <a:off x="7162560" y="5867280"/>
                      <a:ext cx="1117800" cy="558720"/>
                      <a:chOff x="7162560" y="5867280"/>
                      <a:chExt cx="1117800" cy="558720"/>
                    </a:xfrm>
                  </p:grpSpPr>
                  <p:sp>
                    <p:nvSpPr>
                      <p:cNvPr id="208" name="Freeform 160"/>
                      <p:cNvSpPr/>
                      <p:nvPr/>
                    </p:nvSpPr>
                    <p:spPr>
                      <a:xfrm>
                        <a:off x="716256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9" name="Freeform 161"/>
                      <p:cNvSpPr/>
                      <p:nvPr/>
                    </p:nvSpPr>
                    <p:spPr>
                      <a:xfrm>
                        <a:off x="772128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sp>
          <p:nvSpPr>
            <p:cNvPr id="210" name="TextBox 167"/>
            <p:cNvSpPr/>
            <p:nvPr/>
          </p:nvSpPr>
          <p:spPr>
            <a:xfrm>
              <a:off x="1587240" y="422892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esign 1</a:t>
              </a:r>
              <a:endParaRPr b="0" lang="en-US" sz="1600" spc="-1" strike="noStrike">
                <a:solidFill>
                  <a:srgbClr val="000000"/>
                </a:solidFill>
                <a:latin typeface="Calibri"/>
              </a:endParaRPr>
            </a:p>
          </p:txBody>
        </p:sp>
        <p:sp>
          <p:nvSpPr>
            <p:cNvPr id="211" name="TextBox 168"/>
            <p:cNvSpPr/>
            <p:nvPr/>
          </p:nvSpPr>
          <p:spPr>
            <a:xfrm>
              <a:off x="5829120" y="42163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esign 2</a:t>
              </a:r>
              <a:endParaRPr b="0" lang="en-US" sz="1600" spc="-1" strike="noStrike">
                <a:solidFill>
                  <a:srgbClr val="000000"/>
                </a:solidFill>
                <a:latin typeface="Calibri"/>
              </a:endParaRPr>
            </a:p>
          </p:txBody>
        </p:sp>
        <p:sp>
          <p:nvSpPr>
            <p:cNvPr id="212" name="TextBox 169"/>
            <p:cNvSpPr/>
            <p:nvPr/>
          </p:nvSpPr>
          <p:spPr>
            <a:xfrm>
              <a:off x="4597200" y="648936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esign 3</a:t>
              </a:r>
              <a:endParaRPr b="0" lang="en-US" sz="1600" spc="-1" strike="noStrike">
                <a:solidFill>
                  <a:srgbClr val="000000"/>
                </a:solidFill>
                <a:latin typeface="Calibri"/>
              </a:endParaRPr>
            </a:p>
          </p:txBody>
        </p:sp>
      </p:grpSp>
      <p:sp>
        <p:nvSpPr>
          <p:cNvPr id="213" name="TextBox 171"/>
          <p:cNvSpPr/>
          <p:nvPr/>
        </p:nvSpPr>
        <p:spPr>
          <a:xfrm>
            <a:off x="50760" y="139680"/>
            <a:ext cx="729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ff"/>
                </a:solidFill>
                <a:uFillTx/>
                <a:latin typeface="Comic Sans MS - 28"/>
              </a:rPr>
              <a:t>Ex 1: Describe a Pattern Using a Vari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Box 1"/>
          <p:cNvSpPr/>
          <p:nvPr/>
        </p:nvSpPr>
        <p:spPr>
          <a:xfrm>
            <a:off x="101520" y="38160"/>
            <a:ext cx="10211040" cy="641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a:t>
            </a:r>
            <a:r>
              <a:rPr b="0" lang="en-CA" sz="2300" spc="-1" strike="noStrike">
                <a:solidFill>
                  <a:srgbClr val="0000ff"/>
                </a:solidFill>
                <a:latin typeface="Comic Sans MS - 24"/>
              </a:rPr>
              <a:t>Patterns can be shown by listing the ordered pairs in a table of values or by plotting the ordered pairs on a 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Patterns can be described in several way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i="1" lang="en-US" sz="2300" spc="-1" strike="noStrike">
                <a:solidFill>
                  <a:srgbClr val="0000ff"/>
                </a:solidFill>
                <a:latin typeface="Comic Sans MS - 24"/>
              </a:rPr>
              <a:t>Words:</a:t>
            </a:r>
            <a:r>
              <a:rPr b="0" lang="en-US" sz="2300" spc="-1" strike="noStrike">
                <a:solidFill>
                  <a:srgbClr val="0000ff"/>
                </a:solidFill>
                <a:latin typeface="Comic Sans MS - 24"/>
              </a:rPr>
              <a:t>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CA" sz="2300" spc="-1" strike="noStrike">
                <a:solidFill>
                  <a:srgbClr val="0000ff"/>
                </a:solidFill>
                <a:latin typeface="Comic Sans MS - 24"/>
              </a:rPr>
              <a:t>The pattern forms a straight line, starting at (0, 0).</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Each </a:t>
            </a:r>
            <a:r>
              <a:rPr b="0" i="1" lang="en-US" sz="2300" spc="-1" strike="noStrike">
                <a:solidFill>
                  <a:srgbClr val="0000ff"/>
                </a:solidFill>
                <a:latin typeface="Comic Sans MS - 24"/>
              </a:rPr>
              <a:t>y</a:t>
            </a:r>
            <a:r>
              <a:rPr b="0" lang="en-CA" sz="2300" spc="-1" strike="noStrike">
                <a:solidFill>
                  <a:srgbClr val="0000ff"/>
                </a:solidFill>
                <a:latin typeface="Comic Sans MS - 24"/>
              </a:rPr>
              <a:t>-coordinate is the same as its </a:t>
            </a:r>
            <a:r>
              <a:rPr b="0" i="1" lang="en-CA" sz="2300" spc="-1" strike="noStrike">
                <a:solidFill>
                  <a:srgbClr val="0000ff"/>
                </a:solidFill>
                <a:latin typeface="Comic Sans MS - 24"/>
              </a:rPr>
              <a:t>x</a:t>
            </a:r>
            <a:r>
              <a:rPr b="0" lang="en-CA" sz="2300" spc="-1" strike="noStrike">
                <a:solidFill>
                  <a:srgbClr val="0000ff"/>
                </a:solidFill>
                <a:latin typeface="Comic Sans MS - 24"/>
              </a:rPr>
              <a:t>-coordinat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i="1" lang="en-US" sz="2300" spc="-1" strike="noStrike">
                <a:solidFill>
                  <a:srgbClr val="0000ff"/>
                </a:solidFill>
                <a:latin typeface="Comic Sans MS - 24"/>
              </a:rPr>
              <a:t>Horizontal and Vertical Distanc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ff"/>
                </a:solidFill>
                <a:latin typeface="Comic Sans MS - 24"/>
              </a:rPr>
              <a:t>	</a:t>
            </a:r>
            <a:r>
              <a:rPr b="0" lang="en-CA" sz="2300" spc="-1" strike="noStrike">
                <a:solidFill>
                  <a:srgbClr val="0000ff"/>
                </a:solidFill>
                <a:latin typeface="Comic Sans MS - 24"/>
              </a:rPr>
              <a:t>The points increase by 1 unit to the right, then 1 unit up, starting </a:t>
            </a:r>
            <a:r>
              <a:rPr b="0" lang="en-CA" sz="2300" spc="-1" strike="noStrike">
                <a:solidFill>
                  <a:srgbClr val="0000ff"/>
                </a:solidFill>
                <a:latin typeface="Comic Sans MS - 24"/>
              </a:rPr>
              <a:t>	</a:t>
            </a:r>
            <a:r>
              <a:rPr b="0" lang="en-CA" sz="2300" spc="-1" strike="noStrike">
                <a:solidFill>
                  <a:srgbClr val="0000ff"/>
                </a:solidFill>
                <a:latin typeface="Comic Sans MS - 24"/>
              </a:rPr>
              <a:t>at (0, 0).</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i="1" lang="en-US" sz="2300" spc="-1" strike="noStrike">
                <a:solidFill>
                  <a:srgbClr val="0000ff"/>
                </a:solidFill>
                <a:latin typeface="Comic Sans MS - 24"/>
              </a:rPr>
              <a:t>Relationshi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ff"/>
                </a:solidFill>
                <a:latin typeface="Comic Sans MS - 24"/>
              </a:rPr>
              <a:t>	</a:t>
            </a:r>
            <a:r>
              <a:rPr b="0" lang="en-CA" sz="2300" spc="-1" strike="noStrike">
                <a:solidFill>
                  <a:srgbClr val="0000ff"/>
                </a:solidFill>
                <a:latin typeface="Comic Sans MS - 24"/>
              </a:rPr>
              <a:t>The coordinates of the points are (</a:t>
            </a:r>
            <a:r>
              <a:rPr b="0" i="1" lang="en-CA" sz="2300" spc="-1" strike="noStrike">
                <a:solidFill>
                  <a:srgbClr val="0000ff"/>
                </a:solidFill>
                <a:latin typeface="Comic Sans MS - 24"/>
              </a:rPr>
              <a:t>x, y</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CA" sz="2300" spc="-1" strike="noStrike">
                <a:solidFill>
                  <a:srgbClr val="0000ff"/>
                </a:solidFill>
                <a:latin typeface="Comic Sans MS - 24"/>
              </a:rPr>
              <a:t>The relationship is linear and can be expressed as (</a:t>
            </a:r>
            <a:r>
              <a:rPr b="0" i="1" lang="en-CA" sz="2300" spc="-1" strike="noStrike">
                <a:solidFill>
                  <a:srgbClr val="0000ff"/>
                </a:solidFill>
                <a:latin typeface="Comic Sans MS - 24"/>
              </a:rPr>
              <a:t>x, x</a:t>
            </a:r>
            <a:r>
              <a:rPr b="0" lang="en-CA" sz="2300" spc="-1" strike="noStrike">
                <a:solidFill>
                  <a:srgbClr val="0000ff"/>
                </a:solidFill>
                <a:latin typeface="Comic Sans MS - 24"/>
              </a:rPr>
              <a:t>) or </a:t>
            </a:r>
            <a:r>
              <a:rPr b="0" i="1" lang="en-CA" sz="2300" spc="-1" strike="noStrike">
                <a:solidFill>
                  <a:srgbClr val="0000ff"/>
                </a:solidFill>
                <a:latin typeface="Comic Sans MS - 24"/>
              </a:rPr>
              <a:t>y</a:t>
            </a:r>
            <a:r>
              <a:rPr b="0" lang="en-CA" sz="2300" spc="-1" strike="noStrike">
                <a:solidFill>
                  <a:srgbClr val="0000ff"/>
                </a:solidFill>
                <a:latin typeface="Comic Sans MS - 24"/>
              </a:rPr>
              <a:t> = </a:t>
            </a:r>
            <a:r>
              <a:rPr b="0" i="1" lang="en-CA" sz="2300" spc="-1" strike="noStrike">
                <a:solidFill>
                  <a:srgbClr val="0000ff"/>
                </a:solidFill>
                <a:latin typeface="Comic Sans MS - 24"/>
              </a:rPr>
              <a:t>x</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use patterns in graphs to solve problem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Box 1"/>
          <p:cNvSpPr/>
          <p:nvPr/>
        </p:nvSpPr>
        <p:spPr>
          <a:xfrm>
            <a:off x="152280" y="139680"/>
            <a:ext cx="563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 24"/>
              </a:rPr>
              <a:t>Assign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 24"/>
              </a:rPr>
              <a:t>p</a:t>
            </a:r>
            <a:r>
              <a:rPr b="1" lang="en-US" sz="2400" spc="-1" strike="noStrike">
                <a:solidFill>
                  <a:srgbClr val="0000ff"/>
                </a:solidFill>
                <a:latin typeface="Comic Sans MS - 24"/>
              </a:rPr>
              <a:t>. 378, #</a:t>
            </a:r>
            <a:r>
              <a:rPr b="0" lang="en-CA" sz="2400" spc="-1" strike="noStrike">
                <a:solidFill>
                  <a:srgbClr val="0000ff"/>
                </a:solidFill>
                <a:latin typeface="Comic Sans MS - 24"/>
              </a:rPr>
              <a:t>1, 2, 3, 5, 7–10, Math Lin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S</a:t>
            </a:r>
            <a:r>
              <a:rPr b="1" lang="en-US" sz="2400" spc="-1" strike="noStrike">
                <a:solidFill>
                  <a:srgbClr val="0000ff"/>
                </a:solidFill>
                <a:latin typeface="Comic Sans MS - 24"/>
              </a:rPr>
              <a:t>till Good? #</a:t>
            </a:r>
            <a:r>
              <a:rPr b="0" lang="en-US" sz="2400" spc="-1" strike="noStrike">
                <a:solidFill>
                  <a:srgbClr val="0000ff"/>
                </a:solidFill>
                <a:latin typeface="Comic Sans MS - 24"/>
              </a:rPr>
              <a:t>11–1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P</a:t>
            </a:r>
            <a:r>
              <a:rPr b="1" lang="en-US" sz="2400" spc="-1" strike="noStrike">
                <a:solidFill>
                  <a:srgbClr val="0000ff"/>
                </a:solidFill>
                <a:latin typeface="Comic Sans MS - 24"/>
              </a:rPr>
              <a:t>roStar? #</a:t>
            </a:r>
            <a:r>
              <a:rPr b="0" lang="en-US" sz="2400" spc="-1" strike="noStrike">
                <a:solidFill>
                  <a:srgbClr val="0000ff"/>
                </a:solidFill>
                <a:latin typeface="Comic Sans MS - 24"/>
              </a:rPr>
              <a:t>14–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699"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Group 145"/>
          <p:cNvGrpSpPr/>
          <p:nvPr/>
        </p:nvGrpSpPr>
        <p:grpSpPr>
          <a:xfrm>
            <a:off x="5823000" y="303120"/>
            <a:ext cx="3771720" cy="2261520"/>
            <a:chOff x="5823000" y="303120"/>
            <a:chExt cx="3771720" cy="2261520"/>
          </a:xfrm>
        </p:grpSpPr>
        <p:grpSp>
          <p:nvGrpSpPr>
            <p:cNvPr id="215" name="Group 23"/>
            <p:cNvGrpSpPr/>
            <p:nvPr/>
          </p:nvGrpSpPr>
          <p:grpSpPr>
            <a:xfrm>
              <a:off x="5823000" y="303120"/>
              <a:ext cx="1112040" cy="789120"/>
              <a:chOff x="5823000" y="303120"/>
              <a:chExt cx="1112040" cy="789120"/>
            </a:xfrm>
          </p:grpSpPr>
          <p:grpSp>
            <p:nvGrpSpPr>
              <p:cNvPr id="216" name="Group 15"/>
              <p:cNvGrpSpPr/>
              <p:nvPr/>
            </p:nvGrpSpPr>
            <p:grpSpPr>
              <a:xfrm>
                <a:off x="5823000" y="303120"/>
                <a:ext cx="1112040" cy="530280"/>
                <a:chOff x="5823000" y="303120"/>
                <a:chExt cx="1112040" cy="530280"/>
              </a:xfrm>
            </p:grpSpPr>
            <p:grpSp>
              <p:nvGrpSpPr>
                <p:cNvPr id="217" name="Group 7"/>
                <p:cNvGrpSpPr/>
                <p:nvPr/>
              </p:nvGrpSpPr>
              <p:grpSpPr>
                <a:xfrm>
                  <a:off x="5823000" y="303120"/>
                  <a:ext cx="1112040" cy="265320"/>
                  <a:chOff x="5823000" y="303120"/>
                  <a:chExt cx="1112040" cy="265320"/>
                </a:xfrm>
              </p:grpSpPr>
              <p:grpSp>
                <p:nvGrpSpPr>
                  <p:cNvPr id="218" name="Group 3"/>
                  <p:cNvGrpSpPr/>
                  <p:nvPr/>
                </p:nvGrpSpPr>
                <p:grpSpPr>
                  <a:xfrm>
                    <a:off x="5823000" y="303120"/>
                    <a:ext cx="555840" cy="265320"/>
                    <a:chOff x="5823000" y="303120"/>
                    <a:chExt cx="555840" cy="265320"/>
                  </a:xfrm>
                </p:grpSpPr>
                <p:sp>
                  <p:nvSpPr>
                    <p:cNvPr id="219" name="Freeform 1"/>
                    <p:cNvSpPr/>
                    <p:nvPr/>
                  </p:nvSpPr>
                  <p:spPr>
                    <a:xfrm>
                      <a:off x="582300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 name="Freeform 2"/>
                    <p:cNvSpPr/>
                    <p:nvPr/>
                  </p:nvSpPr>
                  <p:spPr>
                    <a:xfrm>
                      <a:off x="610092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8" h="265049">
                          <a:moveTo>
                            <a:pt x="0" y="0"/>
                          </a:moveTo>
                          <a:lnTo>
                            <a:pt x="277877" y="0"/>
                          </a:lnTo>
                          <a:lnTo>
                            <a:pt x="277877"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21" name="Group 6"/>
                  <p:cNvGrpSpPr/>
                  <p:nvPr/>
                </p:nvGrpSpPr>
                <p:grpSpPr>
                  <a:xfrm>
                    <a:off x="6378840" y="303120"/>
                    <a:ext cx="556200" cy="265320"/>
                    <a:chOff x="6378840" y="303120"/>
                    <a:chExt cx="556200" cy="265320"/>
                  </a:xfrm>
                </p:grpSpPr>
                <p:sp>
                  <p:nvSpPr>
                    <p:cNvPr id="222" name="Freeform 4"/>
                    <p:cNvSpPr/>
                    <p:nvPr/>
                  </p:nvSpPr>
                  <p:spPr>
                    <a:xfrm>
                      <a:off x="6378840" y="30312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Freeform 5"/>
                    <p:cNvSpPr/>
                    <p:nvPr/>
                  </p:nvSpPr>
                  <p:spPr>
                    <a:xfrm>
                      <a:off x="6656760" y="30312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24" name="Group 14"/>
                <p:cNvGrpSpPr/>
                <p:nvPr/>
              </p:nvGrpSpPr>
              <p:grpSpPr>
                <a:xfrm>
                  <a:off x="5823000" y="568080"/>
                  <a:ext cx="1112040" cy="265320"/>
                  <a:chOff x="5823000" y="568080"/>
                  <a:chExt cx="1112040" cy="265320"/>
                </a:xfrm>
              </p:grpSpPr>
              <p:grpSp>
                <p:nvGrpSpPr>
                  <p:cNvPr id="225" name="Group 10"/>
                  <p:cNvGrpSpPr/>
                  <p:nvPr/>
                </p:nvGrpSpPr>
                <p:grpSpPr>
                  <a:xfrm>
                    <a:off x="5823000" y="568080"/>
                    <a:ext cx="555840" cy="265320"/>
                    <a:chOff x="5823000" y="568080"/>
                    <a:chExt cx="555840" cy="265320"/>
                  </a:xfrm>
                </p:grpSpPr>
                <p:sp>
                  <p:nvSpPr>
                    <p:cNvPr id="226" name="Freeform 8"/>
                    <p:cNvSpPr/>
                    <p:nvPr/>
                  </p:nvSpPr>
                  <p:spPr>
                    <a:xfrm>
                      <a:off x="582300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0">
                          <a:moveTo>
                            <a:pt x="0" y="0"/>
                          </a:moveTo>
                          <a:lnTo>
                            <a:pt x="278002" y="0"/>
                          </a:lnTo>
                          <a:lnTo>
                            <a:pt x="278002"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Freeform 9"/>
                    <p:cNvSpPr/>
                    <p:nvPr/>
                  </p:nvSpPr>
                  <p:spPr>
                    <a:xfrm>
                      <a:off x="610092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8" h="265050">
                          <a:moveTo>
                            <a:pt x="0" y="0"/>
                          </a:moveTo>
                          <a:lnTo>
                            <a:pt x="277877" y="0"/>
                          </a:lnTo>
                          <a:lnTo>
                            <a:pt x="277877"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28" name="Group 13"/>
                  <p:cNvGrpSpPr/>
                  <p:nvPr/>
                </p:nvGrpSpPr>
                <p:grpSpPr>
                  <a:xfrm>
                    <a:off x="6378840" y="568080"/>
                    <a:ext cx="556200" cy="265320"/>
                    <a:chOff x="6378840" y="568080"/>
                    <a:chExt cx="556200" cy="265320"/>
                  </a:xfrm>
                </p:grpSpPr>
                <p:sp>
                  <p:nvSpPr>
                    <p:cNvPr id="229" name="Freeform 11"/>
                    <p:cNvSpPr/>
                    <p:nvPr/>
                  </p:nvSpPr>
                  <p:spPr>
                    <a:xfrm>
                      <a:off x="6378840" y="56808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50">
                          <a:moveTo>
                            <a:pt x="0" y="0"/>
                          </a:moveTo>
                          <a:lnTo>
                            <a:pt x="278003" y="0"/>
                          </a:lnTo>
                          <a:lnTo>
                            <a:pt x="278003"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0" name="Freeform 12"/>
                    <p:cNvSpPr/>
                    <p:nvPr/>
                  </p:nvSpPr>
                  <p:spPr>
                    <a:xfrm>
                      <a:off x="6656760" y="56808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50">
                          <a:moveTo>
                            <a:pt x="0" y="0"/>
                          </a:moveTo>
                          <a:lnTo>
                            <a:pt x="278003" y="0"/>
                          </a:lnTo>
                          <a:lnTo>
                            <a:pt x="278003"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31" name="Group 22"/>
              <p:cNvGrpSpPr/>
              <p:nvPr/>
            </p:nvGrpSpPr>
            <p:grpSpPr>
              <a:xfrm>
                <a:off x="5823000" y="827280"/>
                <a:ext cx="1112040" cy="264960"/>
                <a:chOff x="5823000" y="827280"/>
                <a:chExt cx="1112040" cy="264960"/>
              </a:xfrm>
            </p:grpSpPr>
            <p:grpSp>
              <p:nvGrpSpPr>
                <p:cNvPr id="232" name="Group 18"/>
                <p:cNvGrpSpPr/>
                <p:nvPr/>
              </p:nvGrpSpPr>
              <p:grpSpPr>
                <a:xfrm>
                  <a:off x="5823000" y="827280"/>
                  <a:ext cx="555840" cy="264960"/>
                  <a:chOff x="5823000" y="827280"/>
                  <a:chExt cx="555840" cy="264960"/>
                </a:xfrm>
              </p:grpSpPr>
              <p:sp>
                <p:nvSpPr>
                  <p:cNvPr id="233" name="Freeform 16"/>
                  <p:cNvSpPr/>
                  <p:nvPr/>
                </p:nvSpPr>
                <p:spPr>
                  <a:xfrm>
                    <a:off x="582300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4" name="Freeform 17"/>
                  <p:cNvSpPr/>
                  <p:nvPr/>
                </p:nvSpPr>
                <p:spPr>
                  <a:xfrm>
                    <a:off x="610092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8" h="265049">
                        <a:moveTo>
                          <a:pt x="0" y="0"/>
                        </a:moveTo>
                        <a:lnTo>
                          <a:pt x="277877" y="0"/>
                        </a:lnTo>
                        <a:lnTo>
                          <a:pt x="277877"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35" name="Group 21"/>
                <p:cNvGrpSpPr/>
                <p:nvPr/>
              </p:nvGrpSpPr>
              <p:grpSpPr>
                <a:xfrm>
                  <a:off x="6378840" y="827280"/>
                  <a:ext cx="556200" cy="264960"/>
                  <a:chOff x="6378840" y="827280"/>
                  <a:chExt cx="556200" cy="264960"/>
                </a:xfrm>
              </p:grpSpPr>
              <p:sp>
                <p:nvSpPr>
                  <p:cNvPr id="236" name="Freeform 19"/>
                  <p:cNvSpPr/>
                  <p:nvPr/>
                </p:nvSpPr>
                <p:spPr>
                  <a:xfrm>
                    <a:off x="6378840" y="82728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Freeform 20"/>
                  <p:cNvSpPr/>
                  <p:nvPr/>
                </p:nvSpPr>
                <p:spPr>
                  <a:xfrm>
                    <a:off x="6656760" y="82728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38" name="Group 70"/>
            <p:cNvGrpSpPr/>
            <p:nvPr/>
          </p:nvGrpSpPr>
          <p:grpSpPr>
            <a:xfrm>
              <a:off x="7371000" y="303120"/>
              <a:ext cx="2223720" cy="789120"/>
              <a:chOff x="7371000" y="303120"/>
              <a:chExt cx="2223720" cy="789120"/>
            </a:xfrm>
          </p:grpSpPr>
          <p:grpSp>
            <p:nvGrpSpPr>
              <p:cNvPr id="239" name="Group 46"/>
              <p:cNvGrpSpPr/>
              <p:nvPr/>
            </p:nvGrpSpPr>
            <p:grpSpPr>
              <a:xfrm>
                <a:off x="7371000" y="303120"/>
                <a:ext cx="1111680" cy="789120"/>
                <a:chOff x="7371000" y="303120"/>
                <a:chExt cx="1111680" cy="789120"/>
              </a:xfrm>
            </p:grpSpPr>
            <p:grpSp>
              <p:nvGrpSpPr>
                <p:cNvPr id="240" name="Group 38"/>
                <p:cNvGrpSpPr/>
                <p:nvPr/>
              </p:nvGrpSpPr>
              <p:grpSpPr>
                <a:xfrm>
                  <a:off x="7371000" y="303120"/>
                  <a:ext cx="1111680" cy="530280"/>
                  <a:chOff x="7371000" y="303120"/>
                  <a:chExt cx="1111680" cy="530280"/>
                </a:xfrm>
              </p:grpSpPr>
              <p:grpSp>
                <p:nvGrpSpPr>
                  <p:cNvPr id="241" name="Group 30"/>
                  <p:cNvGrpSpPr/>
                  <p:nvPr/>
                </p:nvGrpSpPr>
                <p:grpSpPr>
                  <a:xfrm>
                    <a:off x="7371000" y="303120"/>
                    <a:ext cx="1111680" cy="265320"/>
                    <a:chOff x="7371000" y="303120"/>
                    <a:chExt cx="1111680" cy="265320"/>
                  </a:xfrm>
                </p:grpSpPr>
                <p:grpSp>
                  <p:nvGrpSpPr>
                    <p:cNvPr id="242" name="Group 26"/>
                    <p:cNvGrpSpPr/>
                    <p:nvPr/>
                  </p:nvGrpSpPr>
                  <p:grpSpPr>
                    <a:xfrm>
                      <a:off x="7371000" y="303120"/>
                      <a:ext cx="555840" cy="265320"/>
                      <a:chOff x="7371000" y="303120"/>
                      <a:chExt cx="555840" cy="265320"/>
                    </a:xfrm>
                  </p:grpSpPr>
                  <p:sp>
                    <p:nvSpPr>
                      <p:cNvPr id="243" name="Freeform 24"/>
                      <p:cNvSpPr/>
                      <p:nvPr/>
                    </p:nvSpPr>
                    <p:spPr>
                      <a:xfrm>
                        <a:off x="737100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4" name="Freeform 25"/>
                      <p:cNvSpPr/>
                      <p:nvPr/>
                    </p:nvSpPr>
                    <p:spPr>
                      <a:xfrm>
                        <a:off x="764892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45" name="Group 29"/>
                    <p:cNvGrpSpPr/>
                    <p:nvPr/>
                  </p:nvGrpSpPr>
                  <p:grpSpPr>
                    <a:xfrm>
                      <a:off x="7926840" y="303120"/>
                      <a:ext cx="555840" cy="265320"/>
                      <a:chOff x="7926840" y="303120"/>
                      <a:chExt cx="555840" cy="265320"/>
                    </a:xfrm>
                  </p:grpSpPr>
                  <p:sp>
                    <p:nvSpPr>
                      <p:cNvPr id="246" name="Freeform 27"/>
                      <p:cNvSpPr/>
                      <p:nvPr/>
                    </p:nvSpPr>
                    <p:spPr>
                      <a:xfrm>
                        <a:off x="792684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7" name="Freeform 28"/>
                      <p:cNvSpPr/>
                      <p:nvPr/>
                    </p:nvSpPr>
                    <p:spPr>
                      <a:xfrm>
                        <a:off x="820476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48" name="Group 37"/>
                  <p:cNvGrpSpPr/>
                  <p:nvPr/>
                </p:nvGrpSpPr>
                <p:grpSpPr>
                  <a:xfrm>
                    <a:off x="7371000" y="568080"/>
                    <a:ext cx="1111680" cy="265320"/>
                    <a:chOff x="7371000" y="568080"/>
                    <a:chExt cx="1111680" cy="265320"/>
                  </a:xfrm>
                </p:grpSpPr>
                <p:grpSp>
                  <p:nvGrpSpPr>
                    <p:cNvPr id="249" name="Group 33"/>
                    <p:cNvGrpSpPr/>
                    <p:nvPr/>
                  </p:nvGrpSpPr>
                  <p:grpSpPr>
                    <a:xfrm>
                      <a:off x="7371000" y="568080"/>
                      <a:ext cx="555840" cy="265320"/>
                      <a:chOff x="7371000" y="568080"/>
                      <a:chExt cx="555840" cy="265320"/>
                    </a:xfrm>
                  </p:grpSpPr>
                  <p:sp>
                    <p:nvSpPr>
                      <p:cNvPr id="250" name="Freeform 31"/>
                      <p:cNvSpPr/>
                      <p:nvPr/>
                    </p:nvSpPr>
                    <p:spPr>
                      <a:xfrm>
                        <a:off x="737100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50">
                            <a:moveTo>
                              <a:pt x="0" y="0"/>
                            </a:moveTo>
                            <a:lnTo>
                              <a:pt x="278003" y="0"/>
                            </a:lnTo>
                            <a:lnTo>
                              <a:pt x="278003"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1" name="Freeform 32"/>
                      <p:cNvSpPr/>
                      <p:nvPr/>
                    </p:nvSpPr>
                    <p:spPr>
                      <a:xfrm>
                        <a:off x="764892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52" name="Group 36"/>
                    <p:cNvGrpSpPr/>
                    <p:nvPr/>
                  </p:nvGrpSpPr>
                  <p:grpSpPr>
                    <a:xfrm>
                      <a:off x="7926840" y="568080"/>
                      <a:ext cx="555840" cy="265320"/>
                      <a:chOff x="7926840" y="568080"/>
                      <a:chExt cx="555840" cy="265320"/>
                    </a:xfrm>
                  </p:grpSpPr>
                  <p:sp>
                    <p:nvSpPr>
                      <p:cNvPr id="253" name="Freeform 34"/>
                      <p:cNvSpPr/>
                      <p:nvPr/>
                    </p:nvSpPr>
                    <p:spPr>
                      <a:xfrm>
                        <a:off x="792684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50">
                            <a:moveTo>
                              <a:pt x="0" y="0"/>
                            </a:moveTo>
                            <a:lnTo>
                              <a:pt x="278004" y="0"/>
                            </a:lnTo>
                            <a:lnTo>
                              <a:pt x="278004"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Freeform 35"/>
                      <p:cNvSpPr/>
                      <p:nvPr/>
                    </p:nvSpPr>
                    <p:spPr>
                      <a:xfrm>
                        <a:off x="820476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55" name="Group 45"/>
                <p:cNvGrpSpPr/>
                <p:nvPr/>
              </p:nvGrpSpPr>
              <p:grpSpPr>
                <a:xfrm>
                  <a:off x="7371000" y="827280"/>
                  <a:ext cx="1111680" cy="264960"/>
                  <a:chOff x="7371000" y="827280"/>
                  <a:chExt cx="1111680" cy="264960"/>
                </a:xfrm>
              </p:grpSpPr>
              <p:grpSp>
                <p:nvGrpSpPr>
                  <p:cNvPr id="256" name="Group 41"/>
                  <p:cNvGrpSpPr/>
                  <p:nvPr/>
                </p:nvGrpSpPr>
                <p:grpSpPr>
                  <a:xfrm>
                    <a:off x="7371000" y="827280"/>
                    <a:ext cx="555840" cy="264960"/>
                    <a:chOff x="7371000" y="827280"/>
                    <a:chExt cx="555840" cy="264960"/>
                  </a:xfrm>
                </p:grpSpPr>
                <p:sp>
                  <p:nvSpPr>
                    <p:cNvPr id="257" name="Freeform 39"/>
                    <p:cNvSpPr/>
                    <p:nvPr/>
                  </p:nvSpPr>
                  <p:spPr>
                    <a:xfrm>
                      <a:off x="737100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Freeform 40"/>
                    <p:cNvSpPr/>
                    <p:nvPr/>
                  </p:nvSpPr>
                  <p:spPr>
                    <a:xfrm>
                      <a:off x="764892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59" name="Group 44"/>
                  <p:cNvGrpSpPr/>
                  <p:nvPr/>
                </p:nvGrpSpPr>
                <p:grpSpPr>
                  <a:xfrm>
                    <a:off x="7926840" y="827280"/>
                    <a:ext cx="555840" cy="264960"/>
                    <a:chOff x="7926840" y="827280"/>
                    <a:chExt cx="555840" cy="264960"/>
                  </a:xfrm>
                </p:grpSpPr>
                <p:sp>
                  <p:nvSpPr>
                    <p:cNvPr id="260" name="Freeform 42"/>
                    <p:cNvSpPr/>
                    <p:nvPr/>
                  </p:nvSpPr>
                  <p:spPr>
                    <a:xfrm>
                      <a:off x="792684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Freeform 43"/>
                    <p:cNvSpPr/>
                    <p:nvPr/>
                  </p:nvSpPr>
                  <p:spPr>
                    <a:xfrm>
                      <a:off x="820476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62" name="Group 69"/>
              <p:cNvGrpSpPr/>
              <p:nvPr/>
            </p:nvGrpSpPr>
            <p:grpSpPr>
              <a:xfrm>
                <a:off x="8483040" y="303120"/>
                <a:ext cx="1111680" cy="789120"/>
                <a:chOff x="8483040" y="303120"/>
                <a:chExt cx="1111680" cy="789120"/>
              </a:xfrm>
            </p:grpSpPr>
            <p:grpSp>
              <p:nvGrpSpPr>
                <p:cNvPr id="263" name="Group 61"/>
                <p:cNvGrpSpPr/>
                <p:nvPr/>
              </p:nvGrpSpPr>
              <p:grpSpPr>
                <a:xfrm>
                  <a:off x="8483040" y="303120"/>
                  <a:ext cx="1111680" cy="530280"/>
                  <a:chOff x="8483040" y="303120"/>
                  <a:chExt cx="1111680" cy="530280"/>
                </a:xfrm>
              </p:grpSpPr>
              <p:grpSp>
                <p:nvGrpSpPr>
                  <p:cNvPr id="264" name="Group 53"/>
                  <p:cNvGrpSpPr/>
                  <p:nvPr/>
                </p:nvGrpSpPr>
                <p:grpSpPr>
                  <a:xfrm>
                    <a:off x="8483040" y="303120"/>
                    <a:ext cx="1111680" cy="265320"/>
                    <a:chOff x="8483040" y="303120"/>
                    <a:chExt cx="1111680" cy="265320"/>
                  </a:xfrm>
                </p:grpSpPr>
                <p:grpSp>
                  <p:nvGrpSpPr>
                    <p:cNvPr id="265" name="Group 49"/>
                    <p:cNvGrpSpPr/>
                    <p:nvPr/>
                  </p:nvGrpSpPr>
                  <p:grpSpPr>
                    <a:xfrm>
                      <a:off x="8483040" y="303120"/>
                      <a:ext cx="555840" cy="265320"/>
                      <a:chOff x="8483040" y="303120"/>
                      <a:chExt cx="555840" cy="265320"/>
                    </a:xfrm>
                  </p:grpSpPr>
                  <p:sp>
                    <p:nvSpPr>
                      <p:cNvPr id="266" name="Freeform 47"/>
                      <p:cNvSpPr/>
                      <p:nvPr/>
                    </p:nvSpPr>
                    <p:spPr>
                      <a:xfrm>
                        <a:off x="848304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Freeform 48"/>
                      <p:cNvSpPr/>
                      <p:nvPr/>
                    </p:nvSpPr>
                    <p:spPr>
                      <a:xfrm>
                        <a:off x="876096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68" name="Group 52"/>
                    <p:cNvGrpSpPr/>
                    <p:nvPr/>
                  </p:nvGrpSpPr>
                  <p:grpSpPr>
                    <a:xfrm>
                      <a:off x="9038880" y="303120"/>
                      <a:ext cx="555840" cy="265320"/>
                      <a:chOff x="9038880" y="303120"/>
                      <a:chExt cx="555840" cy="265320"/>
                    </a:xfrm>
                  </p:grpSpPr>
                  <p:sp>
                    <p:nvSpPr>
                      <p:cNvPr id="269" name="Freeform 50"/>
                      <p:cNvSpPr/>
                      <p:nvPr/>
                    </p:nvSpPr>
                    <p:spPr>
                      <a:xfrm>
                        <a:off x="903888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Freeform 51"/>
                      <p:cNvSpPr/>
                      <p:nvPr/>
                    </p:nvSpPr>
                    <p:spPr>
                      <a:xfrm>
                        <a:off x="931680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71" name="Group 60"/>
                  <p:cNvGrpSpPr/>
                  <p:nvPr/>
                </p:nvGrpSpPr>
                <p:grpSpPr>
                  <a:xfrm>
                    <a:off x="8483040" y="568080"/>
                    <a:ext cx="1111680" cy="265320"/>
                    <a:chOff x="8483040" y="568080"/>
                    <a:chExt cx="1111680" cy="265320"/>
                  </a:xfrm>
                </p:grpSpPr>
                <p:grpSp>
                  <p:nvGrpSpPr>
                    <p:cNvPr id="272" name="Group 56"/>
                    <p:cNvGrpSpPr/>
                    <p:nvPr/>
                  </p:nvGrpSpPr>
                  <p:grpSpPr>
                    <a:xfrm>
                      <a:off x="8483040" y="568080"/>
                      <a:ext cx="555840" cy="265320"/>
                      <a:chOff x="8483040" y="568080"/>
                      <a:chExt cx="555840" cy="265320"/>
                    </a:xfrm>
                  </p:grpSpPr>
                  <p:sp>
                    <p:nvSpPr>
                      <p:cNvPr id="273" name="Freeform 54"/>
                      <p:cNvSpPr/>
                      <p:nvPr/>
                    </p:nvSpPr>
                    <p:spPr>
                      <a:xfrm>
                        <a:off x="848304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Freeform 55"/>
                      <p:cNvSpPr/>
                      <p:nvPr/>
                    </p:nvSpPr>
                    <p:spPr>
                      <a:xfrm>
                        <a:off x="876096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0">
                            <a:moveTo>
                              <a:pt x="0" y="0"/>
                            </a:moveTo>
                            <a:lnTo>
                              <a:pt x="278002" y="0"/>
                            </a:lnTo>
                            <a:lnTo>
                              <a:pt x="278002"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75" name="Group 59"/>
                    <p:cNvGrpSpPr/>
                    <p:nvPr/>
                  </p:nvGrpSpPr>
                  <p:grpSpPr>
                    <a:xfrm>
                      <a:off x="9038880" y="568080"/>
                      <a:ext cx="555840" cy="265320"/>
                      <a:chOff x="9038880" y="568080"/>
                      <a:chExt cx="555840" cy="265320"/>
                    </a:xfrm>
                  </p:grpSpPr>
                  <p:sp>
                    <p:nvSpPr>
                      <p:cNvPr id="276" name="Freeform 57"/>
                      <p:cNvSpPr/>
                      <p:nvPr/>
                    </p:nvSpPr>
                    <p:spPr>
                      <a:xfrm>
                        <a:off x="903888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Freeform 58"/>
                      <p:cNvSpPr/>
                      <p:nvPr/>
                    </p:nvSpPr>
                    <p:spPr>
                      <a:xfrm>
                        <a:off x="931680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50">
                            <a:moveTo>
                              <a:pt x="0" y="0"/>
                            </a:moveTo>
                            <a:lnTo>
                              <a:pt x="278004" y="0"/>
                            </a:lnTo>
                            <a:lnTo>
                              <a:pt x="278004"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78" name="Group 68"/>
                <p:cNvGrpSpPr/>
                <p:nvPr/>
              </p:nvGrpSpPr>
              <p:grpSpPr>
                <a:xfrm>
                  <a:off x="8483040" y="827280"/>
                  <a:ext cx="1111680" cy="264960"/>
                  <a:chOff x="8483040" y="827280"/>
                  <a:chExt cx="1111680" cy="264960"/>
                </a:xfrm>
              </p:grpSpPr>
              <p:grpSp>
                <p:nvGrpSpPr>
                  <p:cNvPr id="279" name="Group 64"/>
                  <p:cNvGrpSpPr/>
                  <p:nvPr/>
                </p:nvGrpSpPr>
                <p:grpSpPr>
                  <a:xfrm>
                    <a:off x="8483040" y="827280"/>
                    <a:ext cx="555840" cy="264960"/>
                    <a:chOff x="8483040" y="827280"/>
                    <a:chExt cx="555840" cy="264960"/>
                  </a:xfrm>
                </p:grpSpPr>
                <p:sp>
                  <p:nvSpPr>
                    <p:cNvPr id="280" name="Freeform 62"/>
                    <p:cNvSpPr/>
                    <p:nvPr/>
                  </p:nvSpPr>
                  <p:spPr>
                    <a:xfrm>
                      <a:off x="848304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1" name="Freeform 63"/>
                    <p:cNvSpPr/>
                    <p:nvPr/>
                  </p:nvSpPr>
                  <p:spPr>
                    <a:xfrm>
                      <a:off x="876096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82" name="Group 67"/>
                  <p:cNvGrpSpPr/>
                  <p:nvPr/>
                </p:nvGrpSpPr>
                <p:grpSpPr>
                  <a:xfrm>
                    <a:off x="9038880" y="827280"/>
                    <a:ext cx="555840" cy="264960"/>
                    <a:chOff x="9038880" y="827280"/>
                    <a:chExt cx="555840" cy="264960"/>
                  </a:xfrm>
                </p:grpSpPr>
                <p:sp>
                  <p:nvSpPr>
                    <p:cNvPr id="283" name="Freeform 65"/>
                    <p:cNvSpPr/>
                    <p:nvPr/>
                  </p:nvSpPr>
                  <p:spPr>
                    <a:xfrm>
                      <a:off x="903888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4" name="Freeform 66"/>
                    <p:cNvSpPr/>
                    <p:nvPr/>
                  </p:nvSpPr>
                  <p:spPr>
                    <a:xfrm>
                      <a:off x="931680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nvGrpSpPr>
            <p:cNvPr id="285" name="Group 141"/>
            <p:cNvGrpSpPr/>
            <p:nvPr/>
          </p:nvGrpSpPr>
          <p:grpSpPr>
            <a:xfrm>
              <a:off x="6145200" y="1375200"/>
              <a:ext cx="3336120" cy="789120"/>
              <a:chOff x="6145200" y="1375200"/>
              <a:chExt cx="3336120" cy="789120"/>
            </a:xfrm>
          </p:grpSpPr>
          <p:grpSp>
            <p:nvGrpSpPr>
              <p:cNvPr id="286" name="Group 93"/>
              <p:cNvGrpSpPr/>
              <p:nvPr/>
            </p:nvGrpSpPr>
            <p:grpSpPr>
              <a:xfrm>
                <a:off x="6145200" y="1375200"/>
                <a:ext cx="1111680" cy="789120"/>
                <a:chOff x="6145200" y="1375200"/>
                <a:chExt cx="1111680" cy="789120"/>
              </a:xfrm>
            </p:grpSpPr>
            <p:grpSp>
              <p:nvGrpSpPr>
                <p:cNvPr id="287" name="Group 85"/>
                <p:cNvGrpSpPr/>
                <p:nvPr/>
              </p:nvGrpSpPr>
              <p:grpSpPr>
                <a:xfrm>
                  <a:off x="6145200" y="1375200"/>
                  <a:ext cx="1111680" cy="530280"/>
                  <a:chOff x="6145200" y="1375200"/>
                  <a:chExt cx="1111680" cy="530280"/>
                </a:xfrm>
              </p:grpSpPr>
              <p:grpSp>
                <p:nvGrpSpPr>
                  <p:cNvPr id="288" name="Group 77"/>
                  <p:cNvGrpSpPr/>
                  <p:nvPr/>
                </p:nvGrpSpPr>
                <p:grpSpPr>
                  <a:xfrm>
                    <a:off x="6145200" y="1375200"/>
                    <a:ext cx="1111680" cy="265320"/>
                    <a:chOff x="6145200" y="1375200"/>
                    <a:chExt cx="1111680" cy="265320"/>
                  </a:xfrm>
                </p:grpSpPr>
                <p:grpSp>
                  <p:nvGrpSpPr>
                    <p:cNvPr id="289" name="Group 73"/>
                    <p:cNvGrpSpPr/>
                    <p:nvPr/>
                  </p:nvGrpSpPr>
                  <p:grpSpPr>
                    <a:xfrm>
                      <a:off x="6145200" y="1375200"/>
                      <a:ext cx="555840" cy="265320"/>
                      <a:chOff x="6145200" y="1375200"/>
                      <a:chExt cx="555840" cy="265320"/>
                    </a:xfrm>
                  </p:grpSpPr>
                  <p:sp>
                    <p:nvSpPr>
                      <p:cNvPr id="290" name="Freeform 71"/>
                      <p:cNvSpPr/>
                      <p:nvPr/>
                    </p:nvSpPr>
                    <p:spPr>
                      <a:xfrm>
                        <a:off x="614520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Freeform 72"/>
                      <p:cNvSpPr/>
                      <p:nvPr/>
                    </p:nvSpPr>
                    <p:spPr>
                      <a:xfrm>
                        <a:off x="642312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92" name="Group 76"/>
                    <p:cNvGrpSpPr/>
                    <p:nvPr/>
                  </p:nvGrpSpPr>
                  <p:grpSpPr>
                    <a:xfrm>
                      <a:off x="6701040" y="1375200"/>
                      <a:ext cx="555840" cy="265320"/>
                      <a:chOff x="6701040" y="1375200"/>
                      <a:chExt cx="555840" cy="265320"/>
                    </a:xfrm>
                  </p:grpSpPr>
                  <p:sp>
                    <p:nvSpPr>
                      <p:cNvPr id="293" name="Freeform 74"/>
                      <p:cNvSpPr/>
                      <p:nvPr/>
                    </p:nvSpPr>
                    <p:spPr>
                      <a:xfrm>
                        <a:off x="6701040" y="137520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5" h="265051">
                            <a:moveTo>
                              <a:pt x="0" y="0"/>
                            </a:moveTo>
                            <a:lnTo>
                              <a:pt x="278004" y="0"/>
                            </a:lnTo>
                            <a:lnTo>
                              <a:pt x="278004"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Freeform 75"/>
                      <p:cNvSpPr/>
                      <p:nvPr/>
                    </p:nvSpPr>
                    <p:spPr>
                      <a:xfrm>
                        <a:off x="697896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95" name="Group 84"/>
                  <p:cNvGrpSpPr/>
                  <p:nvPr/>
                </p:nvGrpSpPr>
                <p:grpSpPr>
                  <a:xfrm>
                    <a:off x="6145200" y="1640520"/>
                    <a:ext cx="1111680" cy="264960"/>
                    <a:chOff x="6145200" y="1640520"/>
                    <a:chExt cx="1111680" cy="264960"/>
                  </a:xfrm>
                </p:grpSpPr>
                <p:grpSp>
                  <p:nvGrpSpPr>
                    <p:cNvPr id="296" name="Group 80"/>
                    <p:cNvGrpSpPr/>
                    <p:nvPr/>
                  </p:nvGrpSpPr>
                  <p:grpSpPr>
                    <a:xfrm>
                      <a:off x="6145200" y="1640520"/>
                      <a:ext cx="555840" cy="264960"/>
                      <a:chOff x="6145200" y="1640520"/>
                      <a:chExt cx="555840" cy="264960"/>
                    </a:xfrm>
                  </p:grpSpPr>
                  <p:sp>
                    <p:nvSpPr>
                      <p:cNvPr id="297" name="Freeform 78"/>
                      <p:cNvSpPr/>
                      <p:nvPr/>
                    </p:nvSpPr>
                    <p:spPr>
                      <a:xfrm>
                        <a:off x="614520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8" name="Freeform 79"/>
                      <p:cNvSpPr/>
                      <p:nvPr/>
                    </p:nvSpPr>
                    <p:spPr>
                      <a:xfrm>
                        <a:off x="642312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99" name="Group 83"/>
                    <p:cNvGrpSpPr/>
                    <p:nvPr/>
                  </p:nvGrpSpPr>
                  <p:grpSpPr>
                    <a:xfrm>
                      <a:off x="6701040" y="1640520"/>
                      <a:ext cx="555840" cy="264960"/>
                      <a:chOff x="6701040" y="1640520"/>
                      <a:chExt cx="555840" cy="264960"/>
                    </a:xfrm>
                  </p:grpSpPr>
                  <p:sp>
                    <p:nvSpPr>
                      <p:cNvPr id="300" name="Freeform 81"/>
                      <p:cNvSpPr/>
                      <p:nvPr/>
                    </p:nvSpPr>
                    <p:spPr>
                      <a:xfrm>
                        <a:off x="6701040" y="164052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1" name="Freeform 82"/>
                      <p:cNvSpPr/>
                      <p:nvPr/>
                    </p:nvSpPr>
                    <p:spPr>
                      <a:xfrm>
                        <a:off x="697896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02" name="Group 92"/>
                <p:cNvGrpSpPr/>
                <p:nvPr/>
              </p:nvGrpSpPr>
              <p:grpSpPr>
                <a:xfrm>
                  <a:off x="6145200" y="1899360"/>
                  <a:ext cx="1111680" cy="264960"/>
                  <a:chOff x="6145200" y="1899360"/>
                  <a:chExt cx="1111680" cy="264960"/>
                </a:xfrm>
              </p:grpSpPr>
              <p:grpSp>
                <p:nvGrpSpPr>
                  <p:cNvPr id="303" name="Group 88"/>
                  <p:cNvGrpSpPr/>
                  <p:nvPr/>
                </p:nvGrpSpPr>
                <p:grpSpPr>
                  <a:xfrm>
                    <a:off x="6145200" y="1899360"/>
                    <a:ext cx="555840" cy="264960"/>
                    <a:chOff x="6145200" y="1899360"/>
                    <a:chExt cx="555840" cy="264960"/>
                  </a:xfrm>
                </p:grpSpPr>
                <p:sp>
                  <p:nvSpPr>
                    <p:cNvPr id="304" name="Freeform 86"/>
                    <p:cNvSpPr/>
                    <p:nvPr/>
                  </p:nvSpPr>
                  <p:spPr>
                    <a:xfrm>
                      <a:off x="614520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Freeform 87"/>
                    <p:cNvSpPr/>
                    <p:nvPr/>
                  </p:nvSpPr>
                  <p:spPr>
                    <a:xfrm>
                      <a:off x="642312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06" name="Group 91"/>
                  <p:cNvGrpSpPr/>
                  <p:nvPr/>
                </p:nvGrpSpPr>
                <p:grpSpPr>
                  <a:xfrm>
                    <a:off x="6701040" y="1899360"/>
                    <a:ext cx="555840" cy="264960"/>
                    <a:chOff x="6701040" y="1899360"/>
                    <a:chExt cx="555840" cy="264960"/>
                  </a:xfrm>
                </p:grpSpPr>
                <p:sp>
                  <p:nvSpPr>
                    <p:cNvPr id="307" name="Freeform 89"/>
                    <p:cNvSpPr/>
                    <p:nvPr/>
                  </p:nvSpPr>
                  <p:spPr>
                    <a:xfrm>
                      <a:off x="6701040" y="189936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5" h="265051">
                          <a:moveTo>
                            <a:pt x="0" y="0"/>
                          </a:moveTo>
                          <a:lnTo>
                            <a:pt x="278004" y="0"/>
                          </a:lnTo>
                          <a:lnTo>
                            <a:pt x="278004"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Freeform 90"/>
                    <p:cNvSpPr/>
                    <p:nvPr/>
                  </p:nvSpPr>
                  <p:spPr>
                    <a:xfrm>
                      <a:off x="697896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09" name="Group 140"/>
              <p:cNvGrpSpPr/>
              <p:nvPr/>
            </p:nvGrpSpPr>
            <p:grpSpPr>
              <a:xfrm>
                <a:off x="7257240" y="1375200"/>
                <a:ext cx="2224080" cy="789120"/>
                <a:chOff x="7257240" y="1375200"/>
                <a:chExt cx="2224080" cy="789120"/>
              </a:xfrm>
            </p:grpSpPr>
            <p:grpSp>
              <p:nvGrpSpPr>
                <p:cNvPr id="310" name="Group 116"/>
                <p:cNvGrpSpPr/>
                <p:nvPr/>
              </p:nvGrpSpPr>
              <p:grpSpPr>
                <a:xfrm>
                  <a:off x="7257240" y="1375200"/>
                  <a:ext cx="1112040" cy="789120"/>
                  <a:chOff x="7257240" y="1375200"/>
                  <a:chExt cx="1112040" cy="789120"/>
                </a:xfrm>
              </p:grpSpPr>
              <p:grpSp>
                <p:nvGrpSpPr>
                  <p:cNvPr id="311" name="Group 108"/>
                  <p:cNvGrpSpPr/>
                  <p:nvPr/>
                </p:nvGrpSpPr>
                <p:grpSpPr>
                  <a:xfrm>
                    <a:off x="7257240" y="1375200"/>
                    <a:ext cx="1112040" cy="530280"/>
                    <a:chOff x="7257240" y="1375200"/>
                    <a:chExt cx="1112040" cy="530280"/>
                  </a:xfrm>
                </p:grpSpPr>
                <p:grpSp>
                  <p:nvGrpSpPr>
                    <p:cNvPr id="312" name="Group 100"/>
                    <p:cNvGrpSpPr/>
                    <p:nvPr/>
                  </p:nvGrpSpPr>
                  <p:grpSpPr>
                    <a:xfrm>
                      <a:off x="7257240" y="1375200"/>
                      <a:ext cx="1112040" cy="265320"/>
                      <a:chOff x="7257240" y="1375200"/>
                      <a:chExt cx="1112040" cy="265320"/>
                    </a:xfrm>
                  </p:grpSpPr>
                  <p:grpSp>
                    <p:nvGrpSpPr>
                      <p:cNvPr id="313" name="Group 96"/>
                      <p:cNvGrpSpPr/>
                      <p:nvPr/>
                    </p:nvGrpSpPr>
                    <p:grpSpPr>
                      <a:xfrm>
                        <a:off x="7257240" y="1375200"/>
                        <a:ext cx="555840" cy="265320"/>
                        <a:chOff x="7257240" y="1375200"/>
                        <a:chExt cx="555840" cy="265320"/>
                      </a:xfrm>
                    </p:grpSpPr>
                    <p:sp>
                      <p:nvSpPr>
                        <p:cNvPr id="314" name="Freeform 94"/>
                        <p:cNvSpPr/>
                        <p:nvPr/>
                      </p:nvSpPr>
                      <p:spPr>
                        <a:xfrm>
                          <a:off x="725724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Freeform 95"/>
                        <p:cNvSpPr/>
                        <p:nvPr/>
                      </p:nvSpPr>
                      <p:spPr>
                        <a:xfrm>
                          <a:off x="753516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6" name="Group 99"/>
                      <p:cNvGrpSpPr/>
                      <p:nvPr/>
                    </p:nvGrpSpPr>
                    <p:grpSpPr>
                      <a:xfrm>
                        <a:off x="7813080" y="1375200"/>
                        <a:ext cx="556200" cy="265320"/>
                        <a:chOff x="7813080" y="1375200"/>
                        <a:chExt cx="556200" cy="265320"/>
                      </a:xfrm>
                    </p:grpSpPr>
                    <p:sp>
                      <p:nvSpPr>
                        <p:cNvPr id="317" name="Freeform 97"/>
                        <p:cNvSpPr/>
                        <p:nvPr/>
                      </p:nvSpPr>
                      <p:spPr>
                        <a:xfrm>
                          <a:off x="781308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Freeform 98"/>
                        <p:cNvSpPr/>
                        <p:nvPr/>
                      </p:nvSpPr>
                      <p:spPr>
                        <a:xfrm>
                          <a:off x="8091000" y="137520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5" h="265051">
                              <a:moveTo>
                                <a:pt x="0" y="0"/>
                              </a:moveTo>
                              <a:lnTo>
                                <a:pt x="278004" y="0"/>
                              </a:lnTo>
                              <a:lnTo>
                                <a:pt x="278004"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319" name="Group 107"/>
                    <p:cNvGrpSpPr/>
                    <p:nvPr/>
                  </p:nvGrpSpPr>
                  <p:grpSpPr>
                    <a:xfrm>
                      <a:off x="7257240" y="1640520"/>
                      <a:ext cx="1112040" cy="264960"/>
                      <a:chOff x="7257240" y="1640520"/>
                      <a:chExt cx="1112040" cy="264960"/>
                    </a:xfrm>
                  </p:grpSpPr>
                  <p:grpSp>
                    <p:nvGrpSpPr>
                      <p:cNvPr id="320" name="Group 103"/>
                      <p:cNvGrpSpPr/>
                      <p:nvPr/>
                    </p:nvGrpSpPr>
                    <p:grpSpPr>
                      <a:xfrm>
                        <a:off x="7257240" y="1640520"/>
                        <a:ext cx="555840" cy="264960"/>
                        <a:chOff x="7257240" y="1640520"/>
                        <a:chExt cx="555840" cy="264960"/>
                      </a:xfrm>
                    </p:grpSpPr>
                    <p:sp>
                      <p:nvSpPr>
                        <p:cNvPr id="321" name="Freeform 101"/>
                        <p:cNvSpPr/>
                        <p:nvPr/>
                      </p:nvSpPr>
                      <p:spPr>
                        <a:xfrm>
                          <a:off x="725724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2" name="Freeform 102"/>
                        <p:cNvSpPr/>
                        <p:nvPr/>
                      </p:nvSpPr>
                      <p:spPr>
                        <a:xfrm>
                          <a:off x="753516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3" name="Group 106"/>
                      <p:cNvGrpSpPr/>
                      <p:nvPr/>
                    </p:nvGrpSpPr>
                    <p:grpSpPr>
                      <a:xfrm>
                        <a:off x="7813080" y="1640520"/>
                        <a:ext cx="556200" cy="264960"/>
                        <a:chOff x="7813080" y="1640520"/>
                        <a:chExt cx="556200" cy="264960"/>
                      </a:xfrm>
                    </p:grpSpPr>
                    <p:sp>
                      <p:nvSpPr>
                        <p:cNvPr id="324" name="Freeform 104"/>
                        <p:cNvSpPr/>
                        <p:nvPr/>
                      </p:nvSpPr>
                      <p:spPr>
                        <a:xfrm>
                          <a:off x="781308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5" name="Freeform 105"/>
                        <p:cNvSpPr/>
                        <p:nvPr/>
                      </p:nvSpPr>
                      <p:spPr>
                        <a:xfrm>
                          <a:off x="8091000" y="164052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26" name="Group 115"/>
                  <p:cNvGrpSpPr/>
                  <p:nvPr/>
                </p:nvGrpSpPr>
                <p:grpSpPr>
                  <a:xfrm>
                    <a:off x="7257240" y="1899360"/>
                    <a:ext cx="1112040" cy="264960"/>
                    <a:chOff x="7257240" y="1899360"/>
                    <a:chExt cx="1112040" cy="264960"/>
                  </a:xfrm>
                </p:grpSpPr>
                <p:grpSp>
                  <p:nvGrpSpPr>
                    <p:cNvPr id="327" name="Group 111"/>
                    <p:cNvGrpSpPr/>
                    <p:nvPr/>
                  </p:nvGrpSpPr>
                  <p:grpSpPr>
                    <a:xfrm>
                      <a:off x="7257240" y="1899360"/>
                      <a:ext cx="555840" cy="264960"/>
                      <a:chOff x="7257240" y="1899360"/>
                      <a:chExt cx="555840" cy="264960"/>
                    </a:xfrm>
                  </p:grpSpPr>
                  <p:sp>
                    <p:nvSpPr>
                      <p:cNvPr id="328" name="Freeform 109"/>
                      <p:cNvSpPr/>
                      <p:nvPr/>
                    </p:nvSpPr>
                    <p:spPr>
                      <a:xfrm>
                        <a:off x="725724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9" name="Freeform 110"/>
                      <p:cNvSpPr/>
                      <p:nvPr/>
                    </p:nvSpPr>
                    <p:spPr>
                      <a:xfrm>
                        <a:off x="753516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30" name="Group 114"/>
                    <p:cNvGrpSpPr/>
                    <p:nvPr/>
                  </p:nvGrpSpPr>
                  <p:grpSpPr>
                    <a:xfrm>
                      <a:off x="7813080" y="1899360"/>
                      <a:ext cx="556200" cy="264960"/>
                      <a:chOff x="7813080" y="1899360"/>
                      <a:chExt cx="556200" cy="264960"/>
                    </a:xfrm>
                  </p:grpSpPr>
                  <p:sp>
                    <p:nvSpPr>
                      <p:cNvPr id="331" name="Freeform 112"/>
                      <p:cNvSpPr/>
                      <p:nvPr/>
                    </p:nvSpPr>
                    <p:spPr>
                      <a:xfrm>
                        <a:off x="7813080" y="189936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Freeform 113"/>
                      <p:cNvSpPr/>
                      <p:nvPr/>
                    </p:nvSpPr>
                    <p:spPr>
                      <a:xfrm>
                        <a:off x="809136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8" h="265051">
                            <a:moveTo>
                              <a:pt x="0" y="0"/>
                            </a:moveTo>
                            <a:lnTo>
                              <a:pt x="277877" y="0"/>
                            </a:lnTo>
                            <a:lnTo>
                              <a:pt x="277877"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33" name="Group 139"/>
                <p:cNvGrpSpPr/>
                <p:nvPr/>
              </p:nvGrpSpPr>
              <p:grpSpPr>
                <a:xfrm>
                  <a:off x="8369280" y="1375200"/>
                  <a:ext cx="1112040" cy="789120"/>
                  <a:chOff x="8369280" y="1375200"/>
                  <a:chExt cx="1112040" cy="789120"/>
                </a:xfrm>
              </p:grpSpPr>
              <p:grpSp>
                <p:nvGrpSpPr>
                  <p:cNvPr id="334" name="Group 131"/>
                  <p:cNvGrpSpPr/>
                  <p:nvPr/>
                </p:nvGrpSpPr>
                <p:grpSpPr>
                  <a:xfrm>
                    <a:off x="8369280" y="1375200"/>
                    <a:ext cx="1112040" cy="530280"/>
                    <a:chOff x="8369280" y="1375200"/>
                    <a:chExt cx="1112040" cy="530280"/>
                  </a:xfrm>
                </p:grpSpPr>
                <p:grpSp>
                  <p:nvGrpSpPr>
                    <p:cNvPr id="335" name="Group 123"/>
                    <p:cNvGrpSpPr/>
                    <p:nvPr/>
                  </p:nvGrpSpPr>
                  <p:grpSpPr>
                    <a:xfrm>
                      <a:off x="8369280" y="1375200"/>
                      <a:ext cx="1112040" cy="265320"/>
                      <a:chOff x="8369280" y="1375200"/>
                      <a:chExt cx="1112040" cy="265320"/>
                    </a:xfrm>
                  </p:grpSpPr>
                  <p:grpSp>
                    <p:nvGrpSpPr>
                      <p:cNvPr id="336" name="Group 119"/>
                      <p:cNvGrpSpPr/>
                      <p:nvPr/>
                    </p:nvGrpSpPr>
                    <p:grpSpPr>
                      <a:xfrm>
                        <a:off x="8369280" y="1375200"/>
                        <a:ext cx="555840" cy="265320"/>
                        <a:chOff x="8369280" y="1375200"/>
                        <a:chExt cx="555840" cy="265320"/>
                      </a:xfrm>
                    </p:grpSpPr>
                    <p:sp>
                      <p:nvSpPr>
                        <p:cNvPr id="337" name="Freeform 117"/>
                        <p:cNvSpPr/>
                        <p:nvPr/>
                      </p:nvSpPr>
                      <p:spPr>
                        <a:xfrm>
                          <a:off x="836928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Freeform 118"/>
                        <p:cNvSpPr/>
                        <p:nvPr/>
                      </p:nvSpPr>
                      <p:spPr>
                        <a:xfrm>
                          <a:off x="864720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39" name="Group 122"/>
                      <p:cNvGrpSpPr/>
                      <p:nvPr/>
                    </p:nvGrpSpPr>
                    <p:grpSpPr>
                      <a:xfrm>
                        <a:off x="8925120" y="1375200"/>
                        <a:ext cx="556200" cy="265320"/>
                        <a:chOff x="8925120" y="1375200"/>
                        <a:chExt cx="556200" cy="265320"/>
                      </a:xfrm>
                    </p:grpSpPr>
                    <p:sp>
                      <p:nvSpPr>
                        <p:cNvPr id="340" name="Freeform 120"/>
                        <p:cNvSpPr/>
                        <p:nvPr/>
                      </p:nvSpPr>
                      <p:spPr>
                        <a:xfrm>
                          <a:off x="892512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Freeform 121"/>
                        <p:cNvSpPr/>
                        <p:nvPr/>
                      </p:nvSpPr>
                      <p:spPr>
                        <a:xfrm>
                          <a:off x="9203040" y="137520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342" name="Group 130"/>
                    <p:cNvGrpSpPr/>
                    <p:nvPr/>
                  </p:nvGrpSpPr>
                  <p:grpSpPr>
                    <a:xfrm>
                      <a:off x="8369280" y="1640520"/>
                      <a:ext cx="1112040" cy="264960"/>
                      <a:chOff x="8369280" y="1640520"/>
                      <a:chExt cx="1112040" cy="264960"/>
                    </a:xfrm>
                  </p:grpSpPr>
                  <p:grpSp>
                    <p:nvGrpSpPr>
                      <p:cNvPr id="343" name="Group 126"/>
                      <p:cNvGrpSpPr/>
                      <p:nvPr/>
                    </p:nvGrpSpPr>
                    <p:grpSpPr>
                      <a:xfrm>
                        <a:off x="8369280" y="1640520"/>
                        <a:ext cx="555840" cy="264960"/>
                        <a:chOff x="8369280" y="1640520"/>
                        <a:chExt cx="555840" cy="264960"/>
                      </a:xfrm>
                    </p:grpSpPr>
                    <p:sp>
                      <p:nvSpPr>
                        <p:cNvPr id="344" name="Freeform 124"/>
                        <p:cNvSpPr/>
                        <p:nvPr/>
                      </p:nvSpPr>
                      <p:spPr>
                        <a:xfrm>
                          <a:off x="836928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Freeform 125"/>
                        <p:cNvSpPr/>
                        <p:nvPr/>
                      </p:nvSpPr>
                      <p:spPr>
                        <a:xfrm>
                          <a:off x="864720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46" name="Group 129"/>
                      <p:cNvGrpSpPr/>
                      <p:nvPr/>
                    </p:nvGrpSpPr>
                    <p:grpSpPr>
                      <a:xfrm>
                        <a:off x="8925120" y="1640520"/>
                        <a:ext cx="556200" cy="264960"/>
                        <a:chOff x="8925120" y="1640520"/>
                        <a:chExt cx="556200" cy="264960"/>
                      </a:xfrm>
                    </p:grpSpPr>
                    <p:sp>
                      <p:nvSpPr>
                        <p:cNvPr id="347" name="Freeform 127"/>
                        <p:cNvSpPr/>
                        <p:nvPr/>
                      </p:nvSpPr>
                      <p:spPr>
                        <a:xfrm>
                          <a:off x="892512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8" name="Freeform 128"/>
                        <p:cNvSpPr/>
                        <p:nvPr/>
                      </p:nvSpPr>
                      <p:spPr>
                        <a:xfrm>
                          <a:off x="9203040" y="164052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49" name="Group 138"/>
                  <p:cNvGrpSpPr/>
                  <p:nvPr/>
                </p:nvGrpSpPr>
                <p:grpSpPr>
                  <a:xfrm>
                    <a:off x="8369280" y="1899360"/>
                    <a:ext cx="1112040" cy="264960"/>
                    <a:chOff x="8369280" y="1899360"/>
                    <a:chExt cx="1112040" cy="264960"/>
                  </a:xfrm>
                </p:grpSpPr>
                <p:grpSp>
                  <p:nvGrpSpPr>
                    <p:cNvPr id="350" name="Group 134"/>
                    <p:cNvGrpSpPr/>
                    <p:nvPr/>
                  </p:nvGrpSpPr>
                  <p:grpSpPr>
                    <a:xfrm>
                      <a:off x="8369280" y="1899360"/>
                      <a:ext cx="555840" cy="264960"/>
                      <a:chOff x="8369280" y="1899360"/>
                      <a:chExt cx="555840" cy="264960"/>
                    </a:xfrm>
                  </p:grpSpPr>
                  <p:sp>
                    <p:nvSpPr>
                      <p:cNvPr id="351" name="Freeform 132"/>
                      <p:cNvSpPr/>
                      <p:nvPr/>
                    </p:nvSpPr>
                    <p:spPr>
                      <a:xfrm>
                        <a:off x="836928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2" name="Freeform 133"/>
                      <p:cNvSpPr/>
                      <p:nvPr/>
                    </p:nvSpPr>
                    <p:spPr>
                      <a:xfrm>
                        <a:off x="864720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53" name="Group 137"/>
                    <p:cNvGrpSpPr/>
                    <p:nvPr/>
                  </p:nvGrpSpPr>
                  <p:grpSpPr>
                    <a:xfrm>
                      <a:off x="8925120" y="1899360"/>
                      <a:ext cx="556200" cy="264960"/>
                      <a:chOff x="8925120" y="1899360"/>
                      <a:chExt cx="556200" cy="264960"/>
                    </a:xfrm>
                  </p:grpSpPr>
                  <p:sp>
                    <p:nvSpPr>
                      <p:cNvPr id="354" name="Freeform 135"/>
                      <p:cNvSpPr/>
                      <p:nvPr/>
                    </p:nvSpPr>
                    <p:spPr>
                      <a:xfrm>
                        <a:off x="892512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5" name="Freeform 136"/>
                      <p:cNvSpPr/>
                      <p:nvPr/>
                    </p:nvSpPr>
                    <p:spPr>
                      <a:xfrm>
                        <a:off x="9203040" y="189936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sp>
          <p:nvSpPr>
            <p:cNvPr id="356" name="TextBox 142"/>
            <p:cNvSpPr/>
            <p:nvPr/>
          </p:nvSpPr>
          <p:spPr>
            <a:xfrm>
              <a:off x="6121440" y="11167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mic Sans MS - 16"/>
                </a:rPr>
                <a:t>Design 1</a:t>
              </a:r>
              <a:endParaRPr b="0" lang="en-US" sz="800" spc="-1" strike="noStrike">
                <a:solidFill>
                  <a:srgbClr val="000000"/>
                </a:solidFill>
                <a:latin typeface="Calibri"/>
              </a:endParaRPr>
            </a:p>
          </p:txBody>
        </p:sp>
        <p:sp>
          <p:nvSpPr>
            <p:cNvPr id="357" name="TextBox 143"/>
            <p:cNvSpPr/>
            <p:nvPr/>
          </p:nvSpPr>
          <p:spPr>
            <a:xfrm>
              <a:off x="8230320" y="111672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Comic Sans MS - 16"/>
                </a:rPr>
                <a:t>Design 2</a:t>
              </a:r>
              <a:endParaRPr b="0" lang="en-US" sz="900" spc="-1" strike="noStrike">
                <a:solidFill>
                  <a:srgbClr val="000000"/>
                </a:solidFill>
                <a:latin typeface="Calibri"/>
              </a:endParaRPr>
            </a:p>
          </p:txBody>
        </p:sp>
        <p:sp>
          <p:nvSpPr>
            <p:cNvPr id="358" name="TextBox 144"/>
            <p:cNvSpPr/>
            <p:nvPr/>
          </p:nvSpPr>
          <p:spPr>
            <a:xfrm>
              <a:off x="7620480" y="219636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Comic Sans MS - 16"/>
                </a:rPr>
                <a:t>Design 3</a:t>
              </a:r>
              <a:endParaRPr b="0" lang="en-US" sz="900" spc="-1" strike="noStrike">
                <a:solidFill>
                  <a:srgbClr val="000000"/>
                </a:solidFill>
                <a:latin typeface="Calibri"/>
              </a:endParaRPr>
            </a:p>
          </p:txBody>
        </p:sp>
      </p:grpSp>
      <p:sp>
        <p:nvSpPr>
          <p:cNvPr id="359" name="TextBox 146"/>
          <p:cNvSpPr/>
          <p:nvPr/>
        </p:nvSpPr>
        <p:spPr>
          <a:xfrm>
            <a:off x="50760" y="216000"/>
            <a:ext cx="57150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Make a table showing the number of red and white tiles in the first five designs.  Describe the pattern.</a:t>
            </a:r>
            <a:endParaRPr b="0" lang="en-US" sz="2300" spc="-1" strike="noStrike">
              <a:solidFill>
                <a:srgbClr val="000000"/>
              </a:solidFill>
              <a:latin typeface="Calibri"/>
            </a:endParaRPr>
          </a:p>
        </p:txBody>
      </p:sp>
      <p:sp>
        <p:nvSpPr>
          <p:cNvPr id="360" name="TextBox 147"/>
          <p:cNvSpPr/>
          <p:nvPr/>
        </p:nvSpPr>
        <p:spPr>
          <a:xfrm>
            <a:off x="88920" y="3263760"/>
            <a:ext cx="962676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b) Choose a variable and tell what it represents.  Then use the variable to write an expression for the number of white til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How many white tiles will there be if there are 16 red tiles?</a:t>
            </a:r>
            <a:endParaRPr b="0" lang="en-US" sz="2300" spc="-1" strike="noStrike">
              <a:solidFill>
                <a:srgbClr val="000000"/>
              </a:solidFill>
              <a:latin typeface="Calibri"/>
            </a:endParaRPr>
          </a:p>
        </p:txBody>
      </p:sp>
      <p:graphicFrame>
        <p:nvGraphicFramePr>
          <p:cNvPr id="361" name=""/>
          <p:cNvGraphicFramePr/>
          <p:nvPr/>
        </p:nvGraphicFramePr>
        <p:xfrm>
          <a:off x="190440" y="1828800"/>
          <a:ext cx="5765760" cy="1015920"/>
        </p:xfrm>
        <a:graphic>
          <a:graphicData uri="http://schemas.openxmlformats.org/drawingml/2006/table">
            <a:tbl>
              <a:tblPr/>
              <a:tblGrid>
                <a:gridCol w="2362320"/>
                <a:gridCol w="876240"/>
                <a:gridCol w="863640"/>
                <a:gridCol w="825480"/>
                <a:gridCol w="8380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Red Til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hite Til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Box 1"/>
          <p:cNvSpPr/>
          <p:nvPr/>
        </p:nvSpPr>
        <p:spPr>
          <a:xfrm>
            <a:off x="241200" y="152280"/>
            <a:ext cx="7797960" cy="39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More 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V</a:t>
            </a:r>
            <a:r>
              <a:rPr b="0" lang="en-US" sz="2300" spc="-1" strike="noStrike" u="sng">
                <a:solidFill>
                  <a:srgbClr val="0000ff"/>
                </a:solidFill>
                <a:uFillTx/>
                <a:latin typeface="Comic Sans MS - 24"/>
              </a:rPr>
              <a:t>alue</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known or calculated amoun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Co</a:t>
            </a:r>
            <a:r>
              <a:rPr b="0" lang="en-US" sz="2300" spc="-1" strike="noStrike" u="sng">
                <a:solidFill>
                  <a:srgbClr val="0000ff"/>
                </a:solidFill>
                <a:uFillTx/>
                <a:latin typeface="Comic Sans MS - 24"/>
              </a:rPr>
              <a:t>nstant</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number that does not chang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increases or decreases the value of an express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Nu</a:t>
            </a:r>
            <a:r>
              <a:rPr b="0" lang="en-US" sz="2300" spc="-1" strike="noStrike" u="sng">
                <a:solidFill>
                  <a:srgbClr val="0000ff"/>
                </a:solidFill>
                <a:uFillTx/>
                <a:latin typeface="Comic Sans MS - 24"/>
              </a:rPr>
              <a:t>merical Coefficient</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number that multiplies the variable</a:t>
            </a:r>
            <a:endParaRPr b="0" lang="en-US" sz="2300" spc="-1" strike="noStrike">
              <a:solidFill>
                <a:srgbClr val="000000"/>
              </a:solidFill>
              <a:latin typeface="Calibri"/>
            </a:endParaRPr>
          </a:p>
        </p:txBody>
      </p:sp>
      <p:sp>
        <p:nvSpPr>
          <p:cNvPr id="363" name="TextBox 2"/>
          <p:cNvSpPr/>
          <p:nvPr/>
        </p:nvSpPr>
        <p:spPr>
          <a:xfrm>
            <a:off x="190440" y="5105520"/>
            <a:ext cx="977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hoosing Variab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You can choose any letter as a variable.  It can be helpful to choose a meaningful variable.  For example, </a:t>
            </a:r>
            <a:r>
              <a:rPr b="0" i="1" lang="en-CA" sz="2400" spc="-1" strike="noStrike">
                <a:solidFill>
                  <a:srgbClr val="0000ff"/>
                </a:solidFill>
                <a:latin typeface="Comic Sans MS - 24"/>
              </a:rPr>
              <a:t>c</a:t>
            </a:r>
            <a:r>
              <a:rPr b="0" lang="en-CA" sz="2400" spc="-1" strike="noStrike">
                <a:solidFill>
                  <a:srgbClr val="0000ff"/>
                </a:solidFill>
                <a:latin typeface="Comic Sans MS - 24"/>
              </a:rPr>
              <a:t> for cost, </a:t>
            </a:r>
            <a:r>
              <a:rPr b="0" i="1" lang="en-CA" sz="2400" spc="-1" strike="noStrike">
                <a:solidFill>
                  <a:srgbClr val="0000ff"/>
                </a:solidFill>
                <a:latin typeface="Comic Sans MS - 24"/>
              </a:rPr>
              <a:t>d</a:t>
            </a:r>
            <a:r>
              <a:rPr b="0" lang="en-CA" sz="2400" spc="-1" strike="noStrike">
                <a:solidFill>
                  <a:srgbClr val="0000ff"/>
                </a:solidFill>
                <a:latin typeface="Comic Sans MS - 24"/>
              </a:rPr>
              <a:t> for distance, and </a:t>
            </a:r>
            <a:r>
              <a:rPr b="0" i="1" lang="en-CA" sz="2400" spc="-1" strike="noStrike">
                <a:solidFill>
                  <a:srgbClr val="0000ff"/>
                </a:solidFill>
                <a:latin typeface="Comic Sans MS - 24"/>
              </a:rPr>
              <a:t>t</a:t>
            </a:r>
            <a:r>
              <a:rPr b="0" lang="en-CA" sz="2400" spc="-1" strike="noStrike">
                <a:solidFill>
                  <a:srgbClr val="0000ff"/>
                </a:solidFill>
                <a:latin typeface="Comic Sans MS - 24"/>
              </a:rPr>
              <a:t>  for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Box 1"/>
          <p:cNvSpPr/>
          <p:nvPr/>
        </p:nvSpPr>
        <p:spPr>
          <a:xfrm>
            <a:off x="228600" y="30492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omic Sans MS - 28"/>
              </a:rPr>
              <a:t>Ex 2: Describe Patterns Using Expressions</a:t>
            </a:r>
            <a:endParaRPr b="0" lang="en-US" sz="2800" spc="-1" strike="noStrike">
              <a:solidFill>
                <a:srgbClr val="000000"/>
              </a:solidFill>
              <a:latin typeface="Calibri"/>
            </a:endParaRPr>
          </a:p>
        </p:txBody>
      </p:sp>
      <p:sp>
        <p:nvSpPr>
          <p:cNvPr id="365" name="TextBox 2"/>
          <p:cNvSpPr/>
          <p:nvPr/>
        </p:nvSpPr>
        <p:spPr>
          <a:xfrm>
            <a:off x="355680" y="1079640"/>
            <a:ext cx="944856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Three employees work at the food bank.  Every day, some volunteers arrive to help out.  What is an expression for the number of people working at the food bank?  What is the </a:t>
            </a:r>
            <a:r>
              <a:rPr b="1" lang="en-CA" sz="2300" spc="-1" strike="noStrike">
                <a:solidFill>
                  <a:srgbClr val="0000ff"/>
                </a:solidFill>
                <a:latin typeface="Comic Sans MS - 24"/>
              </a:rPr>
              <a:t>value</a:t>
            </a:r>
            <a:r>
              <a:rPr b="0" lang="en-CA" sz="2300" spc="-1" strike="noStrike">
                <a:solidFill>
                  <a:srgbClr val="0000ff"/>
                </a:solidFill>
                <a:latin typeface="Comic Sans MS - 24"/>
              </a:rPr>
              <a:t> of the </a:t>
            </a:r>
            <a:r>
              <a:rPr b="1" lang="en-CA" sz="2300" spc="-1" strike="noStrike">
                <a:solidFill>
                  <a:srgbClr val="0000ff"/>
                </a:solidFill>
                <a:latin typeface="Comic Sans MS - 24"/>
              </a:rPr>
              <a:t>constant</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366" name="Picture 3" descr="women-workers-cooperative-hong-kong-china-rog-r90p[1].jpg"/>
          <p:cNvPicPr/>
          <p:nvPr/>
        </p:nvPicPr>
        <p:blipFill>
          <a:blip r:embed="rId1">
            <a:alphaModFix amt="0"/>
          </a:blip>
          <a:stretch/>
        </p:blipFill>
        <p:spPr>
          <a:xfrm>
            <a:off x="6178680" y="2838600"/>
            <a:ext cx="3765600" cy="3744720"/>
          </a:xfrm>
          <a:prstGeom prst="rect">
            <a:avLst/>
          </a:prstGeom>
          <a:ln w="0">
            <a:noFill/>
          </a:ln>
        </p:spPr>
      </p:pic>
      <p:sp>
        <p:nvSpPr>
          <p:cNvPr id="367" name="TextBox 4"/>
          <p:cNvSpPr/>
          <p:nvPr/>
        </p:nvSpPr>
        <p:spPr>
          <a:xfrm>
            <a:off x="343080" y="342900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343080" y="380880"/>
            <a:ext cx="947412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b) Simon creates this pattern of toothpick triangles.  What is an expression for the perimeter of any triangle in this pattern in relation to the base?  What is the value of the </a:t>
            </a:r>
            <a:r>
              <a:rPr b="1" lang="en-CA" sz="2300" spc="-1" strike="noStrike">
                <a:solidFill>
                  <a:srgbClr val="0000ff"/>
                </a:solidFill>
                <a:latin typeface="Comic Sans MS - 24"/>
              </a:rPr>
              <a:t>numerical coefficient</a:t>
            </a:r>
            <a:r>
              <a:rPr b="0" lang="en-CA" sz="2300" spc="-1" strike="noStrike">
                <a:solidFill>
                  <a:srgbClr val="0000ff"/>
                </a:solidFill>
                <a:latin typeface="Comic Sans MS - 24"/>
              </a:rPr>
              <a:t>?</a:t>
            </a:r>
            <a:endParaRPr b="0" lang="en-US" sz="2300" spc="-1" strike="noStrike">
              <a:solidFill>
                <a:srgbClr val="000000"/>
              </a:solidFill>
              <a:latin typeface="Calibri"/>
            </a:endParaRPr>
          </a:p>
        </p:txBody>
      </p:sp>
      <p:grpSp>
        <p:nvGrpSpPr>
          <p:cNvPr id="369" name="Group 5"/>
          <p:cNvGrpSpPr/>
          <p:nvPr/>
        </p:nvGrpSpPr>
        <p:grpSpPr>
          <a:xfrm>
            <a:off x="240840" y="3289320"/>
            <a:ext cx="1371960" cy="1041480"/>
            <a:chOff x="240840" y="3289320"/>
            <a:chExt cx="1371960" cy="1041480"/>
          </a:xfrm>
        </p:grpSpPr>
        <p:sp>
          <p:nvSpPr>
            <p:cNvPr id="370" name="Straight Connector 2"/>
            <p:cNvSpPr/>
            <p:nvPr/>
          </p:nvSpPr>
          <p:spPr>
            <a:xfrm flipH="1">
              <a:off x="240840" y="3289320"/>
              <a:ext cx="609480" cy="8766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Straight Connector 3"/>
            <p:cNvSpPr/>
            <p:nvPr/>
          </p:nvSpPr>
          <p:spPr>
            <a:xfrm>
              <a:off x="1041480" y="3289320"/>
              <a:ext cx="571320" cy="8892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Straight Connector 4"/>
            <p:cNvSpPr/>
            <p:nvPr/>
          </p:nvSpPr>
          <p:spPr>
            <a:xfrm>
              <a:off x="419040" y="433080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3" name="Group 12"/>
          <p:cNvGrpSpPr/>
          <p:nvPr/>
        </p:nvGrpSpPr>
        <p:grpSpPr>
          <a:xfrm>
            <a:off x="2704680" y="2400480"/>
            <a:ext cx="2858040" cy="2095200"/>
            <a:chOff x="2704680" y="2400480"/>
            <a:chExt cx="2858040" cy="2095200"/>
          </a:xfrm>
        </p:grpSpPr>
        <p:sp>
          <p:nvSpPr>
            <p:cNvPr id="374" name="Straight Connector 6"/>
            <p:cNvSpPr/>
            <p:nvPr/>
          </p:nvSpPr>
          <p:spPr>
            <a:xfrm flipH="1">
              <a:off x="3504600" y="2400480"/>
              <a:ext cx="60948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Straight Connector 7"/>
            <p:cNvSpPr/>
            <p:nvPr/>
          </p:nvSpPr>
          <p:spPr>
            <a:xfrm>
              <a:off x="4305240" y="2400480"/>
              <a:ext cx="57132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Straight Connector 8"/>
            <p:cNvSpPr/>
            <p:nvPr/>
          </p:nvSpPr>
          <p:spPr>
            <a:xfrm>
              <a:off x="4280040" y="449568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Straight Connector 9"/>
            <p:cNvSpPr/>
            <p:nvPr/>
          </p:nvSpPr>
          <p:spPr>
            <a:xfrm>
              <a:off x="4991400" y="3467160"/>
              <a:ext cx="57132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Straight Connector 10"/>
            <p:cNvSpPr/>
            <p:nvPr/>
          </p:nvSpPr>
          <p:spPr>
            <a:xfrm flipH="1">
              <a:off x="2704680" y="3505320"/>
              <a:ext cx="60948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Straight Connector 11"/>
            <p:cNvSpPr/>
            <p:nvPr/>
          </p:nvSpPr>
          <p:spPr>
            <a:xfrm>
              <a:off x="2933640" y="449568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0" name="Straight Connector 13"/>
          <p:cNvSpPr/>
          <p:nvPr/>
        </p:nvSpPr>
        <p:spPr>
          <a:xfrm flipH="1">
            <a:off x="7124400" y="2235240"/>
            <a:ext cx="60948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Straight Connector 14"/>
          <p:cNvSpPr/>
          <p:nvPr/>
        </p:nvSpPr>
        <p:spPr>
          <a:xfrm>
            <a:off x="7924680" y="2235240"/>
            <a:ext cx="57168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Straight Connector 15"/>
          <p:cNvSpPr/>
          <p:nvPr/>
        </p:nvSpPr>
        <p:spPr>
          <a:xfrm>
            <a:off x="8572680" y="5283360"/>
            <a:ext cx="109188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Straight Connector 16"/>
          <p:cNvSpPr/>
          <p:nvPr/>
        </p:nvSpPr>
        <p:spPr>
          <a:xfrm>
            <a:off x="8610480" y="3301920"/>
            <a:ext cx="571680" cy="8892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Straight Connector 17"/>
          <p:cNvSpPr/>
          <p:nvPr/>
        </p:nvSpPr>
        <p:spPr>
          <a:xfrm flipH="1">
            <a:off x="6324480" y="3340080"/>
            <a:ext cx="60984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Straight Connector 18"/>
          <p:cNvSpPr/>
          <p:nvPr/>
        </p:nvSpPr>
        <p:spPr>
          <a:xfrm>
            <a:off x="7289640" y="528336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Straight Connector 19"/>
          <p:cNvSpPr/>
          <p:nvPr/>
        </p:nvSpPr>
        <p:spPr>
          <a:xfrm flipH="1">
            <a:off x="5600520" y="4406760"/>
            <a:ext cx="609480" cy="8766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Straight Connector 20"/>
          <p:cNvSpPr/>
          <p:nvPr/>
        </p:nvSpPr>
        <p:spPr>
          <a:xfrm>
            <a:off x="9309240" y="4381560"/>
            <a:ext cx="57132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Straight Connector 21"/>
          <p:cNvSpPr/>
          <p:nvPr/>
        </p:nvSpPr>
        <p:spPr>
          <a:xfrm>
            <a:off x="5880240" y="529596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TextBox 22"/>
          <p:cNvSpPr/>
          <p:nvPr/>
        </p:nvSpPr>
        <p:spPr>
          <a:xfrm>
            <a:off x="216000" y="461016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Box 1"/>
          <p:cNvSpPr/>
          <p:nvPr/>
        </p:nvSpPr>
        <p:spPr>
          <a:xfrm>
            <a:off x="355680" y="812880"/>
            <a:ext cx="9499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Theresa is sharing some grapes equally among her 4 friends.  What is an expression for the number of grapes each friend gets?</a:t>
            </a:r>
            <a:endParaRPr b="0" lang="en-US" sz="2300" spc="-1" strike="noStrike">
              <a:solidFill>
                <a:srgbClr val="000000"/>
              </a:solidFill>
              <a:latin typeface="Calibri"/>
            </a:endParaRPr>
          </a:p>
        </p:txBody>
      </p:sp>
      <p:pic>
        <p:nvPicPr>
          <p:cNvPr id="391" name="Picture 2" descr="Grapes[1].gif"/>
          <p:cNvPicPr/>
          <p:nvPr/>
        </p:nvPicPr>
        <p:blipFill>
          <a:blip r:embed="rId1">
            <a:alphaModFix amt="0"/>
          </a:blip>
          <a:stretch/>
        </p:blipFill>
        <p:spPr>
          <a:xfrm>
            <a:off x="444600" y="2273400"/>
            <a:ext cx="2705040" cy="3816360"/>
          </a:xfrm>
          <a:prstGeom prst="rect">
            <a:avLst/>
          </a:prstGeom>
          <a:ln w="0">
            <a:noFill/>
          </a:ln>
        </p:spPr>
      </p:pic>
      <p:sp>
        <p:nvSpPr>
          <p:cNvPr id="392" name="TextBox 3"/>
          <p:cNvSpPr/>
          <p:nvPr/>
        </p:nvSpPr>
        <p:spPr>
          <a:xfrm>
            <a:off x="3708360" y="271764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Box 1"/>
          <p:cNvSpPr/>
          <p:nvPr/>
        </p:nvSpPr>
        <p:spPr>
          <a:xfrm>
            <a:off x="139680" y="177840"/>
            <a:ext cx="9956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 36"/>
              </a:rPr>
              <a:t>Key Idea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 36"/>
              </a:rPr>
              <a:t>·</a:t>
            </a:r>
            <a:r>
              <a:rPr b="0" lang="en-CA" sz="2400" spc="-1" strike="noStrike">
                <a:solidFill>
                  <a:srgbClr val="0000ff"/>
                </a:solidFill>
                <a:latin typeface="Comic Sans MS - 24"/>
              </a:rPr>
              <a:t>An expression gives you a simple, quick way to describe a patter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3</a:t>
            </a:r>
            <a:r>
              <a:rPr b="0" i="1" lang="en-US" sz="2400" spc="-1" strike="noStrike">
                <a:solidFill>
                  <a:srgbClr val="0000ff"/>
                </a:solidFill>
                <a:latin typeface="Comic Sans MS - 24"/>
              </a:rPr>
              <a:t>f</a:t>
            </a:r>
            <a:r>
              <a:rPr b="0" i="1" lang="en-US" sz="2400" spc="-1" strike="noStrike">
                <a:solidFill>
                  <a:srgbClr val="0000ff"/>
                </a:solidFill>
                <a:latin typeface="Comic Sans MS - 24"/>
              </a:rPr>
              <a:t>	</a:t>
            </a:r>
            <a:r>
              <a:rPr b="0" i="1" lang="en-US" sz="2400" spc="-1" strike="noStrike">
                <a:solidFill>
                  <a:srgbClr val="0000ff"/>
                </a:solidFill>
                <a:latin typeface="Comic Sans MS - 24"/>
              </a:rPr>
              <a:t>	</a:t>
            </a:r>
            <a:r>
              <a:rPr b="0" i="1" lang="en-US" sz="2400" spc="-1" strike="noStrike">
                <a:solidFill>
                  <a:srgbClr val="0000ff"/>
                </a:solidFill>
                <a:latin typeface="Comic Sans MS - 24"/>
              </a:rPr>
              <a:t>n</a:t>
            </a:r>
            <a:r>
              <a:rPr b="0" lang="en-US" sz="2400" spc="-1" strike="noStrike">
                <a:solidFill>
                  <a:srgbClr val="0000ff"/>
                </a:solidFill>
                <a:latin typeface="Comic Sans MS - 24"/>
              </a:rPr>
              <a:t> + 1</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ny letter can be used  as a variable to represent a number or amou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To write a pattern as an expression:</a:t>
            </a:r>
            <a:endParaRPr b="0" lang="en-US" sz="2400" spc="-1" strike="noStrike">
              <a:solidFill>
                <a:srgbClr val="000000"/>
              </a:solidFill>
              <a:latin typeface="Calibri"/>
            </a:endParaRPr>
          </a:p>
        </p:txBody>
      </p:sp>
      <p:sp>
        <p:nvSpPr>
          <p:cNvPr id="394" name="Straight Connector 2"/>
          <p:cNvSpPr/>
          <p:nvPr/>
        </p:nvSpPr>
        <p:spPr>
          <a:xfrm flipV="1">
            <a:off x="1663560" y="2095560"/>
            <a:ext cx="304920" cy="3556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3"/>
          <p:cNvSpPr/>
          <p:nvPr/>
        </p:nvSpPr>
        <p:spPr>
          <a:xfrm flipH="1" flipV="1">
            <a:off x="2425680" y="2057400"/>
            <a:ext cx="520560" cy="31752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Straight Connector 4"/>
          <p:cNvSpPr/>
          <p:nvPr/>
        </p:nvSpPr>
        <p:spPr>
          <a:xfrm flipV="1">
            <a:off x="2959200" y="2082600"/>
            <a:ext cx="266760" cy="29196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Straight Connector 5"/>
          <p:cNvSpPr/>
          <p:nvPr/>
        </p:nvSpPr>
        <p:spPr>
          <a:xfrm flipH="1" flipV="1">
            <a:off x="3936960" y="2120760"/>
            <a:ext cx="355680" cy="3556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TextBox 6"/>
          <p:cNvSpPr/>
          <p:nvPr/>
        </p:nvSpPr>
        <p:spPr>
          <a:xfrm>
            <a:off x="127080" y="25020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numerical coefficient</a:t>
            </a:r>
            <a:endParaRPr b="0" lang="en-US" sz="1600" spc="-1" strike="noStrike">
              <a:solidFill>
                <a:srgbClr val="000000"/>
              </a:solidFill>
              <a:latin typeface="Calibri"/>
            </a:endParaRPr>
          </a:p>
        </p:txBody>
      </p:sp>
      <p:sp>
        <p:nvSpPr>
          <p:cNvPr id="399" name="TextBox 7"/>
          <p:cNvSpPr/>
          <p:nvPr/>
        </p:nvSpPr>
        <p:spPr>
          <a:xfrm>
            <a:off x="2527200" y="24004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variable</a:t>
            </a:r>
            <a:endParaRPr b="0" lang="en-US" sz="1600" spc="-1" strike="noStrike">
              <a:solidFill>
                <a:srgbClr val="000000"/>
              </a:solidFill>
              <a:latin typeface="Calibri"/>
            </a:endParaRPr>
          </a:p>
        </p:txBody>
      </p:sp>
      <p:sp>
        <p:nvSpPr>
          <p:cNvPr id="400" name="TextBox 8"/>
          <p:cNvSpPr/>
          <p:nvPr/>
        </p:nvSpPr>
        <p:spPr>
          <a:xfrm>
            <a:off x="3924360" y="2489040"/>
            <a:ext cx="11174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constant</a:t>
            </a:r>
            <a:endParaRPr b="0" lang="en-US" sz="1500" spc="-1" strike="noStrike">
              <a:solidFill>
                <a:srgbClr val="000000"/>
              </a:solidFill>
              <a:latin typeface="Calibri"/>
            </a:endParaRPr>
          </a:p>
        </p:txBody>
      </p:sp>
      <p:sp>
        <p:nvSpPr>
          <p:cNvPr id="401" name="TextBox 9"/>
          <p:cNvSpPr/>
          <p:nvPr/>
        </p:nvSpPr>
        <p:spPr>
          <a:xfrm>
            <a:off x="495360" y="4292640"/>
            <a:ext cx="960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 24"/>
              </a:rPr>
              <a:t>·</a:t>
            </a:r>
            <a:r>
              <a:rPr b="0" lang="en-CA" sz="2400" spc="-1" strike="noStrike">
                <a:solidFill>
                  <a:srgbClr val="0000ff"/>
                </a:solidFill>
                <a:latin typeface="Comic Sans MS - 24"/>
              </a:rPr>
              <a:t>choose a variable and tell what it repres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describe the pattern using the variable, numbers, and operations</a:t>
            </a:r>
            <a:endParaRPr b="0" lang="en-US" sz="2400" spc="-1" strike="noStrike">
              <a:solidFill>
                <a:srgbClr val="000000"/>
              </a:solidFill>
              <a:latin typeface="Calibri"/>
            </a:endParaRPr>
          </a:p>
        </p:txBody>
      </p:sp>
      <p:sp>
        <p:nvSpPr>
          <p:cNvPr id="402" name="TextBox 10"/>
          <p:cNvSpPr/>
          <p:nvPr/>
        </p:nvSpPr>
        <p:spPr>
          <a:xfrm>
            <a:off x="5778360" y="14860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ra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Box 1"/>
          <p:cNvSpPr/>
          <p:nvPr/>
        </p:nvSpPr>
        <p:spPr>
          <a:xfrm>
            <a:off x="266760" y="216000"/>
            <a:ext cx="5715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ff"/>
                </a:solidFill>
                <a:uFillTx/>
                <a:latin typeface="Comic Sans MS - 36"/>
              </a:rPr>
              <a:t>Assignment</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u="sng">
                <a:solidFill>
                  <a:srgbClr val="0000ff"/>
                </a:solidFill>
                <a:uFillTx/>
                <a:latin typeface="Comic Sans MS - 36"/>
              </a:rPr>
              <a:t>p</a:t>
            </a:r>
            <a:r>
              <a:rPr b="0" lang="en-CA" sz="2300" spc="-1" strike="noStrike">
                <a:solidFill>
                  <a:srgbClr val="0000ff"/>
                </a:solidFill>
                <a:latin typeface="Comic Sans MS - 24"/>
              </a:rPr>
              <a:t>. 361, #1-4, 6, 8, 9, 11, 12, MathLink</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Still good? #13, 15, 16</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Pro Star? #14, 17-19</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06:15Z</dcterms:created>
  <dc:creator>fraser kerr</dc:creator>
  <dc:description/>
  <dc:language>en-US</dc:language>
  <cp:lastModifiedBy>fraser kerr</cp:lastModifiedBy>
  <dcterms:modified xsi:type="dcterms:W3CDTF">2010-06-16T17:06:35Z</dcterms:modified>
  <cp:revision>1</cp:revision>
  <dc:subject/>
  <dc:title>Slide 1</dc:title>
</cp:coreProperties>
</file>